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3.png" ContentType="image/png"/>
  <Override PartName="/ppt/media/image8.png" ContentType="image/png"/>
  <Override PartName="/ppt/media/image23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2.jpeg" ContentType="image/jpeg"/>
  <Override PartName="/ppt/media/image3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F5104-2207-4F94-928C-390EEBD0D67B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alibri"/>
              </a:rPr>
              <a:t>Wurde 2006 von einem Forscherteam entwickel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99D97-5B5B-4409-B9ED-2E62B87791B2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alibri"/>
              </a:rPr>
              <a:t>Ebene = 1. Zu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alibri"/>
              </a:rPr>
              <a:t>Ebene = 2. Zu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alibri"/>
              </a:rPr>
              <a:t>Ebene = 3. Zu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4E8F2-85E2-4404-A71F-CA0DA024A5D6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alibri"/>
              </a:rPr>
              <a:t>= eine Iter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96E2B-2FCA-4D7C-A265-595341702E3E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alibri"/>
              </a:rPr>
              <a:t>UCB berechnet Qualität eines Knoten.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60C15-51EE-4A44-9310-C44560F6AA80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FF672-E6F5-4658-9750-E5441AA09137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CAD22-92D6-4442-8B75-83FB7649AC3F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D69543-F367-4DDF-BE6B-8D01C0E982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91640" y="38581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A40657-94DB-462F-9D2E-B01B99A755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842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C05815-EB0D-4528-A6A5-F811A79895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9400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79636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9164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9400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79636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120815-D0BC-4874-8188-214CB320FA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863280" y="406080"/>
            <a:ext cx="588636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D21731-48A0-4092-B127-FF803A67C5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842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91640" y="38581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842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9400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79636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9164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9400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79636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A367C2-6F35-46BF-A75B-A2CFCED8CD7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59474E-AE48-4F8A-B7C2-054756E70DD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6E8364-BC07-4B9C-8531-560C934DE17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836818-AF6E-4FB3-9F94-7EAF6EEB642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768CB8-020F-44CA-84E7-B0A3551A8BB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48816B-0F10-457E-BDC0-EB6D8D6A4C9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863280" y="406080"/>
            <a:ext cx="588636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2D89B7-1D53-4AC2-B222-A18E9B60FC6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E51544-4D72-4E67-86EA-3E810EC84E1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842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41A27E-A177-4E77-AEBC-00C73B61389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2A6F4A-1565-4759-A57F-F7CD3191BB0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791640" y="38581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6525DE-D984-42AB-8235-7AE8F0F9572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842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013B5F-0D50-410E-A642-DE1621069FA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9400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79636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79164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9400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579636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006FBF-CFDB-44E4-88DB-AF3CB77A723A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BB57C-5090-4303-B4E5-394026E342EC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75A19-B9AF-4C78-BE2F-7D47C6895BAA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4050A-A21B-41A9-9687-F815627355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0FEDA7-F8B0-4284-9577-7FB4245D1C20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3FC1D-0A93-403D-A149-F6972E86CA8C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9E7B0-093D-4845-9C4A-15D4AD5B442E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863280" y="406080"/>
            <a:ext cx="588636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BA531-3E2A-427C-8A62-C8635B221438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B2B7D-0EAF-4A3E-AE17-7DFDAD5B0DC8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842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72A44-402C-4E76-83C8-0D0B2F6A4DD5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C28FD-2615-4681-A9A7-C0B9D4C3C999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791640" y="38581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C79A6-01CD-49CD-B750-9B25B93A209F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842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DD823-721D-4129-A7D1-B7B324A8E8D6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29400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79636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79164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29400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79636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34DD1-899B-4491-923E-4006DA64A1E3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292C98D-B2DF-4407-B5A0-209F356FCD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94C599-3404-450F-86CC-DEFA647EE78B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42198D1-9267-4E80-9DBB-15D0D1CEB62B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1B0A0DF-6028-4B09-BAB2-82D28F52A7E4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583F38C-6EE7-4D7E-B3C8-B1565EBEAADE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FF013EE-FA9A-464F-8863-7A3074891572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863280" y="406080"/>
            <a:ext cx="588636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BA403EC-04C2-43F2-9B28-4EDCE3B508FF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3F7652F-B5EF-4874-A5B3-05CAD2D5F1E2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842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AC912D3-434C-44BC-9C36-E524262CD4F4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F648B21-D682-49C4-9E52-F7AA1368A418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791640" y="38581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DBB0E9D-24E8-4A96-A9AC-8B6B1B99CBE1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842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D93BEF-57BA-4EE9-86B5-1D78AB476B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63280" y="406080"/>
            <a:ext cx="588636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5D465F-9718-4DFE-9622-D76C26986C92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9400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79636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79164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9400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79636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35350D0-7AE3-4E3C-B792-11928FCEF51F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2EF41CA-30E2-460D-A32E-849857F63C2A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4433E23-EAB4-4CAC-B150-33CC76F59CD2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35A63AE-BC4B-4A16-9467-C42CF6361847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28F9C6C-4286-412E-8850-FDE07D01FDB5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523CF40-EE4E-448E-9D14-08EA60641764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863280" y="406080"/>
            <a:ext cx="588636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93897EF-6EEE-46F6-9BAC-373C33A2A736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6B22FB6-DEC6-4F2C-A8DB-A2B49D305A63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842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BDBDAAD-22BD-4CDE-BD6B-4973CFFAA382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2F0A570-4C57-43D8-9450-52397C1160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6B5456-C304-4C00-8B8F-626D1D7FC780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791640" y="38581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469E9B1-57AD-4891-898D-A04E36959966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842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E664BB0-1F36-4BC0-8F11-85B8B9095A82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9400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79636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79164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9400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579636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0178E5A-83AF-419D-A46B-17445698A797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CEE2F7-B884-4F84-89C8-FFBC835E5A70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D30EA4-1A15-4D48-8DCF-AF72832EAAD3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565255-EBF0-4894-A54C-81D9466E1342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D84595-8DC7-47F5-B590-041090875E4D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4EDE80-FEA3-46D1-ACB7-73B77A43CC39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863280" y="406080"/>
            <a:ext cx="588636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89D0E9-BD69-49B9-92F6-7F6597D6A711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59A9F3-F7BF-4D9D-8245-9590773E25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842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1FB6D6-44F2-4D07-A928-EEFC3EF75EA3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842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1AD49B-420D-4088-89C3-6E73FF9C94C6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E88E6E-609D-4391-BD77-26E670F4240F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791640" y="38581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A0FE41-283D-4B83-BD1F-DB599EE5B052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842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F7A776-9E28-4B1C-B460-823ECADE2C22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329400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579636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79164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/>
          </p:nvPr>
        </p:nvSpPr>
        <p:spPr>
          <a:xfrm>
            <a:off x="329400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7"/>
          <p:cNvSpPr>
            <a:spLocks noGrp="1"/>
          </p:cNvSpPr>
          <p:nvPr>
            <p:ph/>
          </p:nvPr>
        </p:nvSpPr>
        <p:spPr>
          <a:xfrm>
            <a:off x="579636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525EA9-36B6-45E4-B718-8095C5889E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F3ED2B-6E1B-45AF-8386-9841E1DCBF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3" descr="FHO_Logo_students"/>
          <p:cNvPicPr/>
          <p:nvPr/>
        </p:nvPicPr>
        <p:blipFill>
          <a:blip r:embed="rId2"/>
          <a:stretch/>
        </p:blipFill>
        <p:spPr>
          <a:xfrm>
            <a:off x="6980400" y="446040"/>
            <a:ext cx="1261800" cy="1030320"/>
          </a:xfrm>
          <a:prstGeom prst="rect">
            <a:avLst/>
          </a:prstGeom>
          <a:ln w="0">
            <a:noFill/>
          </a:ln>
        </p:spPr>
      </p:pic>
      <p:pic>
        <p:nvPicPr>
          <p:cNvPr id="1" name="Picture 14" descr="FHO Linie für PPT"/>
          <p:cNvPicPr/>
          <p:nvPr/>
        </p:nvPicPr>
        <p:blipFill>
          <a:blip r:embed="rId3"/>
          <a:stretch/>
        </p:blipFill>
        <p:spPr>
          <a:xfrm>
            <a:off x="0" y="6172200"/>
            <a:ext cx="8244000" cy="411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65280" indent="-236520"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880920" indent="-196560">
              <a:buClr>
                <a:srgbClr val="9d0f1e"/>
              </a:buClr>
              <a:buSzPct val="12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604332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Seite </a:t>
            </a:r>
            <a:fld id="{79B08D19-21D3-49B4-9D20-105B4EC0107D}" type="slidenum">
              <a:rPr b="0" lang="de-DE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 von 1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3" descr="FHO_Logo_students"/>
          <p:cNvPicPr/>
          <p:nvPr/>
        </p:nvPicPr>
        <p:blipFill>
          <a:blip r:embed="rId2"/>
          <a:stretch/>
        </p:blipFill>
        <p:spPr>
          <a:xfrm>
            <a:off x="6980400" y="446040"/>
            <a:ext cx="1261800" cy="10303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4" descr="FHO Linie für PPT"/>
          <p:cNvPicPr/>
          <p:nvPr/>
        </p:nvPicPr>
        <p:blipFill>
          <a:blip r:embed="rId3"/>
          <a:stretch/>
        </p:blipFill>
        <p:spPr>
          <a:xfrm>
            <a:off x="0" y="6172200"/>
            <a:ext cx="8244000" cy="4111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1" descr="FHO_Students_PPT_Hagenberg_Bildleiste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Rechteck 9"/>
          <p:cNvSpPr/>
          <p:nvPr/>
        </p:nvSpPr>
        <p:spPr>
          <a:xfrm>
            <a:off x="0" y="5929200"/>
            <a:ext cx="8429760" cy="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33" descr="FHO_HB_Students-PPT_Fußzeile"/>
          <p:cNvPicPr/>
          <p:nvPr/>
        </p:nvPicPr>
        <p:blipFill>
          <a:blip r:embed="rId5"/>
          <a:stretch/>
        </p:blipFill>
        <p:spPr>
          <a:xfrm>
            <a:off x="0" y="5923080"/>
            <a:ext cx="8039160" cy="399960"/>
          </a:xfrm>
          <a:prstGeom prst="rect">
            <a:avLst/>
          </a:prstGeom>
          <a:ln w="0">
            <a:noFill/>
          </a:ln>
        </p:spPr>
      </p:pic>
      <p:sp>
        <p:nvSpPr>
          <p:cNvPr id="47" name="Rechteck 11"/>
          <p:cNvSpPr/>
          <p:nvPr/>
        </p:nvSpPr>
        <p:spPr>
          <a:xfrm>
            <a:off x="6572160" y="214200"/>
            <a:ext cx="2143080" cy="128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34"/>
          <p:cNvSpPr/>
          <p:nvPr/>
        </p:nvSpPr>
        <p:spPr>
          <a:xfrm>
            <a:off x="0" y="6578640"/>
            <a:ext cx="9144000" cy="279360"/>
          </a:xfrm>
          <a:prstGeom prst="rect">
            <a:avLst/>
          </a:prstGeom>
          <a:solidFill>
            <a:srgbClr val="9d0f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35"/>
          <p:cNvSpPr/>
          <p:nvPr/>
        </p:nvSpPr>
        <p:spPr>
          <a:xfrm>
            <a:off x="1100160" y="6594480"/>
            <a:ext cx="34718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ffffff"/>
                </a:solidFill>
                <a:latin typeface="Arial"/>
              </a:rPr>
              <a:t>Publikation von Studierenden der FH OÖ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65280" indent="-236520"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880920" indent="-196560">
              <a:buClr>
                <a:srgbClr val="9d0f1e"/>
              </a:buClr>
              <a:buSzPct val="12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13" descr="FHO_Logo_students"/>
          <p:cNvPicPr/>
          <p:nvPr/>
        </p:nvPicPr>
        <p:blipFill>
          <a:blip r:embed="rId2"/>
          <a:stretch/>
        </p:blipFill>
        <p:spPr>
          <a:xfrm>
            <a:off x="6980400" y="446040"/>
            <a:ext cx="1261800" cy="10303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4" descr="FHO Linie für PPT"/>
          <p:cNvPicPr/>
          <p:nvPr/>
        </p:nvPicPr>
        <p:blipFill>
          <a:blip r:embed="rId3"/>
          <a:stretch/>
        </p:blipFill>
        <p:spPr>
          <a:xfrm>
            <a:off x="0" y="6172200"/>
            <a:ext cx="8244000" cy="41112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65280" indent="-236520"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880920" indent="-196560">
              <a:buClr>
                <a:srgbClr val="9d0f1e"/>
              </a:buClr>
              <a:buSzPct val="12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ftr" idx="3"/>
          </p:nvPr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sldNum" idx="4"/>
          </p:nvPr>
        </p:nvSpPr>
        <p:spPr>
          <a:xfrm>
            <a:off x="604332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Seite </a:t>
            </a:r>
            <a:fld id="{55488462-93EA-4B59-9923-CAEBE395547A}" type="slidenum">
              <a:rPr b="0" lang="de-DE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13" descr="FHO_Logo_students"/>
          <p:cNvPicPr/>
          <p:nvPr/>
        </p:nvPicPr>
        <p:blipFill>
          <a:blip r:embed="rId2"/>
          <a:stretch/>
        </p:blipFill>
        <p:spPr>
          <a:xfrm>
            <a:off x="6980400" y="446040"/>
            <a:ext cx="1261800" cy="10303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4" descr="FHO Linie für PPT"/>
          <p:cNvPicPr/>
          <p:nvPr/>
        </p:nvPicPr>
        <p:blipFill>
          <a:blip r:embed="rId3"/>
          <a:stretch/>
        </p:blipFill>
        <p:spPr>
          <a:xfrm>
            <a:off x="0" y="6172200"/>
            <a:ext cx="8244000" cy="41112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65280" indent="-236520"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880920" indent="-196560">
              <a:buClr>
                <a:srgbClr val="9d0f1e"/>
              </a:buClr>
              <a:buSzPct val="12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ftr" idx="5"/>
          </p:nvPr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sldNum" idx="6"/>
          </p:nvPr>
        </p:nvSpPr>
        <p:spPr>
          <a:xfrm>
            <a:off x="604332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Seite </a:t>
            </a:r>
            <a:fld id="{B9D68A67-1ECF-4303-95A2-4AD32750D43D}" type="slidenum">
              <a:rPr b="0" lang="de-DE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13" descr="FHO_Logo_students"/>
          <p:cNvPicPr/>
          <p:nvPr/>
        </p:nvPicPr>
        <p:blipFill>
          <a:blip r:embed="rId2"/>
          <a:stretch/>
        </p:blipFill>
        <p:spPr>
          <a:xfrm>
            <a:off x="6980400" y="446040"/>
            <a:ext cx="1261800" cy="10303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4" descr="FHO Linie für PPT"/>
          <p:cNvPicPr/>
          <p:nvPr/>
        </p:nvPicPr>
        <p:blipFill>
          <a:blip r:embed="rId3"/>
          <a:stretch/>
        </p:blipFill>
        <p:spPr>
          <a:xfrm>
            <a:off x="0" y="6172200"/>
            <a:ext cx="8244000" cy="41112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65280" indent="-236520"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880920" indent="-196560">
              <a:buClr>
                <a:srgbClr val="9d0f1e"/>
              </a:buClr>
              <a:buSzPct val="12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ftr" idx="7"/>
          </p:nvPr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sldNum" idx="8"/>
          </p:nvPr>
        </p:nvSpPr>
        <p:spPr>
          <a:xfrm>
            <a:off x="604332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Seite </a:t>
            </a:r>
            <a:fld id="{E16D0E28-9CC6-403A-9744-3328DA67B895}" type="slidenum">
              <a:rPr b="0" lang="de-DE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13" descr="FHO_Logo_students"/>
          <p:cNvPicPr/>
          <p:nvPr/>
        </p:nvPicPr>
        <p:blipFill>
          <a:blip r:embed="rId2"/>
          <a:stretch/>
        </p:blipFill>
        <p:spPr>
          <a:xfrm>
            <a:off x="6980400" y="446040"/>
            <a:ext cx="1261800" cy="103032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14" descr="FHO Linie für PPT"/>
          <p:cNvPicPr/>
          <p:nvPr/>
        </p:nvPicPr>
        <p:blipFill>
          <a:blip r:embed="rId3"/>
          <a:stretch/>
        </p:blipFill>
        <p:spPr>
          <a:xfrm>
            <a:off x="0" y="6172200"/>
            <a:ext cx="8244000" cy="41112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65280" indent="-236520"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880920" indent="-196560">
              <a:buClr>
                <a:srgbClr val="9d0f1e"/>
              </a:buClr>
              <a:buSzPct val="12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9"/>
          </p:nvPr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sldNum" idx="10"/>
          </p:nvPr>
        </p:nvSpPr>
        <p:spPr>
          <a:xfrm>
            <a:off x="604332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Seite </a:t>
            </a:r>
            <a:fld id="{66FA3B60-2FAC-4297-83BD-315271B03BD1}" type="slidenum">
              <a:rPr b="0" lang="de-DE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13" descr="FHO_Logo_students"/>
          <p:cNvPicPr/>
          <p:nvPr/>
        </p:nvPicPr>
        <p:blipFill>
          <a:blip r:embed="rId2"/>
          <a:stretch/>
        </p:blipFill>
        <p:spPr>
          <a:xfrm>
            <a:off x="6980400" y="446040"/>
            <a:ext cx="1261800" cy="103032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14" descr="FHO Linie für PPT"/>
          <p:cNvPicPr/>
          <p:nvPr/>
        </p:nvPicPr>
        <p:blipFill>
          <a:blip r:embed="rId3"/>
          <a:stretch/>
        </p:blipFill>
        <p:spPr>
          <a:xfrm>
            <a:off x="0" y="6172200"/>
            <a:ext cx="8244000" cy="411120"/>
          </a:xfrm>
          <a:prstGeom prst="rect">
            <a:avLst/>
          </a:prstGeom>
          <a:ln w="0">
            <a:noFill/>
          </a:ln>
        </p:spPr>
      </p:pic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65280" indent="-236520"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880920" indent="-196560">
              <a:buClr>
                <a:srgbClr val="9d0f1e"/>
              </a:buClr>
              <a:buSzPct val="12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 type="ftr" idx="11"/>
          </p:nvPr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 type="sldNum" idx="12"/>
          </p:nvPr>
        </p:nvSpPr>
        <p:spPr>
          <a:xfrm>
            <a:off x="604332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Seite </a:t>
            </a:r>
            <a:fld id="{2364D9EA-2A75-45FA-B7F9-15FAE8EEB000}" type="slidenum">
              <a:rPr b="0" lang="de-DE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12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2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12.png"/><Relationship Id="rId6" Type="http://schemas.openxmlformats.org/officeDocument/2006/relationships/image" Target="../media/image8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25.xml"/><Relationship Id="rId11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25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5600" y="4143240"/>
            <a:ext cx="6840720" cy="52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Monte Carlo Tree Search für Optimieru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subTitle"/>
          </p:nvPr>
        </p:nvSpPr>
        <p:spPr>
          <a:xfrm>
            <a:off x="1155240" y="4870080"/>
            <a:ext cx="683604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lexander Balleitn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Methodik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Vergleich zur Genetischen Programmier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Lösungskandidaten werden ebenfalls als Baum dargestell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65280" indent="-23652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Zum Beispiel bei der Symbolischen Reg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Optimierungsaufgaben mit MCTS und Genetischer Programmierung lös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Performanz und Qualität der Lösungen miteinander vergleic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92E51C9A-3483-4449-8437-0413C9C82B87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MCTS - RoyalSymbo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3581C285-B14D-4A94-B85B-E52476A6E3A5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3" name="Picture 3" descr=""/>
          <p:cNvPicPr/>
          <p:nvPr/>
        </p:nvPicPr>
        <p:blipFill>
          <a:blip r:embed="rId1"/>
          <a:stretch/>
        </p:blipFill>
        <p:spPr>
          <a:xfrm>
            <a:off x="1042920" y="1844640"/>
            <a:ext cx="6553440" cy="398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GP Standard - RoyalSymbo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A169369C-AE53-4D2C-A363-80B69DCA3AC0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7" name="Picture 2" descr=""/>
          <p:cNvPicPr/>
          <p:nvPr/>
        </p:nvPicPr>
        <p:blipFill>
          <a:blip r:embed="rId1"/>
          <a:stretch/>
        </p:blipFill>
        <p:spPr>
          <a:xfrm>
            <a:off x="971640" y="1773360"/>
            <a:ext cx="6437160" cy="39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000000"/>
                </a:solidFill>
                <a:latin typeface="Arial"/>
              </a:rPr>
              <a:t>Santa Fe Trail - Proble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791640" y="1728720"/>
            <a:ext cx="7401240" cy="6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29000"/>
          </a:bodyPr>
          <a:p>
            <a:pPr lvl="1" marL="124920" indent="-90360">
              <a:lnSpc>
                <a:spcPct val="110000"/>
              </a:lnSpc>
              <a:spcBef>
                <a:spcPts val="400"/>
              </a:spcBef>
              <a:buSzPct val="1132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Ziel ist es möglichst schnell die gesamte Nahrung </a:t>
            </a:r>
            <a:br>
              <a:rPr sz="1600"/>
            </a:b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aufzunehm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24920" indent="-90360">
              <a:lnSpc>
                <a:spcPct val="110000"/>
              </a:lnSpc>
              <a:spcBef>
                <a:spcPts val="400"/>
              </a:spcBef>
              <a:buSzPct val="1132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Startposition ist festgeleg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24920" indent="-90360">
              <a:lnSpc>
                <a:spcPct val="110000"/>
              </a:lnSpc>
              <a:spcBef>
                <a:spcPts val="400"/>
              </a:spcBef>
              <a:buSzPct val="1132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Operationen der Ameis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92600" indent="-68400">
              <a:lnSpc>
                <a:spcPct val="110000"/>
              </a:lnSpc>
              <a:spcBef>
                <a:spcPts val="4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Vorwär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92600" indent="-68400">
              <a:lnSpc>
                <a:spcPct val="110000"/>
              </a:lnSpc>
              <a:spcBef>
                <a:spcPts val="4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Nach links dreh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92600" indent="-68400">
              <a:lnSpc>
                <a:spcPct val="110000"/>
              </a:lnSpc>
              <a:spcBef>
                <a:spcPts val="4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Nach rechts dreh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24920" indent="-9036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1DDD244C-5B14-4512-909C-2FF3371D8490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2" name="Picture 2" descr="http://upload.wikimedia.org/wikipedia/commons/b/ba/SantaFeTrail.gif"/>
          <p:cNvPicPr/>
          <p:nvPr/>
        </p:nvPicPr>
        <p:blipFill>
          <a:blip r:embed="rId7"/>
          <a:stretch/>
        </p:blipFill>
        <p:spPr>
          <a:xfrm>
            <a:off x="5003640" y="2997360"/>
            <a:ext cx="2737080" cy="273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MCTS – Santa Fe Trai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FF8E8E1D-8E0F-44D6-AD3A-B89FAF9ACC1C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6" name="Picture 2" descr=""/>
          <p:cNvPicPr/>
          <p:nvPr/>
        </p:nvPicPr>
        <p:blipFill>
          <a:blip r:embed="rId1"/>
          <a:stretch/>
        </p:blipFill>
        <p:spPr>
          <a:xfrm>
            <a:off x="900000" y="1606680"/>
            <a:ext cx="6667560" cy="405900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7" descr="http://upload.wikimedia.org/wikipedia/commons/b/ba/SantaFeTrail.gif"/>
          <p:cNvPicPr/>
          <p:nvPr/>
        </p:nvPicPr>
        <p:blipFill>
          <a:blip r:embed="rId2"/>
          <a:stretch/>
        </p:blipFill>
        <p:spPr>
          <a:xfrm>
            <a:off x="7380360" y="4221000"/>
            <a:ext cx="1152360" cy="11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GP Standard – Santa Fe Trai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628BF254-EB85-4A80-99DF-DBA5F8117913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Picture 2" descr=""/>
          <p:cNvPicPr/>
          <p:nvPr/>
        </p:nvPicPr>
        <p:blipFill>
          <a:blip r:embed="rId1"/>
          <a:stretch/>
        </p:blipFill>
        <p:spPr>
          <a:xfrm>
            <a:off x="952560" y="1577880"/>
            <a:ext cx="6624720" cy="408312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7" descr="http://upload.wikimedia.org/wikipedia/commons/b/ba/SantaFeTrail.gif"/>
          <p:cNvPicPr/>
          <p:nvPr/>
        </p:nvPicPr>
        <p:blipFill>
          <a:blip r:embed="rId2"/>
          <a:stretch/>
        </p:blipFill>
        <p:spPr>
          <a:xfrm>
            <a:off x="7380360" y="4221000"/>
            <a:ext cx="1152360" cy="11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Symbolische Regression – Poly10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31640" indent="-312480">
              <a:lnSpc>
                <a:spcPct val="110000"/>
              </a:lnSpc>
              <a:spcBef>
                <a:spcPts val="400"/>
              </a:spcBef>
              <a:buSzPct val="1132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Problem mit 10 Variabl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00"/>
              </a:spcBef>
              <a:buSzPct val="1132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Ziel ist es die Beziehungen dieser 10 Variablen zu find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5280" indent="-236520">
              <a:lnSpc>
                <a:spcPct val="110000"/>
              </a:lnSpc>
              <a:spcBef>
                <a:spcPts val="4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 + x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 + x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 + x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Arial"/>
              </a:rPr>
              <a:t>9</a:t>
            </a: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 + x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F1FE6523-89EB-4A76-A49C-092451EEE893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GP Standard – Poly10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1FE28447-C9B8-4E0C-8617-45B5917F66B0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0" name="Picture 3" descr=""/>
          <p:cNvPicPr/>
          <p:nvPr/>
        </p:nvPicPr>
        <p:blipFill>
          <a:blip r:embed="rId1"/>
          <a:stretch/>
        </p:blipFill>
        <p:spPr>
          <a:xfrm>
            <a:off x="611280" y="1630440"/>
            <a:ext cx="6956280" cy="41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MCTS – Poly10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79ABE9C9-F8F6-4882-AAE5-469BCED099F6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4" name="Picture 2" descr=""/>
          <p:cNvPicPr/>
          <p:nvPr/>
        </p:nvPicPr>
        <p:blipFill>
          <a:blip r:embed="rId1"/>
          <a:stretch/>
        </p:blipFill>
        <p:spPr>
          <a:xfrm>
            <a:off x="655560" y="1616040"/>
            <a:ext cx="6907320" cy="41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MCTS - Analys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Eignet sich sehr gut für Entscheidungsproble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65280" indent="-23652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Baut die Lösung Schritt für Schritt au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Im Vergleich zu GP mehr Evaluierungen pro Sekun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Probleme (u.a. bei Optimierungsproblem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65280" indent="-23652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Neigt dazu früh in lokale Optima zu fallen und dort „sitzen“ zu bleib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Verbesserungspotent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65280" indent="-23652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Lernt nicht aus guten bzw. schlechten Entscheidu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65280" indent="-23652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8C57AB68-F5B8-451B-AB55-E1A176E05303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Thema und Aufgaben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31640" indent="-312480">
              <a:lnSpc>
                <a:spcPct val="110000"/>
              </a:lnSpc>
              <a:spcBef>
                <a:spcPts val="400"/>
              </a:spcBef>
              <a:buSzPct val="1132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Stand der Technik von MCTS für Optimierungsaufgaben erarbei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00"/>
              </a:spcBef>
              <a:buSzPct val="1132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Welche Algorithmenvarianten gibt e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00"/>
              </a:spcBef>
              <a:buSzPct val="1132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Für welche Optimierungsaufgaben wurden diese erfolgreich eingesetz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00"/>
              </a:spcBef>
              <a:buSzPct val="1132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Es sollen Optimierungsaufgaben, deren Lösungsraum aus einer Grammatik besteht, betrachtet werd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00"/>
              </a:spcBef>
              <a:buSzPct val="1132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Implementieren und ausführliches Testen des MCTS-Algorithmus für grammatikbasierte Optimierungsaufgab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00"/>
              </a:spcBef>
              <a:buSzPct val="11322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00"/>
              </a:spcBef>
              <a:buSzPct val="11322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00"/>
              </a:spcBef>
              <a:buSzPct val="11322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4CE3DFFA-1E95-41F6-957F-B9A8F449351E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Monte Carlo Tree Search</a:t>
            </a:r>
            <a:br>
              <a:rPr sz="3000"/>
            </a:b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Einleitun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Heuristischer Algorithmus für Entscheidungsproble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Wurde 2006 entwickelt für Computer 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Erstmalige Kombination aus Baumsuch-Algorithmen und Monte Carlo-Metho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KI für Computer- und Brettspie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EAFC9F25-F2DC-49B1-AAC7-BD01D8B528F2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Picture 2" descr="http://www.angi-pangi.de/bilder/spiel19.png"/>
          <p:cNvPicPr/>
          <p:nvPr/>
        </p:nvPicPr>
        <p:blipFill>
          <a:blip r:embed="rId9"/>
          <a:stretch/>
        </p:blipFill>
        <p:spPr>
          <a:xfrm>
            <a:off x="6588000" y="3933720"/>
            <a:ext cx="2381400" cy="19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Monte Carlo Tree Search</a:t>
            </a:r>
            <a:br>
              <a:rPr sz="3000"/>
            </a:b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Algorithmu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4066920" y="1728720"/>
            <a:ext cx="412596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Lösungsraum wird als Baum dargestell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Jeder Knoten steht für einen Spielzug bzw. Entscheid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Baum wird in jeder Iteration erweit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263D6A67-1BFA-4E77-A578-9FCEF3B66426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2" descr=""/>
          <p:cNvPicPr/>
          <p:nvPr/>
        </p:nvPicPr>
        <p:blipFill>
          <a:blip r:embed="rId4"/>
          <a:stretch/>
        </p:blipFill>
        <p:spPr>
          <a:xfrm>
            <a:off x="755640" y="1916280"/>
            <a:ext cx="3105000" cy="29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Monte Carlo Tree Search Algorithmu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B4C0268E-692A-4D9C-881C-3E6AF039A6E2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Picture 2" descr=""/>
          <p:cNvPicPr/>
          <p:nvPr/>
        </p:nvPicPr>
        <p:blipFill>
          <a:blip r:embed="rId1"/>
          <a:stretch/>
        </p:blipFill>
        <p:spPr>
          <a:xfrm>
            <a:off x="468360" y="2276640"/>
            <a:ext cx="8182080" cy="280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Regelwerke des MCTS-Algorithmu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200" spc="-1" strike="noStrike">
                <a:solidFill>
                  <a:srgbClr val="000000"/>
                </a:solidFill>
                <a:latin typeface="Arial"/>
              </a:rPr>
              <a:t>Tree-Polic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Selektion des „Start“-Knoten für eine Ite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Zuständig fü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65280" indent="-23652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Diversifik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65280" indent="-23652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Intensifik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200" spc="-1" strike="noStrike">
                <a:solidFill>
                  <a:srgbClr val="000000"/>
                </a:solidFill>
                <a:latin typeface="Arial"/>
              </a:rPr>
              <a:t>Default-Polic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Zuständig für Simulationsproz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Einfachste Form basiert auf reiner Zufallssim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FDC64A18-58DE-49D8-AFED-9FB0A1FDC0E0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Upper Confidence Bound (UCB)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200" spc="-1" strike="noStrike">
                <a:solidFill>
                  <a:srgbClr val="000000"/>
                </a:solidFill>
                <a:latin typeface="Arial"/>
              </a:rPr>
              <a:t>UCB1 Tree-Polic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23000" indent="-30600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de-AT" sz="20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 ist der durchschnittliche Qualitätsw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23000" indent="-30600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de-AT" sz="20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 ist die Anzahl an Selektion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23000" indent="-30600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de-AT" sz="20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 beeinflusst Intensifik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23000" indent="-30600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de-AT" sz="20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 beeinflusst Diversifik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C672404B-01B8-4698-9848-6D5F3B064C1B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3" name="Picture 3" descr=""/>
          <p:cNvPicPr/>
          <p:nvPr/>
        </p:nvPicPr>
        <p:blipFill>
          <a:blip r:embed="rId5"/>
          <a:stretch/>
        </p:blipFill>
        <p:spPr>
          <a:xfrm>
            <a:off x="6227640" y="1989000"/>
            <a:ext cx="1884600" cy="224028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4" descr=""/>
          <p:cNvPicPr/>
          <p:nvPr/>
        </p:nvPicPr>
        <p:blipFill>
          <a:blip r:embed="rId6"/>
          <a:stretch/>
        </p:blipFill>
        <p:spPr>
          <a:xfrm>
            <a:off x="971640" y="2475000"/>
            <a:ext cx="3914640" cy="1266840"/>
          </a:xfrm>
          <a:prstGeom prst="rect">
            <a:avLst/>
          </a:prstGeom>
          <a:ln w="0">
            <a:noFill/>
          </a:ln>
        </p:spPr>
      </p:pic>
      <p:sp>
        <p:nvSpPr>
          <p:cNvPr id="335" name="Straight Connector 6"/>
          <p:cNvSpPr/>
          <p:nvPr/>
        </p:nvSpPr>
        <p:spPr>
          <a:xfrm>
            <a:off x="1238400" y="4149720"/>
            <a:ext cx="142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Straight Connector 10"/>
          <p:cNvSpPr/>
          <p:nvPr/>
        </p:nvSpPr>
        <p:spPr>
          <a:xfrm>
            <a:off x="1238400" y="4941720"/>
            <a:ext cx="142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Lösen einer Optimierungsaufgabe mit MC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Optimierungsaufgabe als Grammatik darstel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Alle möglichen Sätze einer Grammatik können als Baumstruktur repräsentiert wer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Dadurch ist ein Suchraum für MCTS gegeb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200" spc="-1" strike="noStrike">
                <a:solidFill>
                  <a:srgbClr val="000000"/>
                </a:solidFill>
                <a:latin typeface="Arial"/>
              </a:rPr>
              <a:t>Einfaches Beispiel (RoyalSymbol):</a:t>
            </a:r>
            <a:br>
              <a:rPr sz="2000"/>
            </a:b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200" spc="-1" strike="noStrike">
                <a:solidFill>
                  <a:srgbClr val="000000"/>
                </a:solidFill>
                <a:latin typeface="Arial"/>
              </a:rPr>
              <a:t>Ziel ist es einen Satz zu generieren mit einer maximalen Anzahl an </a:t>
            </a:r>
            <a:r>
              <a:rPr b="0" i="1" lang="de-AT" sz="2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de-AT" sz="2200" spc="-1" strike="noStrike">
                <a:solidFill>
                  <a:srgbClr val="000000"/>
                </a:solidFill>
                <a:latin typeface="Arial"/>
              </a:rPr>
              <a:t>‘s und einer maximalen Satzlänge </a:t>
            </a:r>
            <a:r>
              <a:rPr b="0" i="1" lang="de-AT" sz="22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i="1" lang="de-AT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2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de-AT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) : </a:t>
            </a:r>
            <a:r>
              <a:rPr b="0" i="1" lang="de-AT" sz="20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i="1" lang="de-AT" sz="2000" spc="-1" strike="noStrike">
                <a:solidFill>
                  <a:srgbClr val="000000"/>
                </a:solidFill>
                <a:latin typeface="Arial"/>
              </a:rPr>
              <a:t>aS 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| </a:t>
            </a:r>
            <a:r>
              <a:rPr b="0" i="1" lang="de-AT" sz="2000" spc="-1" strike="noStrike">
                <a:solidFill>
                  <a:srgbClr val="000000"/>
                </a:solidFill>
                <a:latin typeface="Arial"/>
              </a:rPr>
              <a:t>bS 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| </a:t>
            </a:r>
            <a:r>
              <a:rPr b="0" i="1" lang="de-AT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| </a:t>
            </a:r>
            <a:r>
              <a:rPr b="0" i="1" lang="de-AT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696C507E-20F6-4C74-B9FB-3769E88DEF5C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Lösungsansatz des MCTS-Algorithmu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826560" y="1628280"/>
            <a:ext cx="7401240" cy="40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de-A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de-AT" sz="2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de-AT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) : </a:t>
            </a:r>
            <a:r>
              <a:rPr b="0" i="1" lang="de-AT" sz="20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i="1" lang="de-AT" sz="2000" spc="-1" strike="noStrike">
                <a:solidFill>
                  <a:srgbClr val="000000"/>
                </a:solidFill>
                <a:latin typeface="Arial"/>
              </a:rPr>
              <a:t>aS 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| </a:t>
            </a:r>
            <a:r>
              <a:rPr b="0" i="1" lang="de-AT" sz="2000" spc="-1" strike="noStrike">
                <a:solidFill>
                  <a:srgbClr val="000000"/>
                </a:solidFill>
                <a:latin typeface="Arial"/>
              </a:rPr>
              <a:t>bS 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| </a:t>
            </a:r>
            <a:r>
              <a:rPr b="0" i="1" lang="de-AT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| </a:t>
            </a:r>
            <a:r>
              <a:rPr b="0" i="1" lang="de-AT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84120" indent="-27792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Es werden baumartig Sätze erzeug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84120" indent="-27792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Terminale Symbole werden als Knoten dargestel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84120" indent="-27792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MCTS löst diese Aufgabe relativ simpel ohne domainspezifisches Wiss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1AE0B128-21B0-461F-A225-051592EBDE30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Picture 2" descr=""/>
          <p:cNvPicPr/>
          <p:nvPr/>
        </p:nvPicPr>
        <p:blipFill>
          <a:blip r:embed="rId4"/>
          <a:stretch/>
        </p:blipFill>
        <p:spPr>
          <a:xfrm>
            <a:off x="1467000" y="2133720"/>
            <a:ext cx="515448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1T07:23:09Z</dcterms:created>
  <dc:creator>Alex</dc:creator>
  <dc:description/>
  <dc:language>en-US</dc:language>
  <cp:lastModifiedBy>Alexander Balleitner</cp:lastModifiedBy>
  <dcterms:modified xsi:type="dcterms:W3CDTF">2015-06-12T09:00:55Z</dcterms:modified>
  <cp:revision>223</cp:revision>
  <dc:subject/>
  <dc:title>Folie 1</dc:title>
</cp:coreProperties>
</file>