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8393-2CBC-4226-9F67-4DEBC588979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Wurde 2006 von einem Forscherteam entwickel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C2B0-6317-4AA8-B6E0-B1DF17E42A7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1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2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3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D1CD-4585-4B34-B835-E47731F434D9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= eine It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03C6-1B40-4696-A01F-B8D7E8FFC544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UCB berechnet Qualität eines Knoten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AC7A-537E-457F-9596-457959D92DA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3EC7-B1BE-428D-B8F6-6C12F4057A13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C89B-B4A8-4051-B441-3D243ABED12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AAF90-D4B1-45CF-91EE-003C15B3A4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68055-A73E-40ED-9BAE-11956F001A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24864-427E-4870-80CA-2106EB3B9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9CC4D-369F-46C6-B0F4-1D1E0AD953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6EB7F-06A2-4412-8AE9-72ADA82018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5F50D-F9A9-465D-AF61-B1F20E0B4E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20953-7FEE-4DBC-A046-2C302BA698F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10839-DD5B-41F8-9F6D-6C00BD6F1F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3DE30-7475-422F-8049-0D601623A7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DFC5B-A24B-4A24-A096-A27DC79A42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140B9-82A6-4E5A-8936-7FC1F89FDB1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F3954-D303-4CB8-94A7-71AA42FB5D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53599-C852-4784-80EF-20A54C47733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D59A9-925A-4C33-AAC4-6F21DDC4C69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EBCC8-0011-417F-92A7-FDAC9F61B7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45A62-9D9F-4BC0-8F08-308D1B0939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F4C80-24A2-4CDE-869A-530DC354D67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5A1CF-B6AD-4928-A14C-03D98080EB4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257C-0552-4875-880A-84559D561FB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B62C-7D55-4351-8029-87CDE3D05DB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F24F-C18D-4D4F-BB42-B9C4AB3A2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EDD57-329D-4255-A289-4B3D406CBD3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F707-E926-4F37-AEBA-A79FB39EAB0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C6E0-85EB-4AAF-8646-1424F157091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0132-2236-4634-BAB2-8BC22504492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3A47-7C4D-4F25-A6BE-E08E9FCFA26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E5A4-AFE8-44CD-9237-739EF555EE9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39DE-2711-41F2-B4FF-60F182BF3A7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79AC-FAC4-4EDA-B011-5A6F16D6FCB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E8B1-F5DD-4111-972D-807301D163C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4161-4551-4E93-9256-D0875D3E3ED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EE3756-21CD-45E2-87ED-6B74F7D6AF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033A2-9BB6-4672-940B-DE0AC7B8961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26C72C-307C-417F-8CDB-820526710E2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6EE851-C88E-47DA-99AF-FD87460ABAB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8B7A4B-E725-479E-A815-01A5CCEC058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82D654-CA31-4252-A6EC-66E4633B66A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3828F6-287D-4013-858C-0D5CDB9E95B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2FF1A0-7C92-4BF3-B4CE-41183538108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937568-BA8D-4BC3-B3A9-57F07EAC589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5AF968-AF46-44F8-8427-9322A4B48B0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8E1946-B806-41DA-B621-5A355C3C4F0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D0C5D8-D20B-41A9-8E48-B1AF06650E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8F4BB-C189-48D1-8632-4C9565C20BC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870FA3-FB50-4B9A-9EEB-D7CC1369003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2303BF-8B10-4394-910D-7849D42ED90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F4FFF0-9F86-4A89-910F-EF9825B957D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40519D-4453-4B4C-91E3-968949FA196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9B811A-7226-4387-8E57-3E990EDC9A7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0E781D-D9AE-4AD2-961F-48EFA320F32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0E4698-1F2D-489A-82ED-E726D8BFB29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12CC5B-80D1-441F-B7FA-D0622E482D4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384BCC-7151-4455-A646-E1CDA5FD654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C71E45-3BD8-4858-A4F1-A440ED0B75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12C4D-1324-4181-AB1E-56484FD17CB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1ABF1B-9126-4ED8-B9B0-FD38C8EC363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308998-9C7A-4EC3-BD7A-77168A09022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87AD8D-E3D7-42D4-9AD6-AE102EC88E1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8B4D7-1367-4E8B-A192-9372033658A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B7925-867A-4561-95D5-BCBFE810580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E42BD-35A8-4897-8022-4349BB18F87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4C5F6-BFF2-48F7-8D63-9E744E0913D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06A89-C01E-4569-8641-55458E8A1E5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33DB1-137A-4142-A182-0F2A80D8E14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4EFDC-334C-4E38-85FC-B020DA561E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8643D-2CC4-4804-8DDC-94ECA26FD33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39823-C33A-47B8-91B3-30EC9DA0EA0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2C2CE-CC5E-4FE1-BD30-78FD183423E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45002-9EB8-44CB-9DCF-B3771756416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3D813-1A71-4F13-8240-2C9819261FC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46054-E7BB-40FF-B925-D9D1F88087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74960-358E-4EAE-ABE1-5EB7D72114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8671D40B-1271-45A9-84ED-E7D6507779FF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1" descr="FHO_Students_PPT_Hagenberg_Bildleiste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hteck 9"/>
          <p:cNvSpPr/>
          <p:nvPr/>
        </p:nvSpPr>
        <p:spPr>
          <a:xfrm>
            <a:off x="0" y="5929200"/>
            <a:ext cx="8429760" cy="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3" descr="FHO_HB_Students-PPT_Fußzeile"/>
          <p:cNvPicPr/>
          <p:nvPr/>
        </p:nvPicPr>
        <p:blipFill>
          <a:blip r:embed="rId5"/>
          <a:stretch/>
        </p:blipFill>
        <p:spPr>
          <a:xfrm>
            <a:off x="0" y="5923080"/>
            <a:ext cx="8039160" cy="399960"/>
          </a:xfrm>
          <a:prstGeom prst="rect">
            <a:avLst/>
          </a:prstGeom>
          <a:ln w="0">
            <a:noFill/>
          </a:ln>
        </p:spPr>
      </p:pic>
      <p:sp>
        <p:nvSpPr>
          <p:cNvPr id="47" name="Rechteck 11"/>
          <p:cNvSpPr/>
          <p:nvPr/>
        </p:nvSpPr>
        <p:spPr>
          <a:xfrm>
            <a:off x="6572160" y="214200"/>
            <a:ext cx="21430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4"/>
          <p:cNvSpPr/>
          <p:nvPr/>
        </p:nvSpPr>
        <p:spPr>
          <a:xfrm>
            <a:off x="0" y="6578640"/>
            <a:ext cx="9144000" cy="279360"/>
          </a:xfrm>
          <a:prstGeom prst="rect">
            <a:avLst/>
          </a:prstGeom>
          <a:solidFill>
            <a:srgbClr val="9d0f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5"/>
          <p:cNvSpPr/>
          <p:nvPr/>
        </p:nvSpPr>
        <p:spPr>
          <a:xfrm>
            <a:off x="1100160" y="6594480"/>
            <a:ext cx="347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Publikation von Studierenden der FH OÖ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4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835F3FB0-270B-4A21-B449-1EC694978E9A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5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6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6CFF99D4-C06C-4939-A6E9-E5E51C145FEF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7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8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146B93E9-A047-4E6E-86DC-8F4696BC3AE4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9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0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B9A48177-A542-49B6-9934-7A31C1B9357E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1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05319596-E6DB-4177-BBF0-0E60E29B82EA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5600" y="4143240"/>
            <a:ext cx="684072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nte Carlo Tree Search für Optim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155240" y="4870080"/>
            <a:ext cx="6836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exander Balleit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ethodi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gleich zur Genetischen Programm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kandidaten werden ebenfalls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m Beispiel bei der Symbolischen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n mit MCTS und Genetischer Programmierung lö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erformanz und Qualität der Lösungen miteinander vergl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F71EC101-130E-435C-AA89-51C7E64738A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C0E8A180-E582-49F0-BCEC-F365452098E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655344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51E4592E-6464-4662-B4B6-72099E93850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643716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Santa Fe Trail - Probl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91640" y="1728720"/>
            <a:ext cx="740124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möglichst schnell die gesamte Nahrung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uf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rtposition ist fest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Operationen der Amei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Vorwä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link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recht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D31312DE-8FD2-4FF8-8265-B48E4DE7281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" descr="http://upload.wikimedia.org/wikipedia/commons/b/ba/SantaFeTrail.gif"/>
          <p:cNvPicPr/>
          <p:nvPr/>
        </p:nvPicPr>
        <p:blipFill>
          <a:blip r:embed="rId7"/>
          <a:stretch/>
        </p:blipFill>
        <p:spPr>
          <a:xfrm>
            <a:off x="5003640" y="2997360"/>
            <a:ext cx="27370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DAD7019D-2FB3-4782-80D5-750B4B0B8B9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900000" y="1606680"/>
            <a:ext cx="6667560" cy="4059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6AF0E7EC-327A-4A7F-8E7E-02E2B0FA6D4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952560" y="1577880"/>
            <a:ext cx="6624720" cy="4083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Symbolische Regression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Problem mit 10 Variab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die Beziehungen dieser 10 Variablen zu fin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2FC68943-5E30-4AEF-869E-4CE3E8CBCF5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C265023-7FFB-4472-B1A3-7D98C80AC4E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611280" y="1630440"/>
            <a:ext cx="695628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06B7EFD3-B1B4-4B18-A12D-11973F92A8A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655560" y="1616040"/>
            <a:ext cx="690732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Analy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gnet sich sehr gut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t die Lösung Schritt für Schritt a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m Vergleich zu GP mehr Evaluierungen pro Sek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robleme (u.a. bei Optimierungsproble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eigt dazu früh in lokale Optima zu fallen und dort „sitzen“ zu blei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besserungs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ernt nicht aus guten bzw. schlechten Entschei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D17E2766-886A-4F87-A1D3-CE7EE2848BA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Thema und Aufgabe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nd der Technik von MCTS für Optimierungsaufgaben erarbei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Welche Algorithmenvarianten gibt 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Für welche Optimierungsaufgaben wurden diese erfolgreich eingesetz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Es sollen Optimierungsaufgaben, deren Lösungsraum aus einer Grammatik besteht, betrachtet we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Implementieren und ausführliches Testen des MCTS-Algorithmus für grammatikbasierte Optimierungsaufg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ADDBA507-B033-4BA0-8A05-5BB41969419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Heuristischer Algorithmus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Wurde 2006 entwickelt für Computer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rstmalige Kombination aus Baumsuch-Algorithmen und Monte Carlo-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KI für Computer- und Brettsp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527225FE-7B9A-49AA-A6DA-B2E03D95149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http://www.angi-pangi.de/bilder/spiel19.png"/>
          <p:cNvPicPr/>
          <p:nvPr/>
        </p:nvPicPr>
        <p:blipFill>
          <a:blip r:embed="rId9"/>
          <a:stretch/>
        </p:blipFill>
        <p:spPr>
          <a:xfrm>
            <a:off x="6588000" y="3933720"/>
            <a:ext cx="2381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066920" y="1728720"/>
            <a:ext cx="412596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raum wird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Jeder Knoten steht für einen Spielzug bzw. Entschei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m wird in jeder Iteration erweit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7F09CDB3-37EA-4D1A-B99C-215E1A2E69A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4"/>
          <a:stretch/>
        </p:blipFill>
        <p:spPr>
          <a:xfrm>
            <a:off x="755640" y="1916280"/>
            <a:ext cx="31050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 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B59397C8-68DE-41BF-875D-E89AEA86DF4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18208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Regelwerke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elektion des „Start“-Knoten für eine It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Default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 Simulationsproz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nfachste Form basiert auf reiner Zufalls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D4D3359A-81D5-4836-B2A9-D530D1A30D6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Upper Confidence Bound (UCB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UCB1 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er durchschnittliche Qualitätsw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ie Anzahl an Selek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0DE26343-2003-4071-B573-5F400323B8D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5"/>
          <a:stretch/>
        </p:blipFill>
        <p:spPr>
          <a:xfrm>
            <a:off x="6227640" y="1989000"/>
            <a:ext cx="1884600" cy="2240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6"/>
          <a:stretch/>
        </p:blipFill>
        <p:spPr>
          <a:xfrm>
            <a:off x="971640" y="2475000"/>
            <a:ext cx="3914640" cy="1266840"/>
          </a:xfrm>
          <a:prstGeom prst="rect">
            <a:avLst/>
          </a:prstGeom>
          <a:ln w="0">
            <a:noFill/>
          </a:ln>
        </p:spPr>
      </p:pic>
      <p:sp>
        <p:nvSpPr>
          <p:cNvPr id="335" name="Straight Connector 6"/>
          <p:cNvSpPr/>
          <p:nvPr/>
        </p:nvSpPr>
        <p:spPr>
          <a:xfrm>
            <a:off x="1238400" y="4149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0"/>
          <p:cNvSpPr/>
          <p:nvPr/>
        </p:nvSpPr>
        <p:spPr>
          <a:xfrm>
            <a:off x="1238400" y="4941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en einer Optimierungsaufgabe mit M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 als Grammatik dar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lle möglichen Sätze einer Grammatik können als Baumstruktur repräsentier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adurch ist ein Suchraum für MCTS 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Einfaches Beispiel (RoyalSymbol):</a:t>
            </a:r>
            <a:br>
              <a:rPr sz="20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Ziel ist es einen Satz zu generieren mit einer maximalen Anzahl an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‘s und einer maximalen Satzlänge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de-A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95A9DD2B-07D6-4A05-AEC0-96078CAA24A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ungsansatz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26560" y="1628280"/>
            <a:ext cx="7401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s werden baumartig Sätze erzeu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Terminale Symbole werden als Knoten dargestel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MCTS löst diese Aufgabe relativ simpel ohne domainspezifisches Wis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A3B82B2-24F5-4DB1-92AD-50384B09A73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4"/>
          <a:stretch/>
        </p:blipFill>
        <p:spPr>
          <a:xfrm>
            <a:off x="1467000" y="2133720"/>
            <a:ext cx="5154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7:23:09Z</dcterms:created>
  <dc:creator>Alex</dc:creator>
  <dc:description/>
  <dc:language>en-US</dc:language>
  <cp:lastModifiedBy>Alexander Balleitner</cp:lastModifiedBy>
  <dcterms:modified xsi:type="dcterms:W3CDTF">2015-06-12T09:00:55Z</dcterms:modified>
  <cp:revision>223</cp:revision>
  <dc:subject/>
  <dc:title>Folie 1</dc:title>
</cp:coreProperties>
</file>