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7A01-7493-4F1F-A853-C64ED7322A98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Wurde 2006 von einem Forscherteam entwickel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47CF-CC3D-4880-BE42-E4CC0E3AE8F8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1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2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3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9DAB-B5EB-400D-9C39-BCF4A285378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= eine It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2A6E-CCAD-435C-8C78-9687BC716823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UCB berechnet Qualität eines Knoten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F988-3E65-4B7E-A79A-A24EA91153D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3104-1381-4430-9F6E-DA2F976733B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4C01-EAA9-4571-A8A3-2386741EECF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62954-2393-4F95-B7C7-D228B06427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17834-76F7-464E-839B-3795D4F803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014FF-938C-45A4-9201-BC702F88F7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13491-5367-45F2-9F5A-3BE405196A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F172F-7975-4326-B030-886D180235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45369-96ED-450D-975B-D020475E41E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4EA0D-C585-4947-B9D5-2395E7F845D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DFF5D-60E4-4374-89C6-C3A789AC8F0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815E7-26D7-4FAC-AE57-D6EBC802425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940A3-4945-4971-A6D1-FA1545C09E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AD0AF-94C9-46B6-B649-243962CAB19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59431-592D-409A-89EC-50B71A1DCF2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4D261-0AAA-46DD-83CD-A474E906560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5EB975-DC08-414B-A6E9-83765A41856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5EEA3-92C6-43E4-A993-954EF43D74B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A8C9B-58D3-4F39-983B-20FF54B3BA5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C8857-BEDB-4083-9DA7-1AA878B7ED3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B42BD-BA05-47EF-8B79-34CE5F1A82C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8B90-45CC-4DEC-8CF0-DC7F9139ABA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391B-10BA-4B7E-99C5-334B92AE9BB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F4A8-883B-4586-91CB-91AEEC1BD6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C5F2E-42C3-4930-A74D-B1E45D0C2DC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B954-1B22-4DA9-9417-57E51E1C133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9C66-4B13-43BE-B14C-531CFE14E87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BD5E-95BB-4E4E-9A16-AF6F1561CCD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7650-5993-49DC-859E-AF0C5C84335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7298-02EE-4859-BF2F-60754531C3B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22DC-EC40-4E33-B387-81D0A41F02C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F08C-2B19-429E-9DDB-FA617427633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0095-F6FC-4DA2-8CF7-BA5AAA1E0C5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5150-8382-4908-A6B5-F0EFD7D9CD6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4E3918-EDFF-4CE9-9C2D-A19B3423D6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04EA8-32A2-4D40-8FA4-2A516C8DA68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50C05C-8DE9-45A8-8ED2-67523D1E430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DE3DB6-3FCE-4752-87B9-B7CB16EBE52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DCE7F7-EE60-4D6A-B850-A6760F138C6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C9D247-FCBD-438C-9422-8E55E211521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2AC4A8-90EE-4939-87C7-0415BE5CBDC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89997C-B864-4839-B564-7F3D342EDDA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B15A4A-6EFB-41DD-84B7-ED42C7E073F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EA1F41-2516-40AF-9ED7-D0ADD24D822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169A04-2DAD-489B-8C9C-77BD52E014A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41B108-9DC3-4480-A94B-F80C1DEBCB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B14EE-B41B-4901-818C-E1BA1CE925E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AFD44C-D38C-4146-8B69-78C1DE87C06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BD753F-9521-4B9C-A999-03C091BCFEC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F419F8-1D63-4585-A485-9877780B714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F4D4EC-FF4E-4323-B323-33D5169C718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7738B9-F329-4196-8A16-6D03A9244D0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B88C3B-87D3-464C-9169-10E962E754A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E9FFD6-FE01-46C1-9C9E-DC84147B8E6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EE2CEC-B99B-4833-9764-7DB3495D8FF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42A4CA-0CC5-4C31-991D-1E4D23BCC62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ADD243-3A5A-44F6-AF34-1DDFABC20F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BD3CF-46D9-4F29-93D7-60DA88CEF94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2F4267-864E-455D-BB97-D67961B2E80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CD3215-82FF-493D-B3A3-805361499FD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4816AB-4D73-4843-85FE-F2A252CD303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3C801-2454-4F63-BE6C-10506490267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578F6-A125-4641-A643-9C4D1C4B7A9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2F960-2B01-4486-8CBD-C3D08A4F3FA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B0752-C988-42CD-A145-C0128A50610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81549-B8DC-41A6-A6C7-EFB14D86AFC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38E69-6EC6-4B63-AC96-B75A66465A5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33F90-FD4C-46C0-8C0B-B353AB6EF1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5C733-3295-4142-9477-FEF577B36C7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8C1F5-3972-4838-B785-EF37808D046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E8628-D611-4890-8149-019FF10925B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8C7A6-0E0D-4297-AABD-804E9B43770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6DF76-1DF8-4C53-B035-9B827E8027D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38F4E-F8C7-4C1E-B3A8-B0EFB68D01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218F9-952F-4FA9-8C5B-B751FE8D68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8E0927AC-AEAD-4DA0-B973-5072F80D0950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von 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1" descr="FHO_Students_PPT_Hagenberg_Bildleiste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hteck 9"/>
          <p:cNvSpPr/>
          <p:nvPr/>
        </p:nvSpPr>
        <p:spPr>
          <a:xfrm>
            <a:off x="0" y="5929200"/>
            <a:ext cx="8429760" cy="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3" descr="FHO_HB_Students-PPT_Fußzeile"/>
          <p:cNvPicPr/>
          <p:nvPr/>
        </p:nvPicPr>
        <p:blipFill>
          <a:blip r:embed="rId5"/>
          <a:stretch/>
        </p:blipFill>
        <p:spPr>
          <a:xfrm>
            <a:off x="0" y="5923080"/>
            <a:ext cx="8039160" cy="399960"/>
          </a:xfrm>
          <a:prstGeom prst="rect">
            <a:avLst/>
          </a:prstGeom>
          <a:ln w="0">
            <a:noFill/>
          </a:ln>
        </p:spPr>
      </p:pic>
      <p:sp>
        <p:nvSpPr>
          <p:cNvPr id="47" name="Rechteck 11"/>
          <p:cNvSpPr/>
          <p:nvPr/>
        </p:nvSpPr>
        <p:spPr>
          <a:xfrm>
            <a:off x="6572160" y="214200"/>
            <a:ext cx="214308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4"/>
          <p:cNvSpPr/>
          <p:nvPr/>
        </p:nvSpPr>
        <p:spPr>
          <a:xfrm>
            <a:off x="0" y="6578640"/>
            <a:ext cx="9144000" cy="279360"/>
          </a:xfrm>
          <a:prstGeom prst="rect">
            <a:avLst/>
          </a:prstGeom>
          <a:solidFill>
            <a:srgbClr val="9d0f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5"/>
          <p:cNvSpPr/>
          <p:nvPr/>
        </p:nvSpPr>
        <p:spPr>
          <a:xfrm>
            <a:off x="1100160" y="6594480"/>
            <a:ext cx="347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Publikation von Studierenden der FH OÖ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3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4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EE19D7B6-EF9C-4F51-8011-746636F4AB2D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5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6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9701D874-03E2-442C-B743-5F897A37A57A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7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8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38EE6939-14DE-4DBF-B0DE-2A63ED1A4E7E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9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0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86433E77-7CC9-4CD3-B785-969CA6AF5C51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ftr" idx="11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sldNum" idx="12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68316B78-CA0A-4D49-B936-31EB7D168768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5600" y="4143240"/>
            <a:ext cx="684072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nte Carlo Tree Search für Optimi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155240" y="4870080"/>
            <a:ext cx="6836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exander Balleitn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ethodik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gleich zur Genetischen Programm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ösungskandidaten werden ebenfalls als Baum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m Beispiel bei der Symbolischen Re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ierungsaufgaben mit MCTS und Genetischer Programmierung lö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erformanz und Qualität der Lösungen miteinander verglei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8FD5077F-8A3C-4A5E-85C4-A5CEA764845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- RoyalSymb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E2315A3C-D796-4C65-B0D6-89EB8BE734E5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655344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- RoyalSymb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6BAC391D-6365-4D60-A2F3-73B82BF9749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643716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Santa Fe Trail - Probl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791640" y="1728720"/>
            <a:ext cx="740124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Ziel ist es möglichst schnell die gesamte Nahrung 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aufzu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rtposition ist festgele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Operationen der Amei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Vorwä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ch links dr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ch rechts dr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3897844F-C05A-444D-940A-79F90CB254B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2" descr="http://upload.wikimedia.org/wikipedia/commons/b/ba/SantaFeTrail.gif"/>
          <p:cNvPicPr/>
          <p:nvPr/>
        </p:nvPicPr>
        <p:blipFill>
          <a:blip r:embed="rId7"/>
          <a:stretch/>
        </p:blipFill>
        <p:spPr>
          <a:xfrm>
            <a:off x="5003640" y="2997360"/>
            <a:ext cx="273708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– Santa Fe Trai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8EC83777-3A8B-4433-9B99-792B4E47F484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900000" y="1606680"/>
            <a:ext cx="6667560" cy="4059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http://upload.wikimedia.org/wikipedia/commons/b/ba/SantaFeTrail.gif"/>
          <p:cNvPicPr/>
          <p:nvPr/>
        </p:nvPicPr>
        <p:blipFill>
          <a:blip r:embed="rId2"/>
          <a:stretch/>
        </p:blipFill>
        <p:spPr>
          <a:xfrm>
            <a:off x="7380360" y="4221000"/>
            <a:ext cx="11523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– Santa Fe Trai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9A751135-9C9B-400E-80D4-4C706604427E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952560" y="1577880"/>
            <a:ext cx="6624720" cy="4083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http://upload.wikimedia.org/wikipedia/commons/b/ba/SantaFeTrail.gif"/>
          <p:cNvPicPr/>
          <p:nvPr/>
        </p:nvPicPr>
        <p:blipFill>
          <a:blip r:embed="rId2"/>
          <a:stretch/>
        </p:blipFill>
        <p:spPr>
          <a:xfrm>
            <a:off x="7380360" y="4221000"/>
            <a:ext cx="11523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Symbolische Regression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Problem mit 10 Variab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Ziel ist es die Beziehungen dieser 10 Variablen zu fin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D3EB36AE-41DE-4E5E-AC2E-BD23C138BA99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0F60A6E5-C91F-44ED-87FE-E8F62A059E0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1"/>
          <a:stretch/>
        </p:blipFill>
        <p:spPr>
          <a:xfrm>
            <a:off x="611280" y="1630440"/>
            <a:ext cx="695628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A7D6D40A-BB5A-4242-B51E-CAD0BC5AE70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655560" y="1616040"/>
            <a:ext cx="690732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- Analys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gnet sich sehr gut für Entscheidungs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aut die Lösung Schritt für Schritt a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m Vergleich zu GP mehr Evaluierungen pro Seku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robleme (u.a. bei Optimierungsproblem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eigt dazu früh in lokale Optima zu fallen und dort „sitzen“ zu blei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besserungs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ernt nicht aus guten bzw. schlechten Entschei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43FA77BF-C172-4C9C-A8FA-C9F2045D466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Thema und Aufgabe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nd der Technik von MCTS für Optimierungsaufgaben erarbei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Welche Algorithmenvarianten gibt 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Für welche Optimierungsaufgaben wurden diese erfolgreich eingesetz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Es sollen Optimierungsaufgaben, deren Lösungsraum aus einer Grammatik besteht, betrachtet we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Implementieren und ausführliches Testen des MCTS-Algorithmus für grammatikbasierte Optimierungsaufga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C43A6B8B-7892-44A6-86CF-C3756BE3770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</a:t>
            </a:r>
            <a:br>
              <a:rPr sz="3000"/>
            </a:b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Heuristischer Algorithmus für Entscheidungs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Wurde 2006 entwickelt für Computer 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rstmalige Kombination aus Baumsuch-Algorithmen und Monte Carlo-Metho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KI für Computer- und Brettsp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403684F9-1F67-405F-8914-26EC374EB8C7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" descr="http://www.angi-pangi.de/bilder/spiel19.png"/>
          <p:cNvPicPr/>
          <p:nvPr/>
        </p:nvPicPr>
        <p:blipFill>
          <a:blip r:embed="rId9"/>
          <a:stretch/>
        </p:blipFill>
        <p:spPr>
          <a:xfrm>
            <a:off x="6588000" y="3933720"/>
            <a:ext cx="23814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</a:t>
            </a:r>
            <a:br>
              <a:rPr sz="3000"/>
            </a:b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066920" y="1728720"/>
            <a:ext cx="412596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ösungsraum wird als Baum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Jeder Knoten steht für einen Spielzug bzw. Entschei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aum wird in jeder Iteration erweit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F4832592-6D95-499C-84B7-A9D3CF2859E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4"/>
          <a:stretch/>
        </p:blipFill>
        <p:spPr>
          <a:xfrm>
            <a:off x="755640" y="1916280"/>
            <a:ext cx="31050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 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7D63E656-8999-4751-A083-F5064FB711AE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818208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Regelwerke des MCTS-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Tree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Selektion des „Start“-Knoten für eine It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ständig fü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iver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nten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Default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ständig für Simulationsproz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nfachste Form basiert auf reiner Zufalls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79E3F231-B163-4190-8430-8D17B65B28D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Upper Confidence Bound (UCB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UCB1 Tree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ist der durchschnittliche Qualitätsw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ist die Anzahl an Selek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eeinflusst Inten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eeinflusst Diver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CBE38E6D-AE46-41DB-B52F-1F3F7ADA55B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3" descr=""/>
          <p:cNvPicPr/>
          <p:nvPr/>
        </p:nvPicPr>
        <p:blipFill>
          <a:blip r:embed="rId5"/>
          <a:stretch/>
        </p:blipFill>
        <p:spPr>
          <a:xfrm>
            <a:off x="6227640" y="1989000"/>
            <a:ext cx="1884600" cy="2240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6"/>
          <a:stretch/>
        </p:blipFill>
        <p:spPr>
          <a:xfrm>
            <a:off x="971640" y="2475000"/>
            <a:ext cx="3914640" cy="1266840"/>
          </a:xfrm>
          <a:prstGeom prst="rect">
            <a:avLst/>
          </a:prstGeom>
          <a:ln w="0">
            <a:noFill/>
          </a:ln>
        </p:spPr>
      </p:pic>
      <p:sp>
        <p:nvSpPr>
          <p:cNvPr id="335" name="Straight Connector 6"/>
          <p:cNvSpPr/>
          <p:nvPr/>
        </p:nvSpPr>
        <p:spPr>
          <a:xfrm>
            <a:off x="1238400" y="4149720"/>
            <a:ext cx="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10"/>
          <p:cNvSpPr/>
          <p:nvPr/>
        </p:nvSpPr>
        <p:spPr>
          <a:xfrm>
            <a:off x="1238400" y="4941720"/>
            <a:ext cx="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Lösen einer Optimierungsaufgabe mit MC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ierungsaufgabe als Grammatik dar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Alle möglichen Sätze einer Grammatik können als Baumstruktur repräsentier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adurch ist ein Suchraum für MCTS geg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Einfaches Beispiel (RoyalSymbol):</a:t>
            </a:r>
            <a:br>
              <a:rPr sz="20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Ziel ist es einen Satz zu generieren mit einer maximalen Anzahl an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‘s und einer maximalen Satzlänge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de-AT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497350FC-1682-4C0E-B508-02BC665D8A1D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Lösungsansatz des MCTS-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26560" y="1628280"/>
            <a:ext cx="740124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s werden baumartig Sätze erzeug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Terminale Symbole werden als Knoten dargestel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MCTS löst diese Aufgabe relativ simpel ohne domainspezifisches Wis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0EEFD601-CDA6-428E-BDBC-AA06FCD006D7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4"/>
          <a:stretch/>
        </p:blipFill>
        <p:spPr>
          <a:xfrm>
            <a:off x="1467000" y="2133720"/>
            <a:ext cx="51544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07:23:09Z</dcterms:created>
  <dc:creator>Alex</dc:creator>
  <dc:description/>
  <dc:language>en-US</dc:language>
  <cp:lastModifiedBy>Alexander Balleitner</cp:lastModifiedBy>
  <dcterms:modified xsi:type="dcterms:W3CDTF">2015-06-12T09:00:55Z</dcterms:modified>
  <cp:revision>223</cp:revision>
  <dc:subject/>
  <dc:title>Folie 1</dc:title>
</cp:coreProperties>
</file>