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jpeg" ContentType="image/jpeg"/>
  <Override PartName="/ppt/media/image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9A7B7-3D2C-49C3-9B89-FABB4F35EEC1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Wurde 2006 von einem Forscherteam entwickel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B6AC1-5C13-4DC6-88AB-119FB3DCE1FB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Ebene = 1. Z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Ebene = 2. Z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Ebene = 3. Z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AF325-C8F7-41D6-8EB4-EFFBAA560C9A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= eine It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E1CE5-1850-4EB1-8879-7C7EFE2A69FF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UCB berechnet Qualität eines Knoten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62D24-DBB0-4D89-8AC1-CE1ECC64B05D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805BA-B560-4E85-B6C9-ED27172C3B45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8813F-CE1F-4B0F-A875-CCA392FEEE56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00728-E2AD-423E-960B-E9D87A9BE1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4E1C7-540C-46CE-ABC3-C41E767AAA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89201-3E5C-4CCA-9AED-6537870635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6B82A-3DC9-472C-B9AB-53BD3B3427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0F09B-56CD-438D-95DC-C30F525B04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B30C26-4853-4FE2-94E8-FA535B2F066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6655CC-C953-4817-89AB-A5056A7E335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7C15FE-858B-4310-8B34-F7A06477C54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2E7BC7-7A40-42B6-B577-2DFF630DB44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5B6EC6-4591-4128-8288-FC62A01095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91BDA-38B4-4722-9BA9-1DB58AA790E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07DA96-AEC7-4182-96DD-21D05C1B4C6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564365-E8E0-4639-B33E-BB04F51EF26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DA7408-D60C-4BBC-935E-BFFF19A74F2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2E2ACD-96DE-4A5F-8D52-58EB56047DA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A22CDE-9A70-4472-B9D7-D06E6BE23C2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030AD8-14D2-4FBA-8FE2-EE20AD9B661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8F1FBC-DA2F-44B5-A6C8-6B8DDB6DE7B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EFE91-EAFB-4161-9EBB-CFA263BF3E2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1969A-EFE8-4587-89F6-E82C2DE4ECA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9D2C4-7891-4815-97B3-255A5CE672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869A2-5606-43A9-A985-B8979ADA93B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7DECB-D077-4939-9356-80DF9456947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1A6ED-9ED6-4AF9-BFDA-0F93304FB20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D5F41-0B48-4CBA-8684-99B65A7D756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DD232-0AF9-4A53-B3ED-75DFC14BEDB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A8D78-9F21-4C91-8EE3-D6AE7FCFACD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08FF8-DCA9-4152-84CF-E45CE63D65C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44955-BF4B-4052-A548-CFC3EEC1621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46AC7-9716-465D-8A84-90E530479C3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3BA7D-A97D-4A31-96D9-4EC6B568C05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E79F33-5806-49F8-9493-EB8B4B6E96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A4A09-3050-4221-89DD-7A6CFCC1C4D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0D06F0-FFEE-421B-B222-D38C65B8E25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234337-22DA-4683-95D0-7D1B5409239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F0D6C5-3606-4B55-9C1A-6E489EE3168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F0037A-F113-437F-B45C-7064BB5EA52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283EF1-82AB-4973-B6B0-32DAA30B811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87E5A3-BACA-476B-893B-8E3492FB51A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467E9D-6BFC-4E02-9936-91D19E1743F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C5B9C1-5F65-4B1A-BC27-ABEC34E9D18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0C9689-A068-4D0F-951D-A661E057481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7DE0B3-5DEC-486D-ACA7-5C0BFC17BD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2957F-ECD7-48F0-BC6D-2B7E2358928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8BA78E-91CC-4A2C-A843-AF7DAB1482F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E3623C-2334-4BB3-ABE9-E277C57B17E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185EA4-C837-4E4B-B3C1-38D38F478A0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F53F56-A916-4824-86DF-BDF9A1995C8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38AFA9-DA78-49FF-8911-200FA2E1E2A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747350-CC71-4E1D-97A5-9EFC75681FF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33164F-0596-430B-8755-123074CFE58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866057-CD18-4FC5-AE26-9A0D5CA4334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AC70ED-5962-43C1-B9C8-2167C641676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CAA54C-6000-42EB-8D73-ACC172D8FA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6516B-ADCF-48B2-9E91-D0CE74694D3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128C3E-C571-4237-B8AC-F64F461A79D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6DFF6F-C116-41D4-A749-E4C776E5DF5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803A17-ABEE-4F1A-A4E7-B7B8FBD94DC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2EC75-D826-470D-AC7C-2B8CC20E249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54A7D-71A8-4774-82E3-60D470F2958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C94B1-104F-46CC-BAB1-8350E8052B6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B7F34-7A43-4F64-B341-502159A4869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D9178-F55E-41AB-BDD8-EEFF5CBAE0D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8EC86-8945-4E6F-9ACA-006510E6FDD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59428-7A13-476B-B235-9439817C0B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98771-DA4C-48C7-BD37-E51DCEDB8AE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05F32-FD6C-4DFE-BCDB-591BF51AA2F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ACCFF-8C26-4463-BC95-B000F4D6F2C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2B46A-01B6-4F56-A592-DC46BA9CC0B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A92C3-5EB4-40B4-99FD-035FAC3BC6B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2EDB2-4640-4F55-ACD2-6F93D91F92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32B2A-54A4-4827-AB88-425E6369E4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F6F03A9C-4A2F-4CEF-B649-E3B95B2FA65E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 von 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1" descr="FHO_Students_PPT_Hagenberg_Bildleiste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hteck 9"/>
          <p:cNvSpPr/>
          <p:nvPr/>
        </p:nvSpPr>
        <p:spPr>
          <a:xfrm>
            <a:off x="0" y="5929200"/>
            <a:ext cx="8429760" cy="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3" descr="FHO_HB_Students-PPT_Fußzeile"/>
          <p:cNvPicPr/>
          <p:nvPr/>
        </p:nvPicPr>
        <p:blipFill>
          <a:blip r:embed="rId5"/>
          <a:stretch/>
        </p:blipFill>
        <p:spPr>
          <a:xfrm>
            <a:off x="0" y="5923080"/>
            <a:ext cx="8039160" cy="399960"/>
          </a:xfrm>
          <a:prstGeom prst="rect">
            <a:avLst/>
          </a:prstGeom>
          <a:ln w="0">
            <a:noFill/>
          </a:ln>
        </p:spPr>
      </p:pic>
      <p:sp>
        <p:nvSpPr>
          <p:cNvPr id="47" name="Rechteck 11"/>
          <p:cNvSpPr/>
          <p:nvPr/>
        </p:nvSpPr>
        <p:spPr>
          <a:xfrm>
            <a:off x="6572160" y="214200"/>
            <a:ext cx="2143080" cy="128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4"/>
          <p:cNvSpPr/>
          <p:nvPr/>
        </p:nvSpPr>
        <p:spPr>
          <a:xfrm>
            <a:off x="0" y="6578640"/>
            <a:ext cx="9144000" cy="279360"/>
          </a:xfrm>
          <a:prstGeom prst="rect">
            <a:avLst/>
          </a:prstGeom>
          <a:solidFill>
            <a:srgbClr val="9d0f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5"/>
          <p:cNvSpPr/>
          <p:nvPr/>
        </p:nvSpPr>
        <p:spPr>
          <a:xfrm>
            <a:off x="1100160" y="6594480"/>
            <a:ext cx="347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Publikation von Studierenden der FH OÖ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3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4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0D844370-1EE6-4727-BC9A-16431F4ECE3D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ftr" idx="5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6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7E799C94-3740-4EC3-8C44-52E808401A42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7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8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1DD2374F-2BBC-4684-942F-194180F6F7B1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9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10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3F1896DA-2351-4BCA-92F2-C6087A3BA455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ftr" idx="11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sldNum" idx="12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10DF6A73-EAC5-45D8-98ED-84D2563E4128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5600" y="4143240"/>
            <a:ext cx="6840720" cy="5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onte Carlo Tree Search für Optimier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1155240" y="4870080"/>
            <a:ext cx="68360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exander Balleitn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ethodik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Vergleich zur Genetischen Programm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Lösungskandidaten werden ebenfalls als Baum dargestel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Zum Beispiel bei der Symbolischen Reg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Optimierungsaufgaben mit MCTS und Genetischer Programmierung lö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Performanz und Qualität der Lösungen miteinander verglei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DF3EBB6E-D45E-4B60-BD13-C7E15C88BEF3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- RoyalSymbo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AC722233-0AA0-4644-BBE9-66116F9C809F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3" descr=""/>
          <p:cNvPicPr/>
          <p:nvPr/>
        </p:nvPicPr>
        <p:blipFill>
          <a:blip r:embed="rId1"/>
          <a:stretch/>
        </p:blipFill>
        <p:spPr>
          <a:xfrm>
            <a:off x="1042920" y="1844640"/>
            <a:ext cx="6553440" cy="39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GP Standard - RoyalSymbo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756EF28A-FBD6-4F6A-BD73-B6DA2523D454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6437160" cy="39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Santa Fe Trail - Proble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791640" y="1728720"/>
            <a:ext cx="740124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9000"/>
          </a:bodyPr>
          <a:p>
            <a:pPr lvl="1" marL="124920" indent="-9036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Ziel ist es möglichst schnell die gesamte Nahrung 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aufzuneh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920" indent="-9036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Startposition ist festgele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920" indent="-9036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Operationen der Ameis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92600" indent="-6840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Vorwä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92600" indent="-6840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Nach links dre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92600" indent="-6840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Nach rechts dre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920" indent="-9036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60413AD7-4C08-4F05-9409-12BBD6EF4BFA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2" descr="http://upload.wikimedia.org/wikipedia/commons/b/ba/SantaFeTrail.gif"/>
          <p:cNvPicPr/>
          <p:nvPr/>
        </p:nvPicPr>
        <p:blipFill>
          <a:blip r:embed="rId7"/>
          <a:stretch/>
        </p:blipFill>
        <p:spPr>
          <a:xfrm>
            <a:off x="5003640" y="2997360"/>
            <a:ext cx="2737080" cy="27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– Santa Fe Trai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0534CC8F-A1D6-49F7-BBDF-E503ADAB4F78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900000" y="1606680"/>
            <a:ext cx="6667560" cy="40590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7" descr="http://upload.wikimedia.org/wikipedia/commons/b/ba/SantaFeTrail.gif"/>
          <p:cNvPicPr/>
          <p:nvPr/>
        </p:nvPicPr>
        <p:blipFill>
          <a:blip r:embed="rId2"/>
          <a:stretch/>
        </p:blipFill>
        <p:spPr>
          <a:xfrm>
            <a:off x="7380360" y="4221000"/>
            <a:ext cx="1152360" cy="11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GP Standard – Santa Fe Trai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FCA4323F-D545-42F0-8E05-231133FBF8D6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952560" y="1577880"/>
            <a:ext cx="6624720" cy="40831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http://upload.wikimedia.org/wikipedia/commons/b/ba/SantaFeTrail.gif"/>
          <p:cNvPicPr/>
          <p:nvPr/>
        </p:nvPicPr>
        <p:blipFill>
          <a:blip r:embed="rId2"/>
          <a:stretch/>
        </p:blipFill>
        <p:spPr>
          <a:xfrm>
            <a:off x="7380360" y="4221000"/>
            <a:ext cx="1152360" cy="11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Symbolische Regression – Poly10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Problem mit 10 Variab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Ziel ist es die Beziehungen dieser 10 Variablen zu find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3C7A3580-8B71-4074-8F5E-E6FEEA3E6169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GP Standard – Poly10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C218CC97-4B99-43DF-962A-92D31CACE19B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3" descr=""/>
          <p:cNvPicPr/>
          <p:nvPr/>
        </p:nvPicPr>
        <p:blipFill>
          <a:blip r:embed="rId1"/>
          <a:stretch/>
        </p:blipFill>
        <p:spPr>
          <a:xfrm>
            <a:off x="611280" y="1630440"/>
            <a:ext cx="695628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– Poly10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E061C886-E36A-441A-8B93-8988B8AE35DE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655560" y="1616040"/>
            <a:ext cx="690732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- Analys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ignet sich sehr gut für Entscheidungsprobl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Baut die Lösung Schritt für Schritt au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Im Vergleich zu GP mehr Evaluierungen pro Seku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Probleme (u.a. bei Optimierungsproblem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Neigt dazu früh in lokale Optima zu fallen und dort „sitzen“ zu blei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Verbesserungspot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Lernt nicht aus guten bzw. schlechten Entscheid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86AD2F91-F968-4183-9B30-060ED668702D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Thema und Aufgabe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Stand der Technik von MCTS für Optimierungsaufgaben erarbei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Welche Algorithmenvarianten gibt 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Für welche Optimierungsaufgaben wurden diese erfolgreich eingesetz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Es sollen Optimierungsaufgaben, deren Lösungsraum aus einer Grammatik besteht, betrachtet wer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Implementieren und ausführliches Testen des MCTS-Algorithmus für grammatikbasierte Optimierungsaufga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68CAB0D4-4F39-46B2-BBCB-88BE9267B38B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onte Carlo Tree Search</a:t>
            </a:r>
            <a:br>
              <a:rPr sz="3000"/>
            </a:b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Einleitu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Heuristischer Algorithmus für Entscheidungsprobl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Wurde 2006 entwickelt für Computer 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rstmalige Kombination aus Baumsuch-Algorithmen und Monte Carlo-Metho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KI für Computer- und Brettsp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EE4D0D93-F5F1-4678-A22E-57EB714C095C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2" descr="http://www.angi-pangi.de/bilder/spiel19.png"/>
          <p:cNvPicPr/>
          <p:nvPr/>
        </p:nvPicPr>
        <p:blipFill>
          <a:blip r:embed="rId9"/>
          <a:stretch/>
        </p:blipFill>
        <p:spPr>
          <a:xfrm>
            <a:off x="6588000" y="3933720"/>
            <a:ext cx="238140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onte Carlo Tree Search</a:t>
            </a:r>
            <a:br>
              <a:rPr sz="3000"/>
            </a:b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066920" y="1728720"/>
            <a:ext cx="412596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Lösungsraum wird als Baum dargestel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Jeder Knoten steht für einen Spielzug bzw. Entscheid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Baum wird in jeder Iteration erweit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37E85A07-9BCB-4603-8752-8122443DF6BC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4"/>
          <a:stretch/>
        </p:blipFill>
        <p:spPr>
          <a:xfrm>
            <a:off x="755640" y="1916280"/>
            <a:ext cx="310500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onte Carlo Tree Search 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70D06063-E8C1-4BFC-8B90-6A97CE511F5A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818208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Regelwerke des MCTS-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Tree-Polic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Selektion des „Start“-Knoten für eine It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Zuständig fü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Diver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Inten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Default-Polic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Zuständig für Simulationsproz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infachste Form basiert auf reiner Zufalls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D3B62FF2-BE71-4345-8975-E25832AE371F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Upper Confidence Bound (UCB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UCB1 Tree-Polic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ist der durchschnittliche Qualitätsw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ist die Anzahl an Selekti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beeinflusst Inten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beeinflusst Diver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7C488937-368E-4115-871C-3D1EB265EA8D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3" descr=""/>
          <p:cNvPicPr/>
          <p:nvPr/>
        </p:nvPicPr>
        <p:blipFill>
          <a:blip r:embed="rId5"/>
          <a:stretch/>
        </p:blipFill>
        <p:spPr>
          <a:xfrm>
            <a:off x="6227640" y="1989000"/>
            <a:ext cx="1884600" cy="22402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4" descr=""/>
          <p:cNvPicPr/>
          <p:nvPr/>
        </p:nvPicPr>
        <p:blipFill>
          <a:blip r:embed="rId6"/>
          <a:stretch/>
        </p:blipFill>
        <p:spPr>
          <a:xfrm>
            <a:off x="971640" y="2475000"/>
            <a:ext cx="3914640" cy="1266840"/>
          </a:xfrm>
          <a:prstGeom prst="rect">
            <a:avLst/>
          </a:prstGeom>
          <a:ln w="0">
            <a:noFill/>
          </a:ln>
        </p:spPr>
      </p:pic>
      <p:sp>
        <p:nvSpPr>
          <p:cNvPr id="335" name="Straight Connector 6"/>
          <p:cNvSpPr/>
          <p:nvPr/>
        </p:nvSpPr>
        <p:spPr>
          <a:xfrm>
            <a:off x="1238400" y="4149720"/>
            <a:ext cx="14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traight Connector 10"/>
          <p:cNvSpPr/>
          <p:nvPr/>
        </p:nvSpPr>
        <p:spPr>
          <a:xfrm>
            <a:off x="1238400" y="4941720"/>
            <a:ext cx="14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Lösen einer Optimierungsaufgabe mit MC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Optimierungsaufgabe als Grammatik darst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Alle möglichen Sätze einer Grammatik können als Baumstruktur repräsentiert we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Dadurch ist ein Suchraum für MCTS gege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Einfaches Beispiel (RoyalSymbol):</a:t>
            </a:r>
            <a:br>
              <a:rPr sz="20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Ziel ist es einen Satz zu generieren mit einer maximalen Anzahl an </a:t>
            </a:r>
            <a:r>
              <a:rPr b="0" i="1" lang="de-AT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‘s und einer maximalen Satzlänge </a:t>
            </a:r>
            <a:r>
              <a:rPr b="0" i="1" lang="de-AT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de-AT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) :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1ECD39D3-BBD5-405F-BE5A-4FE8CFAC7454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Lösungsansatz des MCTS-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826560" y="1628280"/>
            <a:ext cx="740124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) :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-2779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s werden baumartig Sätze erzeug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-2779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Terminale Symbole werden als Knoten dargestel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-2779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MCTS löst diese Aufgabe relativ simpel ohne domainspezifisches Wiss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7B1E0385-ADDF-4D1E-BD58-D598FE06DD80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4"/>
          <a:stretch/>
        </p:blipFill>
        <p:spPr>
          <a:xfrm>
            <a:off x="1467000" y="2133720"/>
            <a:ext cx="51544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1T07:23:09Z</dcterms:created>
  <dc:creator>Alex</dc:creator>
  <dc:description/>
  <dc:language>en-US</dc:language>
  <cp:lastModifiedBy>Alexander Balleitner</cp:lastModifiedBy>
  <dcterms:modified xsi:type="dcterms:W3CDTF">2015-06-12T09:00:55Z</dcterms:modified>
  <cp:revision>223</cp:revision>
  <dc:subject/>
  <dc:title>Folie 1</dc:title>
</cp:coreProperties>
</file>