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4395-156A-464D-9C4B-527DC6430F77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Wurde 2006 von einem Forscherteam entwickel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2BC5-9C18-4C00-BCC8-199B3620D41B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1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2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3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D510-5867-4044-8812-415EA79D5460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= eine It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1989-2EA2-4F19-9BBC-D3289F905F66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UCB berechnet Qualität eines Knoten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2B4F-C0F0-4C53-9718-3E9FE8268DD2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61E6-D578-4C49-B7D9-92CF192A04D8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6E0F-DBED-4311-BC35-25C8105123B3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E78B3-6F9E-4C86-979A-64E7D9FC07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ED6C2-5D6C-4331-9D7D-7E03E00BAF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DB05D-0605-44FD-80C4-70CD7CC897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6BB37-7768-4536-A7D2-88FA58D7A1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BA7C3-9DA8-45EA-BB23-E17B23BEF7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94155-DB53-4DD8-95DF-51706550E0D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FD0A70-8DA3-4DAB-884A-A1F67336646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043854-1E64-4D82-9278-B83F70C9D43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5FDE0E-A93F-4CD1-B219-66050166A7C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B360C0-B796-4B6D-AA8F-D33FA8E482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6DEE9-100E-48C4-89DC-2DB9FEF597E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B29AE9-A68B-4399-92EB-E99028E8A72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8F4D5A-0E80-4EEB-8534-753B59FCD0A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0BEFFC-F6A5-4D38-8805-6FF7A2F4C54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4F364B-7B86-46EB-A05F-C03B21EAAA7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F87E5A-C3C6-4518-8FA0-635A5118E81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B6836F-6FD6-40C7-A6F0-05E21729767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19E66F-A959-40AB-948B-533D4CD5F2E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54EB-1A38-415C-82DD-3697424C859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0B97-4D55-4D4E-A263-F358AE00F70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672D-A35E-462F-B549-5A84262AAB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C488B-82FC-4E82-8805-5CF100056B5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0B16-382D-4029-A619-3654D4C352E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A69B-38E5-44DC-858B-7802A1F43B5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5524-41CB-48CC-91A1-EB92FE899C0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FC5C-75CA-4680-A943-D459BD80304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B2BB-5E54-4E8B-BAE6-3BE9ED5533A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CB66-E2AD-4688-8F3A-89B7F4DD065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F6E5-0933-4088-90A2-0566652B57D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81AD-D7F1-4871-875F-0C35230414C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1CAB-3B21-478D-8738-D5860279C7A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26BDC5-8394-4128-910B-8D789ED414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64EC5-2012-4C0A-A665-42346DB8BEE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5C9AB0-45A8-4728-92DB-87CEB785258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51A7D7-ADBC-4C1A-909E-DCA2F4F6EE5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43A2FE-80C1-49F0-887B-D56063014F3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BE504F-698B-4A49-B3DD-EF8DCA58EDC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91D759-1D3A-4CAE-8F32-6DD25F55F2C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DD9167-6BF8-4512-B459-8A9E79A863B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CA365A-2C65-4216-B5CA-C6E7DE8FA6D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52F7C4-897D-4759-A36A-47848EF8D8E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7961F0-22D9-4AAF-B924-385387DD983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5BA785-A7B8-4ED2-9EBB-F2AF7E43D8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497A5-4F1D-4C1E-9099-70963EBCBB8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038CC0-CB5E-4EBB-991A-FD3E3D0D0FF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BA4D2E-0059-450D-8091-398B7DCA9FC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C3C860-11A6-49AF-9213-2D4D893B9E1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540AD0-1770-4038-92A0-ABF533A03A4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7B3E8A-41E3-4BF0-85D4-528F9ECACB7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4DBB75-A2F2-4552-A940-65AF91A8E99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A7A44C-794E-4577-8912-2308FF067C7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BA90A3-8DB3-4F8D-A77A-AFCAF5E48DF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16C485-31C8-4922-A6AB-F1B7277F076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34B42D-B228-4A11-98F3-0A572FDDAD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5C788-F334-45AC-B243-1BF54EA39C5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F851DF-A47F-46B7-880E-00FD24F55CE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D5BA3D-EE8E-478C-ADA0-040DDDDDAAF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8F76F5-8997-4417-8F75-03EFAC63AE0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9FE11-444B-4BF3-A950-D9C8DDCE49D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B122A-FA74-458D-85F6-332CD665969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468CF-2A4B-4112-9134-F951600F8B7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874E4-4730-4280-8BFF-A905349CDA1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3F333-55DA-474B-A138-B03AE911DB5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BA5F8-A301-435B-8037-6A2E5980394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EE366-302C-481B-A442-6FC52BF206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20CF9-B33B-4447-97F4-36BEB196BBC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ADB33-7375-4E56-9F3A-FAC8CCD088F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7BFFC-DDBB-47EB-9530-6065CC48A97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DC344-07C4-4B5D-9E30-E34335F7175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B1C1D-253E-4B68-BD3C-60048FFB2B4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F7C95-CD52-4C51-868E-5A38F6CBC5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D681D-2D47-4FFE-A1E4-89B30B170B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E77DBC63-FAC0-4731-951B-6E7322C4D2FB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 von 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1" descr="FHO_Students_PPT_Hagenberg_Bildleiste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hteck 9"/>
          <p:cNvSpPr/>
          <p:nvPr/>
        </p:nvSpPr>
        <p:spPr>
          <a:xfrm>
            <a:off x="0" y="5929200"/>
            <a:ext cx="8429760" cy="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3" descr="FHO_HB_Students-PPT_Fußzeile"/>
          <p:cNvPicPr/>
          <p:nvPr/>
        </p:nvPicPr>
        <p:blipFill>
          <a:blip r:embed="rId5"/>
          <a:stretch/>
        </p:blipFill>
        <p:spPr>
          <a:xfrm>
            <a:off x="0" y="5923080"/>
            <a:ext cx="8039160" cy="399960"/>
          </a:xfrm>
          <a:prstGeom prst="rect">
            <a:avLst/>
          </a:prstGeom>
          <a:ln w="0">
            <a:noFill/>
          </a:ln>
        </p:spPr>
      </p:pic>
      <p:sp>
        <p:nvSpPr>
          <p:cNvPr id="47" name="Rechteck 11"/>
          <p:cNvSpPr/>
          <p:nvPr/>
        </p:nvSpPr>
        <p:spPr>
          <a:xfrm>
            <a:off x="6572160" y="214200"/>
            <a:ext cx="214308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4"/>
          <p:cNvSpPr/>
          <p:nvPr/>
        </p:nvSpPr>
        <p:spPr>
          <a:xfrm>
            <a:off x="0" y="6578640"/>
            <a:ext cx="9144000" cy="279360"/>
          </a:xfrm>
          <a:prstGeom prst="rect">
            <a:avLst/>
          </a:prstGeom>
          <a:solidFill>
            <a:srgbClr val="9d0f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5"/>
          <p:cNvSpPr/>
          <p:nvPr/>
        </p:nvSpPr>
        <p:spPr>
          <a:xfrm>
            <a:off x="1100160" y="6594480"/>
            <a:ext cx="347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Publikation von Studierenden der FH OÖ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3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4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C3B8455B-CBB4-4EDB-B245-32AC2ADB72DB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5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6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163BFB5F-27B2-46A6-9BA3-4D95E8CF8C77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7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8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06F04DD4-240F-42DF-883D-16AFCB48DC74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9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0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1B2C9EFB-E763-44F3-A004-BE2524CF6DE1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ftr" idx="11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sldNum" idx="12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DCA22226-0713-410E-BB39-4DC682CD810E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5600" y="4143240"/>
            <a:ext cx="684072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onte Carlo Tree Search für Optimi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155240" y="4870080"/>
            <a:ext cx="6836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exander Balleitn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ethodik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Vergleich zur Genetischen Programm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ösungskandidaten werden ebenfalls als Baum dargeste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m Beispiel bei der Symbolischen Re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ptimierungsaufgaben mit MCTS und Genetischer Programmierung lö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erformanz und Qualität der Lösungen miteinander verglei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E54ED9AA-44FF-4EA5-92B2-823CBF8493EE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- RoyalSymbo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8D0C2D3E-EB32-4A47-8CFC-2E7B76F00018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655344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- RoyalSymbo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ED8C4FC1-793D-4319-938A-65B3A5E18EC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643716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Santa Fe Trail - Probl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791640" y="1728720"/>
            <a:ext cx="740124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Ziel ist es möglichst schnell die gesamte Nahrung 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aufzu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tartposition ist festgele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Operationen der Amei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Vorwä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ch links dr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ch rechts dr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EC6FA413-3DB2-4045-97BF-61F024C12B3D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2" descr="http://upload.wikimedia.org/wikipedia/commons/b/ba/SantaFeTrail.gif"/>
          <p:cNvPicPr/>
          <p:nvPr/>
        </p:nvPicPr>
        <p:blipFill>
          <a:blip r:embed="rId7"/>
          <a:stretch/>
        </p:blipFill>
        <p:spPr>
          <a:xfrm>
            <a:off x="5003640" y="2997360"/>
            <a:ext cx="273708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– Santa Fe Trai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5ECBDA5E-3765-400D-BC88-529968E9B146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900000" y="1606680"/>
            <a:ext cx="6667560" cy="40590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http://upload.wikimedia.org/wikipedia/commons/b/ba/SantaFeTrail.gif"/>
          <p:cNvPicPr/>
          <p:nvPr/>
        </p:nvPicPr>
        <p:blipFill>
          <a:blip r:embed="rId2"/>
          <a:stretch/>
        </p:blipFill>
        <p:spPr>
          <a:xfrm>
            <a:off x="7380360" y="4221000"/>
            <a:ext cx="115236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– Santa Fe Trai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668490EF-7EF6-4218-8AB4-EB0EFA9B9FB7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952560" y="1577880"/>
            <a:ext cx="6624720" cy="40831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http://upload.wikimedia.org/wikipedia/commons/b/ba/SantaFeTrail.gif"/>
          <p:cNvPicPr/>
          <p:nvPr/>
        </p:nvPicPr>
        <p:blipFill>
          <a:blip r:embed="rId2"/>
          <a:stretch/>
        </p:blipFill>
        <p:spPr>
          <a:xfrm>
            <a:off x="7380360" y="4221000"/>
            <a:ext cx="115236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Symbolische Regression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Problem mit 10 Variab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Ziel ist es die Beziehungen dieser 10 Variablen zu fin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CCB7238F-C2B6-4646-818B-535BCE4DF508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5002BE8A-4881-42D2-82F9-CDD165C2001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3" descr=""/>
          <p:cNvPicPr/>
          <p:nvPr/>
        </p:nvPicPr>
        <p:blipFill>
          <a:blip r:embed="rId1"/>
          <a:stretch/>
        </p:blipFill>
        <p:spPr>
          <a:xfrm>
            <a:off x="611280" y="1630440"/>
            <a:ext cx="695628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A4DADC45-297F-45ED-8CBB-E69FE9A140F9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655560" y="1616040"/>
            <a:ext cx="690732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- Analys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ignet sich sehr gut für Entscheidungs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aut die Lösung Schritt für Schritt a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m Vergleich zu GP mehr Evaluierungen pro Seku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robleme (u.a. bei Optimierungsproblem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eigt dazu früh in lokale Optima zu fallen und dort „sitzen“ zu blei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Verbesserungs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ernt nicht aus guten bzw. schlechten Entscheid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995FCA2A-5C5A-451C-ACA3-DA5E4354C776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Thema und Aufgabe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tand der Technik von MCTS für Optimierungsaufgaben erarbei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Welche Algorithmenvarianten gibt 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Für welche Optimierungsaufgaben wurden diese erfolgreich eingesetz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Es sollen Optimierungsaufgaben, deren Lösungsraum aus einer Grammatik besteht, betrachtet we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Implementieren und ausführliches Testen des MCTS-Algorithmus für grammatikbasierte Optimierungsaufga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9E255526-56B0-4AF7-8794-C2047590A3A2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</a:t>
            </a:r>
            <a:br>
              <a:rPr sz="3000"/>
            </a:b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Heuristischer Algorithmus für Entscheidungs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Wurde 2006 entwickelt für Computer 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rstmalige Kombination aus Baumsuch-Algorithmen und Monte Carlo-Metho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KI für Computer- und Brettsp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765E76B8-8BE1-4EC7-BF77-C601886F232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2" descr="http://www.angi-pangi.de/bilder/spiel19.png"/>
          <p:cNvPicPr/>
          <p:nvPr/>
        </p:nvPicPr>
        <p:blipFill>
          <a:blip r:embed="rId9"/>
          <a:stretch/>
        </p:blipFill>
        <p:spPr>
          <a:xfrm>
            <a:off x="6588000" y="3933720"/>
            <a:ext cx="23814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</a:t>
            </a:r>
            <a:br>
              <a:rPr sz="3000"/>
            </a:b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066920" y="1728720"/>
            <a:ext cx="412596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ösungsraum wird als Baum dargeste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Jeder Knoten steht für einen Spielzug bzw. Entschei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aum wird in jeder Iteration erweit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D2C997A3-7E11-467D-99D0-1F7764A22F9B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4"/>
          <a:stretch/>
        </p:blipFill>
        <p:spPr>
          <a:xfrm>
            <a:off x="755640" y="1916280"/>
            <a:ext cx="310500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 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18B6D485-9CE1-44C0-A8C1-934C4E00DBE9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818208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Regelwerke des MCTS-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Tree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Selektion des „Start“-Knoten für eine It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ständig fü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iver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nten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Default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ständig für Simulationsproz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infachste Form basiert auf reiner Zufalls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1A0D8B17-9CCA-424F-84A1-D0C6864A2A9E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Upper Confidence Bound (UCB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UCB1 Tree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ist der durchschnittliche Qualitätsw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ist die Anzahl an Selek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beeinflusst Inten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beeinflusst Diver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A65D7F60-2E2B-4CCA-83FE-01CF0BED335A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3" descr=""/>
          <p:cNvPicPr/>
          <p:nvPr/>
        </p:nvPicPr>
        <p:blipFill>
          <a:blip r:embed="rId5"/>
          <a:stretch/>
        </p:blipFill>
        <p:spPr>
          <a:xfrm>
            <a:off x="6227640" y="1989000"/>
            <a:ext cx="1884600" cy="22402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"/>
          <p:cNvPicPr/>
          <p:nvPr/>
        </p:nvPicPr>
        <p:blipFill>
          <a:blip r:embed="rId6"/>
          <a:stretch/>
        </p:blipFill>
        <p:spPr>
          <a:xfrm>
            <a:off x="971640" y="2475000"/>
            <a:ext cx="3914640" cy="1266840"/>
          </a:xfrm>
          <a:prstGeom prst="rect">
            <a:avLst/>
          </a:prstGeom>
          <a:ln w="0">
            <a:noFill/>
          </a:ln>
        </p:spPr>
      </p:pic>
      <p:sp>
        <p:nvSpPr>
          <p:cNvPr id="335" name="Straight Connector 6"/>
          <p:cNvSpPr/>
          <p:nvPr/>
        </p:nvSpPr>
        <p:spPr>
          <a:xfrm>
            <a:off x="1238400" y="4149720"/>
            <a:ext cx="14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10"/>
          <p:cNvSpPr/>
          <p:nvPr/>
        </p:nvSpPr>
        <p:spPr>
          <a:xfrm>
            <a:off x="1238400" y="4941720"/>
            <a:ext cx="14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Lösen einer Optimierungsaufgabe mit MC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ptimierungsaufgabe als Grammatik dar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Alle möglichen Sätze einer Grammatik können als Baumstruktur repräsentier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adurch ist ein Suchraum für MCTS gege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Einfaches Beispiel (RoyalSymbol):</a:t>
            </a:r>
            <a:br>
              <a:rPr sz="20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Ziel ist es einen Satz zu generieren mit einer maximalen Anzahl an </a:t>
            </a:r>
            <a:r>
              <a:rPr b="0" i="1" lang="de-AT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‘s und einer maximalen Satzlänge </a:t>
            </a:r>
            <a:r>
              <a:rPr b="0" i="1" lang="de-AT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de-AT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) :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FF829FF1-D05F-4F62-AE69-1CEB5534EEA4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Lösungsansatz des MCTS-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826560" y="1628280"/>
            <a:ext cx="740124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) :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s werden baumartig Sätze erzeug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Terminale Symbole werden als Knoten dargestel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MCTS löst diese Aufgabe relativ simpel ohne domainspezifisches Wis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B01EB04A-59BC-43E4-8E06-D34E0E16CF73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4"/>
          <a:stretch/>
        </p:blipFill>
        <p:spPr>
          <a:xfrm>
            <a:off x="1467000" y="2133720"/>
            <a:ext cx="51544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07:23:09Z</dcterms:created>
  <dc:creator>Alex</dc:creator>
  <dc:description/>
  <dc:language>en-US</dc:language>
  <cp:lastModifiedBy>Alexander Balleitner</cp:lastModifiedBy>
  <dcterms:modified xsi:type="dcterms:W3CDTF">2015-06-12T09:00:55Z</dcterms:modified>
  <cp:revision>223</cp:revision>
  <dc:subject/>
  <dc:title>Folie 1</dc:title>
</cp:coreProperties>
</file>