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D160C-1797-414E-9E0B-BE666997BF4D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Wurde 2006 von einem Forscherteam entwickel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9545-ED47-4860-8669-732FF9085EB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1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2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Ebene = 3. Z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03E2-6439-447A-9088-F5E2EE0FE5D8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= eine It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AC8E-15FF-4333-8507-9895D1E357DF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alibri"/>
              </a:rPr>
              <a:t>UCB berechnet Qualität eines Knoten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EC7CB-9362-46ED-9B5D-A2B7414EB29B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6320-749E-425B-B03B-B68E778908B4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804C-531B-47D7-AD31-18BFF769FA82}" type="slidenum">
              <a:rPr b="0" lang="de-D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E8A8F-B3EC-4D89-9A5A-8E7BFC88D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05A5-FF30-4EE6-B8D0-A07FA5AEE8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051C2-3E00-465C-861F-49794C755F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06C7C-0F3C-441B-B4CA-950C41C90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3E054-A103-4B7A-A1EB-EA93C8A59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98F0E2-EEA5-4063-85B5-DB6085980DB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08226-FBD2-44C9-ACB8-9DABAB8D39E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F55D5-502B-4E17-8637-EB79A8A06FD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905F3F-5C14-4E2C-8754-D2FECE1D23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13F51-EFBB-4DF2-BFD3-C7B82EF1CE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3C1B-3C7C-4C9C-89E4-711EE26125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C196F-98BB-47E3-AD2D-3216B712ACE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178A8-3FDA-4CD2-BA86-33D70CFA96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5CE93-A15E-4912-9723-FA9E84ADC3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CFC76-9EB8-49D9-A4AD-6368CD1A2B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EE7D6-6B1C-411E-9C8F-F37DCA19DE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07E5F-07F6-41E3-A42D-24ABB77BBF2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92D06-985D-49DC-9003-0097C3470AA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6286-240B-402F-95D0-1D83C91BB1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96CE-FF1A-4C17-BF51-778615CBA3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14BD-D42D-474E-9FA4-08FB58957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42598-CD65-450D-866B-7492EEA374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A96C-C57E-4774-94B1-D0B1E3EF20F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4F63-4F69-41A2-B470-B7FCC6A9D14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6D75-E491-44A2-811D-6DAB3531042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EC70-1E7B-4A5B-AB68-EDCD6524E63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B3C99-096E-4557-94A5-7A3FED7235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787B7-15A9-4D0E-BC26-F3E4718355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1A7F-0951-416B-A6B9-DA01ABDB40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5444A-AD6B-4E0C-B1B0-140C85113E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2B6B-5D1C-4279-85B3-06A15C54A73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B4EF2-565C-49B8-9559-A8D41D2BF1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BD20-8E3E-46FF-A1EF-BB1179BBF1B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7920F4-DA1E-4FEC-8FD8-CC808AED201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1B700-F2CE-4A9E-A4C7-C6A3CAD69F1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11D16-4078-4D5A-B634-0D8BCB04BDA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E6896-AFC2-46B1-A61E-3A0F2DDC6D7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C810C2-DAD7-40A0-9981-D1701D5A2E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933A2-7AB6-4184-8A84-055E8C3A14E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00879-C2EA-435E-A090-FB72EF9BA7E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8BFB78-5F60-414C-B67C-ACB669CA39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B42E4-95F9-4978-896A-37DEC9A66D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8C882-A0DF-4E87-8318-EC6E212441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26B4-5F65-4BE1-8B9E-EAFFD8B2E57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85E180-8C6A-4116-8307-83BD822CD65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36162-2520-4705-AB8F-CF5DD1949F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A830DF-0FA1-4565-99F6-6AE70785D30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B7CD7-B827-4974-A135-7D5EFF7C8A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9455C9-111A-4AE9-9EEC-982CBF69ECE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016865-E2AE-43AC-92D5-BF8DCCF3CC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72748-1821-486A-84F5-A21DB19466D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70014-DD42-43AE-8F57-737920E841D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60757-66C5-48AD-86CA-40F41C9A47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3C63FA-5985-406A-95DB-D695F9F9F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52222-7CC2-4E34-9BD1-A7C5F429DD1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C36A18-32B8-43C9-87FB-2BFDD8E1442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05790-6920-4578-A84B-A8C4FE672D3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4ECA32-FD89-4F63-91EA-E91A2B2C8D2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7CCB-57C9-40D7-B755-090E99925F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714C-0D9A-4982-BAC9-4DE3E7F0B4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D5AD9-B7DC-452C-9BB7-8A4952C9F6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8B82D-D351-4CAF-9621-750CD57DFE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0220E-80D0-4653-9F6D-86BBEF94A18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863280" y="406080"/>
            <a:ext cx="5886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C1C7A-2BEE-460C-B069-9581384519E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3AFDC-2604-48B0-9E16-291BACEC70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BB7D-3E41-4BDA-8EA3-8282547D1C0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816EC-D8B2-4518-9944-E9FB7BE1BD4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8592E-BF6B-46C1-A2B5-6AFA2295D3A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93B18-C308-416E-AE1F-0E612CB531D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84240" y="38581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10CCD-DD49-4196-A089-B2561AFE25E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9400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796360" y="17287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79164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9400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796360" y="3858120"/>
            <a:ext cx="23828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8A8B-3C6F-4B69-B3BA-F47BC218A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16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4240" y="1728720"/>
            <a:ext cx="361152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91640" y="3858120"/>
            <a:ext cx="7401240" cy="194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7D51-5A98-45E3-AE9E-99B967E3A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CAC9D23-4D5B-4284-AE88-105089389BC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1" descr="FHO_Students_PPT_Hagenberg_Bildleist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hteck 9"/>
          <p:cNvSpPr/>
          <p:nvPr/>
        </p:nvSpPr>
        <p:spPr>
          <a:xfrm>
            <a:off x="0" y="5929200"/>
            <a:ext cx="842976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3" descr="FHO_HB_Students-PPT_Fußzeile"/>
          <p:cNvPicPr/>
          <p:nvPr/>
        </p:nvPicPr>
        <p:blipFill>
          <a:blip r:embed="rId5"/>
          <a:stretch/>
        </p:blipFill>
        <p:spPr>
          <a:xfrm>
            <a:off x="0" y="5923080"/>
            <a:ext cx="8039160" cy="399960"/>
          </a:xfrm>
          <a:prstGeom prst="rect">
            <a:avLst/>
          </a:prstGeom>
          <a:ln w="0">
            <a:noFill/>
          </a:ln>
        </p:spPr>
      </p:pic>
      <p:sp>
        <p:nvSpPr>
          <p:cNvPr id="47" name="Rechteck 11"/>
          <p:cNvSpPr/>
          <p:nvPr/>
        </p:nvSpPr>
        <p:spPr>
          <a:xfrm>
            <a:off x="6572160" y="214200"/>
            <a:ext cx="21430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4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d0f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5"/>
          <p:cNvSpPr/>
          <p:nvPr/>
        </p:nvSpPr>
        <p:spPr>
          <a:xfrm>
            <a:off x="1100160" y="6594480"/>
            <a:ext cx="3471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ffffff"/>
                </a:solidFill>
                <a:latin typeface="Arial"/>
              </a:rPr>
              <a:t>Publikation von Studierenden der FH O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21EFBE96-C5A4-47B4-ADB3-F0D392C79EA1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ftr" idx="5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0535EF65-EECA-47D4-8EC4-3F533961A7BB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7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8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0D34A4F-06B0-4AAA-9D06-4A620B99B524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9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0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50C562A5-1EA8-4C4C-8F19-A30C358A710D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13" descr="FHO_Logo_students"/>
          <p:cNvPicPr/>
          <p:nvPr/>
        </p:nvPicPr>
        <p:blipFill>
          <a:blip r:embed="rId2"/>
          <a:stretch/>
        </p:blipFill>
        <p:spPr>
          <a:xfrm>
            <a:off x="6980400" y="446040"/>
            <a:ext cx="1261800" cy="10303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FHO Linie für PPT"/>
          <p:cNvPicPr/>
          <p:nvPr/>
        </p:nvPicPr>
        <p:blipFill>
          <a:blip r:embed="rId3"/>
          <a:stretch/>
        </p:blipFill>
        <p:spPr>
          <a:xfrm>
            <a:off x="0" y="6172200"/>
            <a:ext cx="8244000" cy="4111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880920" indent="-196560">
              <a:buClr>
                <a:srgbClr val="9d0f1e"/>
              </a:buClr>
              <a:buSzPct val="12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80920" indent="-288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ftr" idx="11"/>
          </p:nvPr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sldNum" idx="12"/>
          </p:nvPr>
        </p:nvSpPr>
        <p:spPr>
          <a:xfrm>
            <a:off x="604332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Seite </a:t>
            </a:r>
            <a:fld id="{A35D6C06-147D-478A-99DB-3DEFC8C853EE}" type="slidenum">
              <a:rPr b="0" lang="de-DE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5600" y="4143240"/>
            <a:ext cx="684072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onte Carlo Tree Search für Optimieru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155240" y="4870080"/>
            <a:ext cx="68360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lexander Balleitn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ethodik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gleich zur Genetischen Programmier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kandidaten werden ebenfalls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m Beispiel bei der Symbolischen Re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n mit MCTS und Genetischer Programmierung lö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erformanz und Qualität der Lösungen miteinander verglei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76D94C1F-931B-4DE6-97EB-4C3C4265053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C3912043-FB51-4B53-A1DB-BFEF10F37D6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553440" cy="39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- RoyalSymbo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E97EC85A-A4C7-4CE9-A135-EF4440A3CC0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64371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Arial"/>
              </a:rPr>
              <a:t>Santa Fe Trail - Probl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791640" y="1728720"/>
            <a:ext cx="740124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29000"/>
          </a:bodyPr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möglichst schnell die gesamte Nahrung </a:t>
            </a:r>
            <a:br>
              <a:rPr sz="1600"/>
            </a:b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aufzunehm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rtposition ist festgeleg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Operationen der Amei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Vorwä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link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92600" indent="-6840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Nach rechts dr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" indent="-9036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A442114A-18CA-4EF0-BCAC-6656B8407E09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2" descr="http://upload.wikimedia.org/wikipedia/commons/b/ba/SantaFeTrail.gif"/>
          <p:cNvPicPr/>
          <p:nvPr/>
        </p:nvPicPr>
        <p:blipFill>
          <a:blip r:embed="rId7"/>
          <a:stretch/>
        </p:blipFill>
        <p:spPr>
          <a:xfrm>
            <a:off x="5003640" y="2997360"/>
            <a:ext cx="2737080" cy="27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1A522DC-0EF1-4032-8073-4F1DE2527E6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" descr=""/>
          <p:cNvPicPr/>
          <p:nvPr/>
        </p:nvPicPr>
        <p:blipFill>
          <a:blip r:embed="rId1"/>
          <a:stretch/>
        </p:blipFill>
        <p:spPr>
          <a:xfrm>
            <a:off x="900000" y="1606680"/>
            <a:ext cx="6667560" cy="40590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Santa Fe Trai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2059E83-4D8A-4FAA-911F-536844B2E283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952560" y="1577880"/>
            <a:ext cx="6624720" cy="4083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http://upload.wikimedia.org/wikipedia/commons/b/ba/SantaFeTrail.gif"/>
          <p:cNvPicPr/>
          <p:nvPr/>
        </p:nvPicPr>
        <p:blipFill>
          <a:blip r:embed="rId2"/>
          <a:stretch/>
        </p:blipFill>
        <p:spPr>
          <a:xfrm>
            <a:off x="7380360" y="4221000"/>
            <a:ext cx="1152360" cy="11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Symbolische Regression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Problem mit 10 Variabl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Ziel ist es die Beziehungen dieser 10 Variablen zu find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1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67BC366-98BD-49B6-B56D-A654CE3BCC5A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GP Standard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2464E31-0F69-43F4-B527-D9C6BB85FB6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3" descr=""/>
          <p:cNvPicPr/>
          <p:nvPr/>
        </p:nvPicPr>
        <p:blipFill>
          <a:blip r:embed="rId1"/>
          <a:stretch/>
        </p:blipFill>
        <p:spPr>
          <a:xfrm>
            <a:off x="611280" y="1630440"/>
            <a:ext cx="695628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– Poly10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124B5501-8845-4767-8D2B-32C068199211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55560" y="1616040"/>
            <a:ext cx="690732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CTS - Analys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gnet sich sehr gut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t die Lösung Schritt für Schritt au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 Vergleich zu GP mehr Evaluierungen pro Seku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Probleme (u.a. bei Optimierungsproble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eigt dazu früh in lokale Optima zu fallen und dort „sitzen“ zu blei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Verbesserungs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rnt nicht aus guten bzw. schlechten Entscheid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4903C792-C5E6-41E5-BA3B-DC25B2FD8F78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Thema und Aufgabe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Stand der Technik von MCTS für Optimierungsaufgaben erarbei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Welche Algorithmenvarianten gibt 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Für welche Optimierungsaufgaben wurden diese erfolgreich eingesetz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Es sollen Optimierungsaufgaben, deren Lösungsraum aus einer Grammatik besteht, betrachtet wer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000000"/>
                </a:solidFill>
                <a:latin typeface="Arial"/>
              </a:rPr>
              <a:t>Implementieren und ausführliches Testen des MCTS-Algorithmus für grammatikbasierte Optimierungsaufgab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00"/>
              </a:spcBef>
              <a:buSzPct val="11322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2567062-C8BF-4B12-B4AF-A79921BC09DB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Einleitu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uristischer Algorithmus für Entscheidungsprobl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Wurde 2006 entwickelt für Computer 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rstmalige Kombination aus Baumsuch-Algorithmen und Monte Carlo-Metho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KI für Computer- und Brett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FAEB8D8-98A0-4BF6-B00B-50DBCCEC328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" descr="http://www.angi-pangi.de/bilder/spiel19.png"/>
          <p:cNvPicPr/>
          <p:nvPr/>
        </p:nvPicPr>
        <p:blipFill>
          <a:blip r:embed="rId9"/>
          <a:stretch/>
        </p:blipFill>
        <p:spPr>
          <a:xfrm>
            <a:off x="6588000" y="3933720"/>
            <a:ext cx="238140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</a:t>
            </a:r>
            <a:br>
              <a:rPr sz="3000"/>
            </a:b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066920" y="1728720"/>
            <a:ext cx="412596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ösungsraum wird als Baum dargestel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Jeder Knoten steht für einen Spielzug bzw. Entscheid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aum wird in jeder Iteration erweit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6910B298-7C17-4ACA-ABC6-4C14F9F49542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4"/>
          <a:stretch/>
        </p:blipFill>
        <p:spPr>
          <a:xfrm>
            <a:off x="755640" y="1916280"/>
            <a:ext cx="310500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Monte Carlo Tree Search 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3C036C53-0868-43F0-8374-CE46EE47196E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18208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Regelwerke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elektion des „Start“-Knoten für eine It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65280" indent="-2365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Default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Zuständig für Simulationsproz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infachste Form basiert auf reiner Zufalls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6746A11-44BF-4DA5-B016-ECD7F6B749E6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Upper Confidence Bound (UCB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UCB1 Tree-Poli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er durchschnittliche Qualitätsw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ist die Anzahl an Selekti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Inten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23000" indent="-30600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de-AT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 beeinflusst Diversifik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FD96D10D-5CAA-45AA-9FD3-C1D705924D34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3" descr=""/>
          <p:cNvPicPr/>
          <p:nvPr/>
        </p:nvPicPr>
        <p:blipFill>
          <a:blip r:embed="rId5"/>
          <a:stretch/>
        </p:blipFill>
        <p:spPr>
          <a:xfrm>
            <a:off x="6227640" y="1989000"/>
            <a:ext cx="1884600" cy="2240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6"/>
          <a:stretch/>
        </p:blipFill>
        <p:spPr>
          <a:xfrm>
            <a:off x="971640" y="2475000"/>
            <a:ext cx="3914640" cy="1266840"/>
          </a:xfrm>
          <a:prstGeom prst="rect">
            <a:avLst/>
          </a:prstGeom>
          <a:ln w="0">
            <a:noFill/>
          </a:ln>
        </p:spPr>
      </p:pic>
      <p:sp>
        <p:nvSpPr>
          <p:cNvPr id="335" name="Straight Connector 6"/>
          <p:cNvSpPr/>
          <p:nvPr/>
        </p:nvSpPr>
        <p:spPr>
          <a:xfrm>
            <a:off x="1238400" y="4149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1238400" y="4941720"/>
            <a:ext cx="142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en einer Optimierungsaufgabe mit M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91640" y="1728720"/>
            <a:ext cx="7401240" cy="40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timierungsaufgabe als Grammatik da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lle möglichen Sätze einer Grammatik können als Baumstruktur repräsentie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adurch ist ein Suchraum für MCTS gegeb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31248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Einfaches Beispiel (RoyalSymbol):</a:t>
            </a:r>
            <a:br>
              <a:rPr sz="2000"/>
            </a:b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Ziel ist es einen Satz zu generieren mit einer maximalen Anzahl an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AT" sz="2200" spc="-1" strike="noStrike">
                <a:solidFill>
                  <a:srgbClr val="000000"/>
                </a:solidFill>
                <a:latin typeface="Arial"/>
              </a:rPr>
              <a:t>‘s und einer maximalen Satzlänge </a:t>
            </a:r>
            <a:r>
              <a:rPr b="0" i="1" lang="de-AT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de-AT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B61C2415-8FE0-4803-A299-4624470AA94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63280" y="406080"/>
            <a:ext cx="5886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000" spc="-1" strike="noStrike">
                <a:solidFill>
                  <a:srgbClr val="000000"/>
                </a:solidFill>
                <a:latin typeface="Arial"/>
              </a:rPr>
              <a:t>Lösungsansatz des MCTS-Algorithmu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26560" y="1628280"/>
            <a:ext cx="740124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) :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S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de-AT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s werden baumartig Sätze erzeug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erminale Symbole werden als Knoten dargestel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84120" indent="-277920">
              <a:lnSpc>
                <a:spcPct val="11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CTS löst diese Aufgabe relativ simpel ohne domainspezifisches Wiss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900000" y="6261120"/>
            <a:ext cx="583560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043680" y="62611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buClr>
                <a:srgbClr val="ffff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Seite </a:t>
            </a:r>
            <a:fld id="{980FC529-8D77-47C5-B222-B531F88B665D}" type="slidenum"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 von 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4"/>
          <a:stretch/>
        </p:blipFill>
        <p:spPr>
          <a:xfrm>
            <a:off x="1467000" y="2133720"/>
            <a:ext cx="5154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1T07:23:09Z</dcterms:created>
  <dc:creator>Alex</dc:creator>
  <dc:description/>
  <dc:language>en-US</dc:language>
  <cp:lastModifiedBy>Alexander Balleitner</cp:lastModifiedBy>
  <dcterms:modified xsi:type="dcterms:W3CDTF">2015-06-12T09:00:55Z</dcterms:modified>
  <cp:revision>223</cp:revision>
  <dc:subject/>
  <dc:title>Folie 1</dc:title>
</cp:coreProperties>
</file>