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34FB-68A0-4B79-B598-88F095395D9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Wurde 2006 von einem Forscherteam entwicke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A89D-4E98-42B6-8E15-7CBB810C1EB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1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2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3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D17D-E8DB-4C3F-A42E-90BB1080185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= eine It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9C7A-221B-4D6D-ABF7-2CB807CFA3C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UCB berechnet Qualität eines Knoten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28FB-9A80-4B48-B16B-CC912B1FCB6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F86E-5E49-46B4-9BB6-CB7A120DEB5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3112-A584-4E88-B5AA-A1316E01B3A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50B10-F6DD-4272-8F75-0D69BE5AB0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FB34C-C4BF-4C1B-ABEF-304C2A2816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30DE8-DE19-461F-BCCE-F32B46116B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BC94F-307C-41C5-9F15-210AC47922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485EC-5111-4A0F-ADE5-B4BA80064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8CE7C-4249-4A98-962C-C5560B8BBF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FD3EF-7A01-495A-8573-8877199160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AC4F6-3183-4647-BBAB-8650EC27B5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BEE68-EB51-418E-B534-7DB27D8CC9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A6F88-8967-456A-8A79-8B8458A071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09AD6-5704-4244-890C-76B2C7F5C8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742EF-7B0F-4DA3-A30A-8DD932A504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3C198-E055-4262-863A-F0EA9AC21B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092E1-BE51-427C-A2D7-D4918D09DB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AB6D8-3C02-4D23-93EE-8B709A727D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93B87-D045-46CA-9502-EC3AD723FA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59F30-BE9D-46B8-B979-3559E1C3BE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309E0-2616-4C5A-9222-DA62261CA6E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333A-D483-489A-9170-D055642A087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1046-362B-4E3A-967D-959B332F927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BC38-3F5F-4B6F-B4EC-14F5D1874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6E967-0358-4A07-A731-69AD46261A0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6FDA-97BD-4432-810D-2FAC5A461A7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F1ED-8455-40EF-85C0-8EA299D0391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7564-19D6-4DCB-8F7A-B28A7A74C57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3B38-D9E9-48E6-AA4B-1D4A5722B43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1159-83A6-4141-BC14-1E95960088B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9C83-F88D-4EF4-B4BE-A4F2C251FFD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F882-DF0C-490B-B994-C860ACEE47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994C-413B-491E-BF44-2ECBDFEC6CC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70D0-0E4E-43B1-B3F0-EB0AB7D52BE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C369AC-0B5F-44D4-8C76-B9350BBED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C778C-336F-4CB8-87C7-71EFF821137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D3EFB0-8639-4DA0-98AB-AF32AB64AB1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B17F6-33A2-4FF5-BE94-0C688F9FEA8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7B8943-19F1-41D7-BFB6-591A977F1AA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AD8CD0-D3CE-46FA-A9B9-55CACB152C6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6EE723-B3FD-4281-9C66-B6270F0DD67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5E8AF3-B412-4FB9-A437-19E1F20555F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D47145-3434-4D07-9657-EDDC153883B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F681D5-76A3-4102-8881-B0736BFA184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4A8462-1C12-40F5-B31B-1A408F6D6CF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B49B9B-FFD8-42AB-B6EC-B1FCCFD4F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65918-4444-47F9-B3EF-7CC2BF2F0A5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9B886A-D515-4DC9-AB20-D05DA61D953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1C51DE-B911-4C65-AE50-3B3A95E029A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5AA61E-8487-4979-9A62-0077018E1F2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5E1A18-30BE-4844-A185-6D437CD0763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928094-DD47-4D59-90E6-706BAE7F915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0D4F62-A192-4C81-BEB1-371CA25D364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9AD64D-D1C8-4053-AEB5-AF1DCD7665A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2E1DF3-DA50-44CE-91CA-4327D872D6A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D00294-A510-496E-842F-599B58F3119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022B8E-8C60-4F0A-AF4C-F61D7D887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95450-9A7B-42A8-9C66-06C3D6BD339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2E6286-8AA3-488A-BE93-3C7396C45A9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541550-9F84-4785-B358-1B7551CDE52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A68993-85AC-4ECA-9343-02AF882F594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E140B-7B1D-4814-9AE3-6922BB231EB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FA319-E2A4-4829-9DC7-439FBABDC64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6D331-8EDB-4CBA-BB7D-29D4E5D65B4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B52C0-FCBD-43A8-8877-92B160CF015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60F9F-905E-46AE-873E-CFC9A240662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C968A-9FB8-47A1-A5D8-EE66CA8BCE1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566F2-14E2-43ED-97B0-FECD7D31F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5E7F9-F208-4BC7-8382-6BBC704598B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20AA2-F3AD-4C35-80C8-EDE116086B4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2F577-38A4-4E38-9BED-700E8969971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F1457-F929-4FE1-9751-B840900EB56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E4C13-CB93-4FBB-A5EE-DF283F05D7E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91EB9-062E-4B64-8BA9-754FC1B50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A2D82-872E-48B0-AFF0-A35B8416D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2AEC9179-9371-4CD1-B147-56D129A576C4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1" descr="FHO_Students_PPT_Hagenberg_Bildleiste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9"/>
          <p:cNvSpPr/>
          <p:nvPr/>
        </p:nvSpPr>
        <p:spPr>
          <a:xfrm>
            <a:off x="0" y="5929200"/>
            <a:ext cx="842976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3" descr="FHO_HB_Students-PPT_Fußzeile"/>
          <p:cNvPicPr/>
          <p:nvPr/>
        </p:nvPicPr>
        <p:blipFill>
          <a:blip r:embed="rId5"/>
          <a:stretch/>
        </p:blipFill>
        <p:spPr>
          <a:xfrm>
            <a:off x="0" y="5923080"/>
            <a:ext cx="8039160" cy="399960"/>
          </a:xfrm>
          <a:prstGeom prst="rect">
            <a:avLst/>
          </a:prstGeom>
          <a:ln w="0">
            <a:noFill/>
          </a:ln>
        </p:spPr>
      </p:pic>
      <p:sp>
        <p:nvSpPr>
          <p:cNvPr id="47" name="Rechteck 11"/>
          <p:cNvSpPr/>
          <p:nvPr/>
        </p:nvSpPr>
        <p:spPr>
          <a:xfrm>
            <a:off x="6572160" y="214200"/>
            <a:ext cx="21430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0" y="6578640"/>
            <a:ext cx="9144000" cy="279360"/>
          </a:xfrm>
          <a:prstGeom prst="rect">
            <a:avLst/>
          </a:prstGeom>
          <a:solidFill>
            <a:srgbClr val="9d0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1100160" y="6594480"/>
            <a:ext cx="34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Publikation von Studierenden der FH O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4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6768351D-1D13-450B-BEAB-AA01E7E6FCC8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5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6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DCAA6BFA-6955-4AFA-BFC6-77E6C7CD6C59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7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CBDA9A4C-07E3-445C-8D6E-FE5D21BA6285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430429C8-5000-4E88-9C8F-87B46220A167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A271B698-7FD0-411E-9724-612DA0AA6942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5600" y="4143240"/>
            <a:ext cx="684072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nte Carlo Tree Search für Optim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55240" y="4870080"/>
            <a:ext cx="6836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exander Balleit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ethodi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gleich zur Genetischen Programm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kandidaten werden ebenfalls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m Beispiel bei der Symbolischen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n mit MCTS und Genetischer Programmierung lö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erformanz und Qualität der Lösungen miteinander vergl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B7316F6-F6A4-42C5-895F-ACF0BE79192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9A13524-6B1B-4DB1-933D-63315EBBAF0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5534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F36D74E-4459-49FA-B9C0-462F9588CC3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437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anta Fe Trail -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91640" y="1728720"/>
            <a:ext cx="7401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möglichst schnell die gesamte Nahrung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rtposition ist fest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perationen der Amei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Vorwä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link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recht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CB61E89B-390E-4220-AEFA-9997FBCDB46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http://upload.wikimedia.org/wikipedia/commons/b/ba/SantaFeTrail.gif"/>
          <p:cNvPicPr/>
          <p:nvPr/>
        </p:nvPicPr>
        <p:blipFill>
          <a:blip r:embed="rId7"/>
          <a:stretch/>
        </p:blipFill>
        <p:spPr>
          <a:xfrm>
            <a:off x="5003640" y="2997360"/>
            <a:ext cx="27370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9C2569D-0647-40DF-8A3D-A172F76CA26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900000" y="1606680"/>
            <a:ext cx="6667560" cy="4059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29CCB224-C874-44EA-B278-2C0EFF83406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952560" y="1577880"/>
            <a:ext cx="6624720" cy="4083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Symbolische Regression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Problem mit 10 Variab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die Beziehungen dieser 10 Variablen zu fin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1B7FEB7-1529-468F-AD8C-05EEED49CF1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2E5B055-3525-4434-8B59-5A82FB503D6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611280" y="1630440"/>
            <a:ext cx="69562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B918CF2-B427-4178-A135-9359E67528B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655560" y="1616040"/>
            <a:ext cx="69073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Analy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gnet sich sehr gut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t die Lösung Schritt für Schritt 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m Vergleich zu GP mehr Evaluierungen pro Se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robleme (u.a. bei Optimierungsproble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eigt dazu früh in lokale Optima zu fallen und dort „sitzen“ zu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besserungs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ernt nicht aus guten bzw. schlechten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5A181AA-AE5D-494A-A3F2-5F7D322228B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Thema und Aufgab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nd der Technik von MCTS für Optimierungsaufgaben erarb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Welche Algorithmenvarianten gibt 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Für welche Optimierungsaufgaben wurden diese erfolgreich eingesetz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Es sollen Optimierungsaufgaben, deren Lösungsraum aus einer Grammatik besteht, betrachtet 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mplementieren und ausführliches Testen des MCTS-Algorithmus für grammatikbasierte Optimierungsauf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62E1E0C-212A-4387-BABA-D9ED2327B97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euristischer Algorithmus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urde 2006 entwickelt für Computer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rstmalige Kombination aus Baumsuch-Algorithmen und Monte Carlo-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I für Computer- und Brett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C7761C3B-4576-438C-864F-C92D6D6932B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http://www.angi-pangi.de/bilder/spiel19.png"/>
          <p:cNvPicPr/>
          <p:nvPr/>
        </p:nvPicPr>
        <p:blipFill>
          <a:blip r:embed="rId9"/>
          <a:stretch/>
        </p:blipFill>
        <p:spPr>
          <a:xfrm>
            <a:off x="6588000" y="3933720"/>
            <a:ext cx="2381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66920" y="1728720"/>
            <a:ext cx="4125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raum wird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Jeder Knoten steht für einen Spielzug bzw. Entschei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m wird in jeder Iteration erweit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3B43C31C-739C-441A-8FDE-2CA23ACE5DE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4"/>
          <a:stretch/>
        </p:blipFill>
        <p:spPr>
          <a:xfrm>
            <a:off x="755640" y="1916280"/>
            <a:ext cx="3105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 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DF5FF1A-37C4-4797-BDF4-757BEDC7798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1820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Regelwerke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elektion des „Start“-Knoten für eine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Default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 Simulationsproz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nfachste Form basiert auf reiner Zufalls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C72E8E2-25E0-48AC-8A4D-D7166161E08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Upper Confidence Bound (UCB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UCB1 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er durchschnittliche Qualitäts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ie Anzahl an Sele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338E508D-7121-4A85-A0F9-1075E342C92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5"/>
          <a:stretch/>
        </p:blipFill>
        <p:spPr>
          <a:xfrm>
            <a:off x="6227640" y="1989000"/>
            <a:ext cx="1884600" cy="2240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971640" y="2475000"/>
            <a:ext cx="39146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Straight Connector 6"/>
          <p:cNvSpPr/>
          <p:nvPr/>
        </p:nvSpPr>
        <p:spPr>
          <a:xfrm>
            <a:off x="1238400" y="4149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1238400" y="4941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en einer Optimierungsaufgabe mit M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 als Grammatik da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lle möglichen Sätze einer Grammatik können als Baumstruktur repräsentie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adurch ist ein Suchraum für MCTS 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Einfaches Beispiel (RoyalSymbol):</a:t>
            </a:r>
            <a:br>
              <a:rPr sz="20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Ziel ist es einen Satz zu generieren mit einer maximalen Anzahl an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‘s und einer maximalen Satzlänge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de-A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71CE85F-D8AA-4E5B-B265-B346B0FDA31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ungsansatz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560" y="1628280"/>
            <a:ext cx="7401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s werden baumartig Sätze erzeu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erminale Symbole werden als Knoten dargeste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CTS löst diese Aufgabe relativ simpel ohne domainspezifisches Wi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97D311E-BD0C-4861-B87F-23CEFB9DB17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4"/>
          <a:stretch/>
        </p:blipFill>
        <p:spPr>
          <a:xfrm>
            <a:off x="1467000" y="2133720"/>
            <a:ext cx="5154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7:23:09Z</dcterms:created>
  <dc:creator>Alex</dc:creator>
  <dc:description/>
  <dc:language>en-US</dc:language>
  <cp:lastModifiedBy>Alexander Balleitner</cp:lastModifiedBy>
  <dcterms:modified xsi:type="dcterms:W3CDTF">2015-06-12T09:00:55Z</dcterms:modified>
  <cp:revision>223</cp:revision>
  <dc:subject/>
  <dc:title>Folie 1</dc:title>
</cp:coreProperties>
</file>