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7804-5250-481C-B1B7-CD4C39E62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378A-4C66-445F-B44C-154353BF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A396-E9DF-4444-A020-9D218C63A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3DE1-45DF-4309-8969-5EDC0CCFD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BB97-E179-4F9E-8651-D6A3B3563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470E-AE84-4E32-9B73-3DD688A6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EBD1-458E-4048-B1F7-E0840104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5034-C63A-4BDA-8C45-A79B267D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AE0D-DDDF-488D-A987-70540C90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1843-8313-4ABC-9ECE-A74A538D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147F-43DC-47E6-AE7E-55793D4E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C88B-FE36-4AD2-ACB2-52049227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E43E-8D59-43D6-A527-76BD9034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6AC2-A06C-4B61-95A4-4C764D38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B0B0-11C9-45F8-B6CE-BFEA71DE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FDDC-F1EC-45E6-BBEF-25D3D8426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9900-1719-428A-967F-C47F67353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9DFC9-617B-4EE0-89A8-B8EDA8F25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70AD8-C742-477B-9B6D-1698728B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3C1F0-9CE8-4703-BC83-784B64E9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5F464-A01E-4B82-ABFB-65BAE7FF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2C928-3036-46EA-8A5D-FA311A8A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F8D2-52C5-4F7D-99CF-330605F2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EBFEF-91C0-4894-95C9-30619D5F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34CF5-3DD4-4F08-A1E9-5BEC7C95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89673-570C-4C52-B137-EC7EB6EC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58379-390A-4B3A-93B0-62954CC7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991D8-A7B0-4719-ADD8-26183DDD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B54E0-D217-4C78-8A51-14EF8A111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9B50D-9CB4-4328-81AC-E2F01191B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E0167-6965-4804-82C6-9FF13FEB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C57A8-66F8-4EAF-B1F2-6BCEADE7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DC173-A35B-4404-9DF8-2D3EAEC5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10B1-EA82-411A-8ACB-E7590EFA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E11BC-A69E-49CE-826B-A7A7BC71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5979B-60F1-41D9-81AF-6F2B53C1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37042-9F62-47BE-A41F-AC975EEC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21EE3-2910-4986-B8C1-9523E912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1D178-5A24-4B95-994B-FA89C232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3B2AA-75FC-4BDC-8719-1E7DFEB4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93FB6-FB11-40A6-90FB-E9FEB317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4EFC6-FD53-476A-8AA6-BAD8C06F6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0E7DB-FC2C-44B7-8AD6-523F62BD4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75850-B66A-4190-87D9-E9CA5BF55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CF34-0758-4CF3-BE7C-1566BD81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8012B-9111-46DC-B37D-40B4377B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F6BB8-59E9-457F-83B2-38BF9387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3FC3A-936F-4040-983D-0B960782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C5F8E-8A96-456B-BC0B-3261E20D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BF15E-695E-4DBF-B115-2FA57DD7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6E53F-0BEE-4C15-AFC5-F7B89091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B0DEE-F3EB-4BBF-AAA9-F7D7F46C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58FEB-E2AE-40A1-A5BB-76DD576B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A70C4-8DCC-4039-A48C-1AB375FF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965B5-1617-4CA0-822D-8ADFED795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A206-E76E-456B-9BC7-3B75E6E4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0C531-A812-43CE-A7CE-01A0D52DF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1222B-74AE-499B-8D7E-4A066BA6F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93934-790B-4079-B4D1-D87B8AC1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6D31B-53E9-473F-AF66-6CF90665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AC8D0-694A-4A89-B0EC-B264F50E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68CE2-3876-4FA0-B5D4-A7038689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08494-4B1A-4A70-8800-C89F38AC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BB022-FF7D-4242-B58B-6083C869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BA778-28DC-4043-AE86-2F3A929A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39AB9-CBDA-4CF7-A911-78E2A1E6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AF46-FD84-4F96-8E90-E696F0BC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3EC10-C964-4665-A491-4AA3C01A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EE122-9144-46C9-8911-F6B0DB7E0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0F8B2-9A84-442A-B07A-06A1FDC90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7069-93AA-458A-B08F-B1EE5E06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0733-7963-4DF9-9DDF-59C50748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DC04-4ECE-4F52-B60C-901C7A65E57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DBC6-F7E6-4549-A7C7-43607817C87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1BFF-E309-438F-B642-70029F85A85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0D0F-81AD-4567-AB9E-0B30C3B5D32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9FAC-2686-4152-BED4-A662D539E1A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98D0-07D3-44D7-91F1-16D1ADC1708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71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HeuristicL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Advanced 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ustom serialization through proper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oad old version: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Name=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faultValue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Rectangle 9"/>
          <p:cNvGrpSpPr/>
          <p:nvPr/>
        </p:nvGrpSpPr>
        <p:grpSpPr>
          <a:xfrm>
            <a:off x="781200" y="3071880"/>
            <a:ext cx="6441840" cy="2469960"/>
            <a:chOff x="781200" y="3071880"/>
            <a:chExt cx="6441840" cy="2469960"/>
          </a:xfrm>
        </p:grpSpPr>
        <p:pic>
          <p:nvPicPr>
            <p:cNvPr id="373" name="Rectangle 9" descr=""/>
            <p:cNvPicPr/>
            <p:nvPr/>
          </p:nvPicPr>
          <p:blipFill>
            <a:blip r:embed="rId1"/>
            <a:stretch/>
          </p:blipFill>
          <p:spPr>
            <a:xfrm>
              <a:off x="781200" y="3071880"/>
              <a:ext cx="6441840" cy="24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785880" y="3075120"/>
              <a:ext cx="642924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imeTes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Name=</a:t>
              </a:r>
              <a:r>
                <a:rPr b="0" lang="de-AT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"Time"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 DefaultValue=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Now)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Persistence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return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=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.Now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Hack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ZIP Fi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data.xml</a:t>
            </a: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serial object grap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Tags: 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PRIMITIV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ERENC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U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Attributes: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am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type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cache.xml</a:t>
            </a: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mapping o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Id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 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AssemblyQualified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tension &amp; Customiz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re efficient serialization through new custom serializers (e.g. compact array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troduce new format by replacing generator and pars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bugSt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 mechains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isabl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add new generic composite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Primitiv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0" name="Rectangle 3"/>
          <p:cNvGrpSpPr/>
          <p:nvPr/>
        </p:nvGrpSpPr>
        <p:grpSpPr>
          <a:xfrm>
            <a:off x="1994040" y="2567160"/>
            <a:ext cx="5510160" cy="2900160"/>
            <a:chOff x="1994040" y="2567160"/>
            <a:chExt cx="5510160" cy="2900160"/>
          </a:xfrm>
        </p:grpSpPr>
        <p:pic>
          <p:nvPicPr>
            <p:cNvPr id="381" name="Rectangle 3" descr=""/>
            <p:cNvPicPr/>
            <p:nvPr/>
          </p:nvPicPr>
          <p:blipFill>
            <a:blip r:embed="rId1"/>
            <a:stretch/>
          </p:blipFill>
          <p:spPr>
            <a:xfrm>
              <a:off x="1994040" y="2567160"/>
              <a:ext cx="5510160" cy="29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000160" y="2571840"/>
              <a:ext cx="5500800" cy="28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ring2XmlFormatter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PrimitiveSerializerBas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ormat(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s)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arse(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.Data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4" name="Rectangle 4"/>
          <p:cNvGrpSpPr/>
          <p:nvPr/>
        </p:nvGrpSpPr>
        <p:grpSpPr>
          <a:xfrm>
            <a:off x="493560" y="1414440"/>
            <a:ext cx="7796520" cy="5089680"/>
            <a:chOff x="493560" y="1414440"/>
            <a:chExt cx="7796520" cy="5089680"/>
          </a:xfrm>
        </p:grpSpPr>
        <p:pic>
          <p:nvPicPr>
            <p:cNvPr id="385" name="Rectangle 4" descr=""/>
            <p:cNvPicPr/>
            <p:nvPr/>
          </p:nvPicPr>
          <p:blipFill>
            <a:blip r:embed="rId1"/>
            <a:stretch/>
          </p:blipFill>
          <p:spPr>
            <a:xfrm>
              <a:off x="493560" y="1414440"/>
              <a:ext cx="7796520" cy="50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500040" y="1422360"/>
              <a:ext cx="7786800" cy="48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erable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Interfac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ypeof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.FullName)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) 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o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,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Activ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CreateInstance(type,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ru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tags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var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s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Method(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Add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").Invoke(instance,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ew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tag.Value }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8" name="Rectangle 2"/>
          <p:cNvGrpSpPr/>
          <p:nvPr/>
        </p:nvGrpSpPr>
        <p:grpSpPr>
          <a:xfrm>
            <a:off x="566640" y="1725480"/>
            <a:ext cx="7510680" cy="4351320"/>
            <a:chOff x="566640" y="1725480"/>
            <a:chExt cx="7510680" cy="4351320"/>
          </a:xfrm>
        </p:grpSpPr>
        <p:pic>
          <p:nvPicPr>
            <p:cNvPr id="389" name="Rectangle 2" descr=""/>
            <p:cNvPicPr/>
            <p:nvPr/>
          </p:nvPicPr>
          <p:blipFill>
            <a:blip r:embed="rId1"/>
            <a:stretch/>
          </p:blipFill>
          <p:spPr>
            <a:xfrm>
              <a:off x="566640" y="1725480"/>
              <a:ext cx="75106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571680" y="1731960"/>
              <a:ext cx="7500600" cy="42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a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Format(obj.GetType(), obj, 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G"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it = metaInfo.GetEnumerator();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t.MoveNext(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Parse(t, 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it.Current.Value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elements, Type t) {}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Version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ull version information is sto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all back to compatible 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ame major &amp; minor version numb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ewer build &amp; revi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ossibility of independent archi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ntain all required assembl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serialized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used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Next Step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opulate/GetXML()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build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engi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Motiv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memory press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D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ingle pa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linear pro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developer eff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interfaces to impl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dularity &amp; flexibi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X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any interface (i.e.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ne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546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river: serializer (deserializ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versal of object grap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object graph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ree/stre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object analy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back end: generator (pars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object information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file/d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Overview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61" name="Down Arrow 11"/>
          <p:cNvGrpSpPr/>
          <p:nvPr/>
        </p:nvGrpSpPr>
        <p:grpSpPr>
          <a:xfrm>
            <a:off x="974880" y="2189160"/>
            <a:ext cx="688680" cy="3254400"/>
            <a:chOff x="974880" y="2189160"/>
            <a:chExt cx="688680" cy="3254400"/>
          </a:xfrm>
        </p:grpSpPr>
        <p:pic>
          <p:nvPicPr>
            <p:cNvPr id="262" name="Down Arrow 11" descr=""/>
            <p:cNvPicPr/>
            <p:nvPr/>
          </p:nvPicPr>
          <p:blipFill>
            <a:blip r:embed="rId1"/>
            <a:stretch/>
          </p:blipFill>
          <p:spPr>
            <a:xfrm>
              <a:off x="974880" y="2189160"/>
              <a:ext cx="6886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197000" y="2286000"/>
              <a:ext cx="249120" cy="29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Down Arrow 13"/>
          <p:cNvGrpSpPr/>
          <p:nvPr/>
        </p:nvGrpSpPr>
        <p:grpSpPr>
          <a:xfrm>
            <a:off x="7047000" y="2189160"/>
            <a:ext cx="682560" cy="3254400"/>
            <a:chOff x="7047000" y="2189160"/>
            <a:chExt cx="682560" cy="3254400"/>
          </a:xfrm>
        </p:grpSpPr>
        <p:pic>
          <p:nvPicPr>
            <p:cNvPr id="265" name="Down Arrow 13" descr=""/>
            <p:cNvPicPr/>
            <p:nvPr/>
          </p:nvPicPr>
          <p:blipFill>
            <a:blip r:embed="rId2"/>
            <a:stretch/>
          </p:blipFill>
          <p:spPr>
            <a:xfrm>
              <a:off x="7047000" y="2189160"/>
              <a:ext cx="68256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0800000">
              <a:off x="7269120" y="2410920"/>
              <a:ext cx="249120" cy="29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de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Rectangle 5"/>
          <p:cNvGrpSpPr/>
          <p:nvPr/>
        </p:nvGrpSpPr>
        <p:grpSpPr>
          <a:xfrm>
            <a:off x="1616040" y="2189160"/>
            <a:ext cx="5261040" cy="901800"/>
            <a:chOff x="1616040" y="2189160"/>
            <a:chExt cx="5261040" cy="901800"/>
          </a:xfrm>
        </p:grpSpPr>
        <p:pic>
          <p:nvPicPr>
            <p:cNvPr id="268" name="Rectangle 5" descr=""/>
            <p:cNvPicPr/>
            <p:nvPr/>
          </p:nvPicPr>
          <p:blipFill>
            <a:blip r:embed="rId3"/>
            <a:stretch/>
          </p:blipFill>
          <p:spPr>
            <a:xfrm>
              <a:off x="1616040" y="2189160"/>
              <a:ext cx="52610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714680" y="2286000"/>
              <a:ext cx="50720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live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Rectangle 7"/>
          <p:cNvGrpSpPr/>
          <p:nvPr/>
        </p:nvGrpSpPr>
        <p:grpSpPr>
          <a:xfrm>
            <a:off x="4900680" y="2901960"/>
            <a:ext cx="2189160" cy="762120"/>
            <a:chOff x="4900680" y="2901960"/>
            <a:chExt cx="2189160" cy="762120"/>
          </a:xfrm>
        </p:grpSpPr>
        <p:pic>
          <p:nvPicPr>
            <p:cNvPr id="271" name="Rectangle 7" descr=""/>
            <p:cNvPicPr/>
            <p:nvPr/>
          </p:nvPicPr>
          <p:blipFill>
            <a:blip r:embed="rId4"/>
            <a:stretch/>
          </p:blipFill>
          <p:spPr>
            <a:xfrm>
              <a:off x="4900680" y="290196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000760" y="3000240"/>
              <a:ext cx="20001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composi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Rectangle 6"/>
          <p:cNvGrpSpPr/>
          <p:nvPr/>
        </p:nvGrpSpPr>
        <p:grpSpPr>
          <a:xfrm>
            <a:off x="1616040" y="2901960"/>
            <a:ext cx="3260880" cy="762120"/>
            <a:chOff x="1616040" y="2901960"/>
            <a:chExt cx="3260880" cy="762120"/>
          </a:xfrm>
        </p:grpSpPr>
        <p:pic>
          <p:nvPicPr>
            <p:cNvPr id="274" name="Rectangle 6" descr=""/>
            <p:cNvPicPr/>
            <p:nvPr/>
          </p:nvPicPr>
          <p:blipFill>
            <a:blip r:embed="rId5"/>
            <a:stretch/>
          </p:blipFill>
          <p:spPr>
            <a:xfrm>
              <a:off x="1616040" y="290196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714680" y="3000240"/>
              <a:ext cx="3071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er / deserializ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Rectangle 15"/>
          <p:cNvGrpSpPr/>
          <p:nvPr/>
        </p:nvGrpSpPr>
        <p:grpSpPr>
          <a:xfrm>
            <a:off x="1616040" y="3475080"/>
            <a:ext cx="5261040" cy="689040"/>
            <a:chOff x="1616040" y="3475080"/>
            <a:chExt cx="5261040" cy="689040"/>
          </a:xfrm>
        </p:grpSpPr>
        <p:pic>
          <p:nvPicPr>
            <p:cNvPr id="277" name="Rectangle 15" descr=""/>
            <p:cNvPicPr/>
            <p:nvPr/>
          </p:nvPicPr>
          <p:blipFill>
            <a:blip r:embed="rId6"/>
            <a:stretch/>
          </p:blipFill>
          <p:spPr>
            <a:xfrm>
              <a:off x="1616040" y="3475080"/>
              <a:ext cx="52610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1714680" y="3571920"/>
              <a:ext cx="5072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 toke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Rectangle 9"/>
          <p:cNvGrpSpPr/>
          <p:nvPr/>
        </p:nvGrpSpPr>
        <p:grpSpPr>
          <a:xfrm>
            <a:off x="4900680" y="3975120"/>
            <a:ext cx="2189160" cy="762120"/>
            <a:chOff x="4900680" y="3975120"/>
            <a:chExt cx="2189160" cy="762120"/>
          </a:xfrm>
        </p:grpSpPr>
        <p:pic>
          <p:nvPicPr>
            <p:cNvPr id="280" name="Rectangle 9" descr=""/>
            <p:cNvPicPr/>
            <p:nvPr/>
          </p:nvPicPr>
          <p:blipFill>
            <a:blip r:embed="rId7"/>
            <a:stretch/>
          </p:blipFill>
          <p:spPr>
            <a:xfrm>
              <a:off x="4900680" y="397512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000760" y="4071960"/>
              <a:ext cx="20001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rimiti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Rectangle 8"/>
          <p:cNvGrpSpPr/>
          <p:nvPr/>
        </p:nvGrpSpPr>
        <p:grpSpPr>
          <a:xfrm>
            <a:off x="1616040" y="3975120"/>
            <a:ext cx="3260880" cy="762120"/>
            <a:chOff x="1616040" y="3975120"/>
            <a:chExt cx="3260880" cy="762120"/>
          </a:xfrm>
        </p:grpSpPr>
        <p:pic>
          <p:nvPicPr>
            <p:cNvPr id="283" name="Rectangle 8" descr=""/>
            <p:cNvPicPr/>
            <p:nvPr/>
          </p:nvPicPr>
          <p:blipFill>
            <a:blip r:embed="rId8"/>
            <a:stretch/>
          </p:blipFill>
          <p:spPr>
            <a:xfrm>
              <a:off x="1616040" y="397512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714680" y="4071960"/>
              <a:ext cx="3071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generator / pars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Rectangle 10"/>
          <p:cNvGrpSpPr/>
          <p:nvPr/>
        </p:nvGrpSpPr>
        <p:grpSpPr>
          <a:xfrm>
            <a:off x="1616040" y="4548240"/>
            <a:ext cx="5261040" cy="895320"/>
            <a:chOff x="1616040" y="4548240"/>
            <a:chExt cx="5261040" cy="895320"/>
          </a:xfrm>
        </p:grpSpPr>
        <p:pic>
          <p:nvPicPr>
            <p:cNvPr id="286" name="Rectangle 10" descr=""/>
            <p:cNvPicPr/>
            <p:nvPr/>
          </p:nvPicPr>
          <p:blipFill>
            <a:blip r:embed="rId9"/>
            <a:stretch/>
          </p:blipFill>
          <p:spPr>
            <a:xfrm>
              <a:off x="1616040" y="4548240"/>
              <a:ext cx="52610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714680" y="4643280"/>
              <a:ext cx="5072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ersisted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Oval 3"/>
          <p:cNvSpPr/>
          <p:nvPr/>
        </p:nvSpPr>
        <p:spPr>
          <a:xfrm>
            <a:off x="785880" y="17287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Oval 4"/>
          <p:cNvSpPr/>
          <p:nvPr/>
        </p:nvSpPr>
        <p:spPr>
          <a:xfrm>
            <a:off x="785880" y="26575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5"/>
          <p:cNvSpPr/>
          <p:nvPr/>
        </p:nvSpPr>
        <p:spPr>
          <a:xfrm>
            <a:off x="785880" y="358632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6"/>
          <p:cNvSpPr/>
          <p:nvPr/>
        </p:nvSpPr>
        <p:spPr>
          <a:xfrm>
            <a:off x="1643040" y="451476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2500200" y="451476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8"/>
          <p:cNvSpPr/>
          <p:nvPr/>
        </p:nvSpPr>
        <p:spPr>
          <a:xfrm>
            <a:off x="1643040" y="365760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2500200" y="5372280"/>
            <a:ext cx="642960" cy="64260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6" name="Curved Connector 11"/>
          <p:cNvCxnSpPr>
            <a:stCxn id="289" idx="4"/>
            <a:endCxn id="290" idx="0"/>
          </p:cNvCxnSpPr>
          <p:nvPr/>
        </p:nvCxnSpPr>
        <p:spPr>
          <a:xfrm rot="5400000">
            <a:off x="964080" y="2515320"/>
            <a:ext cx="28620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7" name="Curved Connector 13"/>
          <p:cNvCxnSpPr>
            <a:stCxn id="290" idx="4"/>
            <a:endCxn id="291" idx="0"/>
          </p:cNvCxnSpPr>
          <p:nvPr/>
        </p:nvCxnSpPr>
        <p:spPr>
          <a:xfrm rot="5400000">
            <a:off x="963720" y="3444120"/>
            <a:ext cx="286560" cy="2160"/>
          </a:xfrm>
          <a:prstGeom prst="curvedConnector5">
            <a:avLst>
              <a:gd name="adj1" fmla="val 49937"/>
              <a:gd name="adj2" fmla="val 40000"/>
              <a:gd name="adj3" fmla="val 49937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8" name="Shape 15"/>
          <p:cNvCxnSpPr>
            <a:stCxn id="290" idx="6"/>
            <a:endCxn id="294" idx="0"/>
          </p:cNvCxnSpPr>
          <p:nvPr/>
        </p:nvCxnSpPr>
        <p:spPr>
          <a:xfrm>
            <a:off x="1428840" y="2979360"/>
            <a:ext cx="535680" cy="67860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9" name="Curved Connector 17"/>
          <p:cNvCxnSpPr>
            <a:stCxn id="294" idx="4"/>
            <a:endCxn id="292" idx="0"/>
          </p:cNvCxnSpPr>
          <p:nvPr/>
        </p:nvCxnSpPr>
        <p:spPr>
          <a:xfrm rot="5400000">
            <a:off x="1856520" y="4408560"/>
            <a:ext cx="215280" cy="2160"/>
          </a:xfrm>
          <a:prstGeom prst="curvedConnector5">
            <a:avLst>
              <a:gd name="adj1" fmla="val 49916"/>
              <a:gd name="adj2" fmla="val 40000"/>
              <a:gd name="adj3" fmla="val 49916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0" name="Curved Connector 19"/>
          <p:cNvCxnSpPr>
            <a:stCxn id="294" idx="4"/>
            <a:endCxn id="291" idx="4"/>
          </p:cNvCxnSpPr>
          <p:nvPr/>
        </p:nvCxnSpPr>
        <p:spPr>
          <a:xfrm flipV="1" rot="16200000">
            <a:off x="1499040" y="3835800"/>
            <a:ext cx="72000" cy="857880"/>
          </a:xfrm>
          <a:prstGeom prst="curvedConnector5">
            <a:avLst>
              <a:gd name="adj1" fmla="val -319597"/>
              <a:gd name="adj2" fmla="val 50000"/>
              <a:gd name="adj3" fmla="val -319597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1" name="Shape 22"/>
          <p:cNvCxnSpPr>
            <a:stCxn id="294" idx="6"/>
            <a:endCxn id="293" idx="0"/>
          </p:cNvCxnSpPr>
          <p:nvPr/>
        </p:nvCxnSpPr>
        <p:spPr>
          <a:xfrm>
            <a:off x="2286000" y="3979800"/>
            <a:ext cx="535680" cy="53568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2" name="Curved Connector 24"/>
          <p:cNvCxnSpPr>
            <a:stCxn id="293" idx="4"/>
            <a:endCxn id="295" idx="0"/>
          </p:cNvCxnSpPr>
          <p:nvPr/>
        </p:nvCxnSpPr>
        <p:spPr>
          <a:xfrm rot="5400000">
            <a:off x="2714040" y="5265720"/>
            <a:ext cx="2149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3" name="Shape 26"/>
          <p:cNvCxnSpPr>
            <a:stCxn id="295" idx="2"/>
            <a:endCxn id="292" idx="4"/>
          </p:cNvCxnSpPr>
          <p:nvPr/>
        </p:nvCxnSpPr>
        <p:spPr>
          <a:xfrm rot="10800000">
            <a:off x="1963800" y="5157000"/>
            <a:ext cx="536760" cy="537480"/>
          </a:xfrm>
          <a:prstGeom prst="curvedConnector2">
            <a:avLst/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4" name="Curved Connector 28"/>
          <p:cNvCxnSpPr>
            <a:stCxn id="295" idx="6"/>
            <a:endCxn id="294" idx="6"/>
          </p:cNvCxnSpPr>
          <p:nvPr/>
        </p:nvCxnSpPr>
        <p:spPr>
          <a:xfrm flipH="1" flipV="1">
            <a:off x="2285280" y="3979080"/>
            <a:ext cx="857880" cy="1715400"/>
          </a:xfrm>
          <a:prstGeom prst="curvedConnector5">
            <a:avLst>
              <a:gd name="adj1" fmla="val -26658"/>
              <a:gd name="adj2" fmla="val 50000"/>
              <a:gd name="adj3" fmla="val -2665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5" name="Curved Connector 30"/>
          <p:cNvCxnSpPr>
            <a:stCxn id="293" idx="6"/>
            <a:endCxn id="289" idx="6"/>
          </p:cNvCxnSpPr>
          <p:nvPr/>
        </p:nvCxnSpPr>
        <p:spPr>
          <a:xfrm flipH="1" flipV="1">
            <a:off x="1428480" y="2050200"/>
            <a:ext cx="1715040" cy="2786760"/>
          </a:xfrm>
          <a:prstGeom prst="curvedConnector5">
            <a:avLst>
              <a:gd name="adj1" fmla="val -13331"/>
              <a:gd name="adj2" fmla="val 50000"/>
              <a:gd name="adj3" fmla="val -13331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6" name="Curved Connector 35"/>
          <p:cNvCxnSpPr>
            <a:stCxn id="293" idx="6"/>
            <a:endCxn id="294" idx="6"/>
          </p:cNvCxnSpPr>
          <p:nvPr/>
        </p:nvCxnSpPr>
        <p:spPr>
          <a:xfrm flipH="1" flipV="1">
            <a:off x="2285280" y="3979080"/>
            <a:ext cx="857880" cy="857880"/>
          </a:xfrm>
          <a:prstGeom prst="curvedConnector5">
            <a:avLst>
              <a:gd name="adj1" fmla="val -54408"/>
              <a:gd name="adj2" fmla="val 50000"/>
              <a:gd name="adj3" fmla="val -5440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sp>
        <p:nvSpPr>
          <p:cNvPr id="307" name="Rectangle 38"/>
          <p:cNvSpPr/>
          <p:nvPr/>
        </p:nvSpPr>
        <p:spPr>
          <a:xfrm>
            <a:off x="5072040" y="1500120"/>
            <a:ext cx="3500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2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6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7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Right Arrow 40"/>
          <p:cNvGrpSpPr/>
          <p:nvPr/>
        </p:nvGrpSpPr>
        <p:grpSpPr>
          <a:xfrm>
            <a:off x="3913200" y="3267000"/>
            <a:ext cx="1530360" cy="970200"/>
            <a:chOff x="3913200" y="3267000"/>
            <a:chExt cx="1530360" cy="970200"/>
          </a:xfrm>
        </p:grpSpPr>
        <p:pic>
          <p:nvPicPr>
            <p:cNvPr id="309" name="Right Arrow 40" descr=""/>
            <p:cNvPicPr/>
            <p:nvPr/>
          </p:nvPicPr>
          <p:blipFill>
            <a:blip r:embed="rId1"/>
            <a:stretch/>
          </p:blipFill>
          <p:spPr>
            <a:xfrm>
              <a:off x="3913200" y="3267000"/>
              <a:ext cx="153036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000680" y="3554280"/>
              <a:ext cx="116028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sit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12" name="Right Arrow 10"/>
          <p:cNvGrpSpPr/>
          <p:nvPr/>
        </p:nvGrpSpPr>
        <p:grpSpPr>
          <a:xfrm>
            <a:off x="3645000" y="2230560"/>
            <a:ext cx="1530360" cy="969840"/>
            <a:chOff x="3645000" y="2230560"/>
            <a:chExt cx="1530360" cy="969840"/>
          </a:xfrm>
        </p:grpSpPr>
        <p:pic>
          <p:nvPicPr>
            <p:cNvPr id="313" name="Right Arrow 10" descr=""/>
            <p:cNvPicPr/>
            <p:nvPr/>
          </p:nvPicPr>
          <p:blipFill>
            <a:blip r:embed="rId1"/>
            <a:stretch/>
          </p:blipFill>
          <p:spPr>
            <a:xfrm>
              <a:off x="3645000" y="2230560"/>
              <a:ext cx="15303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3732120" y="2517840"/>
              <a:ext cx="1162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xtract or compose fr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ub-obj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meta inform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ecide whether they are applic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Group 37"/>
          <p:cNvGrpSpPr/>
          <p:nvPr/>
        </p:nvGrpSpPr>
        <p:grpSpPr>
          <a:xfrm>
            <a:off x="5965920" y="1714680"/>
            <a:ext cx="2677680" cy="2043360"/>
            <a:chOff x="5965920" y="1714680"/>
            <a:chExt cx="2677680" cy="2043360"/>
          </a:xfrm>
        </p:grpSpPr>
        <p:sp>
          <p:nvSpPr>
            <p:cNvPr id="317" name="Oval 11"/>
            <p:cNvSpPr/>
            <p:nvPr/>
          </p:nvSpPr>
          <p:spPr>
            <a:xfrm>
              <a:off x="6608520" y="1856520"/>
              <a:ext cx="64260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8" name="Oval 12"/>
            <p:cNvGrpSpPr/>
            <p:nvPr/>
          </p:nvGrpSpPr>
          <p:grpSpPr>
            <a:xfrm>
              <a:off x="6510960" y="2761560"/>
              <a:ext cx="822600" cy="829080"/>
              <a:chOff x="6510960" y="2761560"/>
              <a:chExt cx="822600" cy="829080"/>
            </a:xfrm>
          </p:grpSpPr>
          <p:pic>
            <p:nvPicPr>
              <p:cNvPr id="319" name="Oval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0960" y="2761560"/>
                <a:ext cx="8226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670248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1" name="Oval 13"/>
            <p:cNvGrpSpPr/>
            <p:nvPr/>
          </p:nvGrpSpPr>
          <p:grpSpPr>
            <a:xfrm>
              <a:off x="7370640" y="2761560"/>
              <a:ext cx="828720" cy="829080"/>
              <a:chOff x="7370640" y="2761560"/>
              <a:chExt cx="828720" cy="829080"/>
            </a:xfrm>
          </p:grpSpPr>
          <p:pic>
            <p:nvPicPr>
              <p:cNvPr id="322" name="Oval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7370640" y="2761560"/>
                <a:ext cx="82872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755964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24" name="Curved Connector 14" descr=""/>
            <p:cNvPicPr/>
            <p:nvPr/>
          </p:nvPicPr>
          <p:blipFill>
            <a:blip r:embed="rId4"/>
            <a:stretch/>
          </p:blipFill>
          <p:spPr>
            <a:xfrm>
              <a:off x="6761160" y="2426400"/>
              <a:ext cx="34740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Shape 15" descr=""/>
            <p:cNvPicPr/>
            <p:nvPr/>
          </p:nvPicPr>
          <p:blipFill>
            <a:blip r:embed="rId5"/>
            <a:stretch/>
          </p:blipFill>
          <p:spPr>
            <a:xfrm>
              <a:off x="7175520" y="2090880"/>
              <a:ext cx="785880" cy="9388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26" name="Curved Connector 16"/>
            <p:cNvCxnSpPr/>
            <p:nvPr/>
          </p:nvCxnSpPr>
          <p:spPr>
            <a:xfrm rot="5400000">
              <a:off x="7679160" y="360684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7" name="Curved Connector 17"/>
            <p:cNvCxnSpPr/>
            <p:nvPr/>
          </p:nvCxnSpPr>
          <p:spPr>
            <a:xfrm rot="5400000">
              <a:off x="7357680" y="3071520"/>
              <a:ext cx="2160" cy="857520"/>
            </a:xfrm>
            <a:prstGeom prst="curvedConnector5">
              <a:avLst>
                <a:gd name="adj1" fmla="val 14380000"/>
                <a:gd name="adj2" fmla="val 49979"/>
                <a:gd name="adj3" fmla="val 1438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8" name="Shape 18"/>
            <p:cNvCxnSpPr/>
            <p:nvPr/>
          </p:nvCxnSpPr>
          <p:spPr>
            <a:xfrm>
              <a:off x="8107920" y="3178440"/>
              <a:ext cx="536040" cy="5364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29" name="TextBox 26"/>
            <p:cNvSpPr/>
            <p:nvPr/>
          </p:nvSpPr>
          <p:spPr>
            <a:xfrm>
              <a:off x="5965920" y="300060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" name="Down Arrow 27"/>
            <p:cNvGrpSpPr/>
            <p:nvPr/>
          </p:nvGrpSpPr>
          <p:grpSpPr>
            <a:xfrm>
              <a:off x="6157800" y="2444760"/>
              <a:ext cx="481320" cy="524160"/>
              <a:chOff x="6157800" y="2444760"/>
              <a:chExt cx="481320" cy="524160"/>
            </a:xfrm>
          </p:grpSpPr>
          <p:pic>
            <p:nvPicPr>
              <p:cNvPr id="331" name="Down Arrow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6157800" y="2444760"/>
                <a:ext cx="481320" cy="52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 rot="1862400">
                <a:off x="6341040" y="2553840"/>
                <a:ext cx="1425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3" name="Oval 34"/>
            <p:cNvSpPr/>
            <p:nvPr/>
          </p:nvSpPr>
          <p:spPr>
            <a:xfrm>
              <a:off x="6465600" y="1714680"/>
              <a:ext cx="928440" cy="92880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Group 36"/>
          <p:cNvGrpSpPr/>
          <p:nvPr/>
        </p:nvGrpSpPr>
        <p:grpSpPr>
          <a:xfrm>
            <a:off x="785880" y="1571400"/>
            <a:ext cx="2071800" cy="2286360"/>
            <a:chOff x="785880" y="1571400"/>
            <a:chExt cx="2071800" cy="2286360"/>
          </a:xfrm>
        </p:grpSpPr>
        <p:grpSp>
          <p:nvGrpSpPr>
            <p:cNvPr id="335" name="Oval 2"/>
            <p:cNvGrpSpPr/>
            <p:nvPr/>
          </p:nvGrpSpPr>
          <p:grpSpPr>
            <a:xfrm>
              <a:off x="902160" y="1761840"/>
              <a:ext cx="835200" cy="829080"/>
              <a:chOff x="902160" y="1761840"/>
              <a:chExt cx="835200" cy="829080"/>
            </a:xfrm>
          </p:grpSpPr>
          <p:pic>
            <p:nvPicPr>
              <p:cNvPr id="336" name="Oval 2" descr=""/>
              <p:cNvPicPr/>
              <p:nvPr/>
            </p:nvPicPr>
            <p:blipFill>
              <a:blip r:embed="rId7"/>
              <a:stretch/>
            </p:blipFill>
            <p:spPr>
              <a:xfrm>
                <a:off x="902160" y="1761840"/>
                <a:ext cx="8352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>
                <a:off x="1094040" y="1950840"/>
                <a:ext cx="454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8" name="Oval 3"/>
            <p:cNvSpPr/>
            <p:nvPr/>
          </p:nvSpPr>
          <p:spPr>
            <a:xfrm>
              <a:off x="1000080" y="285696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"/>
            <p:cNvSpPr/>
            <p:nvPr/>
          </p:nvSpPr>
          <p:spPr>
            <a:xfrm>
              <a:off x="1857600" y="285624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40" name="Curved Connector 5"/>
            <p:cNvCxnSpPr>
              <a:endCxn id="336" idx="0"/>
            </p:cNvCxnSpPr>
            <p:nvPr/>
          </p:nvCxnSpPr>
          <p:spPr>
            <a:xfrm rot="5400000">
              <a:off x="1178280" y="1713600"/>
              <a:ext cx="28620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1" name="Curved Connector 6"/>
            <p:cNvCxnSpPr/>
            <p:nvPr/>
          </p:nvCxnSpPr>
          <p:spPr>
            <a:xfrm rot="5400000">
              <a:off x="1142280" y="2678400"/>
              <a:ext cx="357840" cy="2160"/>
            </a:xfrm>
            <a:prstGeom prst="curvedConnector5">
              <a:avLst>
                <a:gd name="adj1" fmla="val 49949"/>
                <a:gd name="adj2" fmla="val 40000"/>
                <a:gd name="adj3" fmla="val 49949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2" name="Shape 7"/>
            <p:cNvCxnSpPr/>
            <p:nvPr/>
          </p:nvCxnSpPr>
          <p:spPr>
            <a:xfrm>
              <a:off x="1643040" y="2177640"/>
              <a:ext cx="536400" cy="6786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3" name="Curved Connector 8"/>
            <p:cNvCxnSpPr>
              <a:stCxn id="339" idx="4"/>
            </p:cNvCxnSpPr>
            <p:nvPr/>
          </p:nvCxnSpPr>
          <p:spPr>
            <a:xfrm rot="5400000">
              <a:off x="2071440" y="360612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4" name="Curved Connector 9"/>
            <p:cNvCxnSpPr>
              <a:stCxn id="339" idx="4"/>
              <a:endCxn id="338" idx="4"/>
            </p:cNvCxnSpPr>
            <p:nvPr/>
          </p:nvCxnSpPr>
          <p:spPr>
            <a:xfrm rot="5400000">
              <a:off x="1748880" y="3070800"/>
              <a:ext cx="1440" cy="857880"/>
            </a:xfrm>
            <a:prstGeom prst="curvedConnector5">
              <a:avLst>
                <a:gd name="adj1" fmla="val 28866666"/>
                <a:gd name="adj2" fmla="val 50000"/>
                <a:gd name="adj3" fmla="val 28866666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45" name="Oval 35"/>
            <p:cNvSpPr/>
            <p:nvPr/>
          </p:nvSpPr>
          <p:spPr>
            <a:xfrm>
              <a:off x="785880" y="2643480"/>
              <a:ext cx="2071800" cy="121428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Primitiv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47" name="Group 7"/>
          <p:cNvGrpSpPr/>
          <p:nvPr/>
        </p:nvGrpSpPr>
        <p:grpSpPr>
          <a:xfrm>
            <a:off x="1143000" y="2058480"/>
            <a:ext cx="642960" cy="929160"/>
            <a:chOff x="1143000" y="2058480"/>
            <a:chExt cx="642960" cy="929160"/>
          </a:xfrm>
        </p:grpSpPr>
        <p:grpSp>
          <p:nvGrpSpPr>
            <p:cNvPr id="348" name="Oval 2"/>
            <p:cNvGrpSpPr/>
            <p:nvPr/>
          </p:nvGrpSpPr>
          <p:grpSpPr>
            <a:xfrm>
              <a:off x="1143000" y="2232000"/>
              <a:ext cx="642960" cy="755640"/>
              <a:chOff x="1143000" y="2232000"/>
              <a:chExt cx="642960" cy="755640"/>
            </a:xfrm>
          </p:grpSpPr>
          <p:pic>
            <p:nvPicPr>
              <p:cNvPr id="349" name="Oval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2232000"/>
                <a:ext cx="64296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>
                <a:off x="1292760" y="2404080"/>
                <a:ext cx="3499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351" name="Curved Connector 3"/>
            <p:cNvCxnSpPr>
              <a:endCxn id="349" idx="0"/>
            </p:cNvCxnSpPr>
            <p:nvPr/>
          </p:nvCxnSpPr>
          <p:spPr>
            <a:xfrm rot="5400000">
              <a:off x="1337040" y="2188080"/>
              <a:ext cx="261000" cy="18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219ac1"/>
              </a:solidFill>
              <a:miter/>
              <a:tailEnd len="med" type="arrow" w="med"/>
            </a:ln>
          </p:spPr>
        </p:cxnSp>
      </p:grpSp>
      <p:grpSp>
        <p:nvGrpSpPr>
          <p:cNvPr id="352" name="Right Arrow 4"/>
          <p:cNvGrpSpPr/>
          <p:nvPr/>
        </p:nvGrpSpPr>
        <p:grpSpPr>
          <a:xfrm>
            <a:off x="2998800" y="2036880"/>
            <a:ext cx="1530360" cy="968400"/>
            <a:chOff x="2998800" y="2036880"/>
            <a:chExt cx="1530360" cy="968400"/>
          </a:xfrm>
        </p:grpSpPr>
        <p:pic>
          <p:nvPicPr>
            <p:cNvPr id="353" name="Right Arrow 4" descr=""/>
            <p:cNvPicPr/>
            <p:nvPr/>
          </p:nvPicPr>
          <p:blipFill>
            <a:blip r:embed="rId2"/>
            <a:stretch/>
          </p:blipFill>
          <p:spPr>
            <a:xfrm>
              <a:off x="2998800" y="2036880"/>
              <a:ext cx="153036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3086280" y="2327400"/>
              <a:ext cx="11602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Rectangle 5"/>
          <p:cNvSpPr/>
          <p:nvPr/>
        </p:nvSpPr>
        <p:spPr>
          <a:xfrm>
            <a:off x="5749560" y="2046240"/>
            <a:ext cx="1963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</a:t>
            </a:r>
            <a:r>
              <a:rPr b="1" lang="de-AT" sz="2000" spc="-1" strike="noStrike">
                <a:solidFill>
                  <a:srgbClr val="ffff00"/>
                </a:solidFill>
                <a:latin typeface="Courier New"/>
                <a:ea typeface="Courier New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nsform betwe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in-memory o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format (e.g. XML tex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fixed mapping between formatter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yp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nfigur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pecific to output format (e.g. XM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 (in orde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cluded in type cac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ersistent (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onfigurationService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efault configuration through refle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td. data types are handl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new classes can us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dd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ttribute to fields or proper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Rectangle 5"/>
          <p:cNvGrpSpPr/>
          <p:nvPr/>
        </p:nvGrpSpPr>
        <p:grpSpPr>
          <a:xfrm>
            <a:off x="706320" y="3456000"/>
            <a:ext cx="3372120" cy="2316240"/>
            <a:chOff x="706320" y="3456000"/>
            <a:chExt cx="3372120" cy="2316240"/>
          </a:xfrm>
        </p:grpSpPr>
        <p:pic>
          <p:nvPicPr>
            <p:cNvPr id="362" name="Rectangle 5" descr=""/>
            <p:cNvPicPr/>
            <p:nvPr/>
          </p:nvPicPr>
          <p:blipFill>
            <a:blip r:embed="rId1"/>
            <a:stretch/>
          </p:blipFill>
          <p:spPr>
            <a:xfrm>
              <a:off x="706320" y="3456000"/>
              <a:ext cx="337212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14240" y="3460680"/>
              <a:ext cx="33577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ntWrapper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Value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</a:t>
              </a:r>
              <a:r>
                <a:rPr b="0" lang="de-AT" sz="16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Name 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4" name="Rectangle 6"/>
          <p:cNvGrpSpPr/>
          <p:nvPr/>
        </p:nvGrpSpPr>
        <p:grpSpPr>
          <a:xfrm>
            <a:off x="4705200" y="3444840"/>
            <a:ext cx="3372120" cy="1182600"/>
            <a:chOff x="4705200" y="3444840"/>
            <a:chExt cx="3372120" cy="1182600"/>
          </a:xfrm>
        </p:grpSpPr>
        <p:pic>
          <p:nvPicPr>
            <p:cNvPr id="365" name="Rectangle 6" descr=""/>
            <p:cNvPicPr/>
            <p:nvPr/>
          </p:nvPicPr>
          <p:blipFill>
            <a:blip r:embed="rId2"/>
            <a:stretch/>
          </p:blipFill>
          <p:spPr>
            <a:xfrm>
              <a:off x="4705200" y="3444840"/>
              <a:ext cx="33721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4714920" y="3451320"/>
              <a:ext cx="3357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NonSerialized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TransientValu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7" name="Rectangle 7"/>
          <p:cNvGrpSpPr/>
          <p:nvPr/>
        </p:nvGrpSpPr>
        <p:grpSpPr>
          <a:xfrm>
            <a:off x="4705200" y="5400720"/>
            <a:ext cx="3372120" cy="323640"/>
            <a:chOff x="4705200" y="5400720"/>
            <a:chExt cx="3372120" cy="323640"/>
          </a:xfrm>
        </p:grpSpPr>
        <p:pic>
          <p:nvPicPr>
            <p:cNvPr id="368" name="Rectangle 7" descr=""/>
            <p:cNvPicPr/>
            <p:nvPr/>
          </p:nvPicPr>
          <p:blipFill>
            <a:blip r:embed="rId3"/>
            <a:stretch/>
          </p:blipFill>
          <p:spPr>
            <a:xfrm>
              <a:off x="4705200" y="5400720"/>
              <a:ext cx="337212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4714920" y="5407200"/>
              <a:ext cx="335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7:51:22Z</dcterms:created>
  <dc:creator>Pitzer Erik</dc:creator>
  <dc:description/>
  <dc:language>en-US</dc:language>
  <cp:lastModifiedBy>erik</cp:lastModifiedBy>
  <dcterms:modified xsi:type="dcterms:W3CDTF">2009-05-19T09:22:09Z</dcterms:modified>
  <cp:revision>164</cp:revision>
  <dc:subject/>
  <dc:title>Persistcence 3.3</dc:title>
</cp:coreProperties>
</file>