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35A-E896-45C2-9888-26AD2639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16D3-342D-449B-8705-D1CC29EF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2390-0077-4030-B9BC-62257E5F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3D8-609A-4E63-9CDE-3E2BC3E0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D2CA0-4AEF-4F81-96F0-94BF57AD8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D946-25E6-406D-8F75-45C753FB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0336-C039-4B53-B62E-81A44B82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3E26-61E2-4C19-9EC2-20EF9CEF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57C2-C95D-423C-8CBD-3C9BA833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2CB0-664C-414B-9B0B-EBCFA3D1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49BC-5DE4-48B7-BBF5-D194B6E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B9E-CFD0-4089-BC7F-BA54310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338E1-2C39-465F-931B-CB457E5C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4E73-9D70-448D-B18B-24E37BF7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1FBA-A6B5-479E-B5CE-D16CAF8A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5D17-C361-4A67-96AA-DBD7B0D6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AE2F-3CA9-4218-943E-7D92B3AC2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783F7-4D46-4F1E-A96F-B5C6CCA47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E0D53-874B-46F4-AE09-9300C08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DC733-6B6D-4B4C-9822-38C69A30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2117-F4F3-4788-B7FA-0B4153C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455A-D9EF-41D5-A065-2AF6448AC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C6B6-2DAF-4E04-AE1D-89C5F877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1225D-F726-4D74-8EAF-700984DA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4EF7C-FE5C-4A63-915F-06FD2F5D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D76F9-F104-469E-8F6D-4E318ED2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05C85-8089-43CE-9BA8-A50077B7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4DE6D7-CB39-4099-987F-7CC60D9E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8D4A9-3692-4D07-AEE2-AD8DD3B9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EFB0-170F-4F70-9C7E-1792DF4D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4B9AF-6F20-45BF-AD23-78CC1D97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33C39-941B-435B-BC35-58BEF946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F6223-E86A-4578-8877-B9702DAB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E4DB-F391-4175-8CC8-A7BDB42C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B8B6-9E31-4656-BC3B-AEBD729D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BDC20-6740-4823-AFFD-94E7CB1C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0FB53-A828-49BD-AAD6-91B2E487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C85D3-D8DE-4047-B23F-B379F7C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646C-14E5-40E4-920E-9D503E1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446F4-C1F3-444A-904E-A5ADFCEA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372C7-12B2-4111-B39F-6B83AEEB0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4EB9-50FC-45A2-B784-DCF8E4CC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14BB4-4F07-4EAD-9C19-8B77C06E5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B5B0C-BB0C-4349-A5AE-C29EEFD9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E56-08C5-42CE-9E2D-EFE2F045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15D30-B7CA-4DFD-9C17-2AB8767E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E479-8644-4A04-9F40-135A71D4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DD96D-919C-4277-9796-478B2286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3C06-0347-45E4-9283-B01DF35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D38DC-F320-4CDD-8B4C-22927E518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6057-E2AA-40EF-8B4F-03D3DA94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D5269-A416-4D39-99E9-D1F4050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95ABA-12EC-4865-AE56-2F05A590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5A2DA2-929A-4DC2-9218-DE5C90C5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77135-719D-43D7-9A2C-951B65B8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DA9-8CF8-42FC-910B-D0191921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DF31-2BBF-49B0-864C-8057B19D2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94EAB-995A-41C8-A054-AACD902F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C22D3-04E7-4FFD-9720-F21E1784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6BE89-0EF8-4F22-B3AB-F82D123E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8F53E-85F9-4FF2-9E43-026B9E60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30774F-ADC2-4C66-911F-9EC05F44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60D1D-C1ED-4219-9EEE-9E54DA91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80C92-6BCA-466B-877F-34266BF4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8E618-48F3-4181-9847-3DB6085F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D3A17-8D1E-4F13-B2F0-7EAC4000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3EF-E6D6-4960-B3BB-B95D483C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3865-3625-404B-A2B0-BD8BB910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C50C-333C-4A06-B7C9-940951E0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DD89C-2641-45FB-95BA-FA749402C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32C-42DC-46DA-9E83-D3FB4B07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E114-443F-49A7-94DE-C849BCE4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4D11-170D-49BF-A8BD-57408325B40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219C-E005-402F-8533-9A947A5EEB4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88D-ED60-4772-A8B0-416A30A4246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3B45-5F8E-4F8E-B84C-001CDBE5224C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C2F7-62FE-4480-A1F4-9EEC7ED9B82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EAF1F-80E6-4006-825F-A9156D21F260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71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Arial"/>
              </a:rPr>
              <a:t>Heuristic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Advanced 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ustom serialization through proper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oad old version: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Name=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faultValue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Rectangle 9"/>
          <p:cNvGrpSpPr/>
          <p:nvPr/>
        </p:nvGrpSpPr>
        <p:grpSpPr>
          <a:xfrm>
            <a:off x="781200" y="3071880"/>
            <a:ext cx="6441840" cy="2469960"/>
            <a:chOff x="781200" y="3071880"/>
            <a:chExt cx="6441840" cy="2469960"/>
          </a:xfrm>
        </p:grpSpPr>
        <p:pic>
          <p:nvPicPr>
            <p:cNvPr id="373" name="Rectangle 9" descr=""/>
            <p:cNvPicPr/>
            <p:nvPr/>
          </p:nvPicPr>
          <p:blipFill>
            <a:blip r:embed="rId1"/>
            <a:stretch/>
          </p:blipFill>
          <p:spPr>
            <a:xfrm>
              <a:off x="781200" y="3071880"/>
              <a:ext cx="6441840" cy="24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785880" y="3075120"/>
              <a:ext cx="642924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ffff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imeTes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Name=</a:t>
              </a:r>
              <a:r>
                <a:rPr b="0" lang="de-AT" sz="1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"Time"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 DefaultValue=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Now)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Persistence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return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lastLoadTime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=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DateTime.Now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Hack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ZIP Fi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data.xml</a:t>
            </a:r>
            <a:r>
              <a:rPr b="0" lang="de-A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serial object grap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Tags: 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PRIMITIV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ERENC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U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Attributes: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name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typeId</a:t>
            </a: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re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100000"/>
              </a:lnSpc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cache.xml</a:t>
            </a:r>
            <a:r>
              <a:rPr b="0" lang="de-A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s mapping of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Id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 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AssemblyQualified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lnSpc>
                <a:spcPct val="100000"/>
              </a:lnSpc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tension &amp; Customiz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re efficient serialization through new custom serializers (e.g. compact arra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troduce new format by replacing generator and pars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DebugSt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 mechainsm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isabl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add new generic composite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Primitiv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0" name="Rectangle 3"/>
          <p:cNvGrpSpPr/>
          <p:nvPr/>
        </p:nvGrpSpPr>
        <p:grpSpPr>
          <a:xfrm>
            <a:off x="1994040" y="2567160"/>
            <a:ext cx="5510160" cy="2900160"/>
            <a:chOff x="1994040" y="2567160"/>
            <a:chExt cx="5510160" cy="2900160"/>
          </a:xfrm>
        </p:grpSpPr>
        <p:pic>
          <p:nvPicPr>
            <p:cNvPr id="381" name="Rectangle 3" descr=""/>
            <p:cNvPicPr/>
            <p:nvPr/>
          </p:nvPicPr>
          <p:blipFill>
            <a:blip r:embed="rId1"/>
            <a:stretch/>
          </p:blipFill>
          <p:spPr>
            <a:xfrm>
              <a:off x="1994040" y="2567160"/>
              <a:ext cx="5510160" cy="29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2000160" y="2571840"/>
              <a:ext cx="550080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ring2XmlFormatter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PrimitiveSerializerBase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t(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s)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verride 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arse(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XmlString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) 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.Data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4" name="Rectangle 4"/>
          <p:cNvGrpSpPr/>
          <p:nvPr/>
        </p:nvGrpSpPr>
        <p:grpSpPr>
          <a:xfrm>
            <a:off x="493560" y="1414440"/>
            <a:ext cx="7796520" cy="5089680"/>
            <a:chOff x="493560" y="1414440"/>
            <a:chExt cx="7796520" cy="5089680"/>
          </a:xfrm>
        </p:grpSpPr>
        <p:pic>
          <p:nvPicPr>
            <p:cNvPr id="385" name="Rectangle 4" descr=""/>
            <p:cNvPicPr/>
            <p:nvPr/>
          </p:nvPicPr>
          <p:blipFill>
            <a:blip r:embed="rId1"/>
            <a:stretch/>
          </p:blipFill>
          <p:spPr>
            <a:xfrm>
              <a:off x="493560" y="1414440"/>
              <a:ext cx="7796520" cy="508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1422360"/>
              <a:ext cx="7786800" cy="48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erable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Interfac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ypeof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.FullName)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) 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&gt;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o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,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Enumerabl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Activ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CreateInstance(type,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tru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tags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foreach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(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var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in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s</a:t>
              </a:r>
              <a:r>
                <a:rPr b="0" lang="sv-SE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</a:t>
              </a:r>
              <a:r>
                <a:rPr b="0" lang="sv-SE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.GetMethod(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Ad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").Invoke(instance,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ew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tag.Value }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ICompositeSerializer 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88" name="Rectangle 2"/>
          <p:cNvGrpSpPr/>
          <p:nvPr/>
        </p:nvGrpSpPr>
        <p:grpSpPr>
          <a:xfrm>
            <a:off x="566640" y="1725480"/>
            <a:ext cx="7510680" cy="4351320"/>
            <a:chOff x="566640" y="1725480"/>
            <a:chExt cx="7510680" cy="4351320"/>
          </a:xfrm>
        </p:grpSpPr>
        <p:pic>
          <p:nvPicPr>
            <p:cNvPr id="389" name="Rectangle 2" descr=""/>
            <p:cNvPicPr/>
            <p:nvPr/>
          </p:nvPicPr>
          <p:blipFill>
            <a:blip r:embed="rId1"/>
            <a:stretch/>
          </p:blipFill>
          <p:spPr>
            <a:xfrm>
              <a:off x="566640" y="1725480"/>
              <a:ext cx="7510680" cy="435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>
              <a:off x="571680" y="1731960"/>
              <a:ext cx="7500600" cy="42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]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Decompos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: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ICompositeSerializer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int Priority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00; } 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bool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anSerializ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as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!=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null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MetaInfo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yield return new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ag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Format(obj.GetType(), obj, </a:t>
              </a:r>
              <a:r>
                <a:rPr b="0" lang="en-US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"G"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a31515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ecompos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bj) {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new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[] { }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CreateInstance(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ype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t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metaInfo) {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tor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it = metaInfo.GetEnumerator();  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t.MoveNext(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return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num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Parse(t, 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)it.Current.Value);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void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opulate(</a:t>
              </a:r>
              <a:r>
                <a:rPr b="0" lang="de-AT" sz="12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object 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nstance, 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Enumerable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</a:t>
              </a:r>
              <a:r>
                <a:rPr b="0" lang="de-AT" sz="12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Tag</a:t>
              </a: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gt; elements, Type t) {} 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Versioning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ull version information is stor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fall back to compatible 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ame major &amp; minor version numb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ewer build &amp; revi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ossibility of independent archiv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ntain all required assembl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serialized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60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used serializ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Next Step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vers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Populate/GetXML()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rebuild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engi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Motiv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memory press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D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ingle pa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linear proce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less developer eff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 interfaces to impl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4720" indent="-37872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modularity &amp; flexi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X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14600" indent="-27000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not specific to any interface (i.e. </a:t>
            </a:r>
            <a:r>
              <a:rPr b="0" lang="de-AT" sz="20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n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546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river: serializer (deserializ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versal of object grap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object graph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ree/stre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object analysi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back end: generator (parser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object information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file/db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Overview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61" name="Down Arrow 11"/>
          <p:cNvGrpSpPr/>
          <p:nvPr/>
        </p:nvGrpSpPr>
        <p:grpSpPr>
          <a:xfrm>
            <a:off x="974880" y="2189160"/>
            <a:ext cx="688680" cy="3254400"/>
            <a:chOff x="974880" y="2189160"/>
            <a:chExt cx="688680" cy="3254400"/>
          </a:xfrm>
        </p:grpSpPr>
        <p:pic>
          <p:nvPicPr>
            <p:cNvPr id="262" name="Down Arrow 11" descr=""/>
            <p:cNvPicPr/>
            <p:nvPr/>
          </p:nvPicPr>
          <p:blipFill>
            <a:blip r:embed="rId1"/>
            <a:stretch/>
          </p:blipFill>
          <p:spPr>
            <a:xfrm>
              <a:off x="974880" y="2189160"/>
              <a:ext cx="68868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1197000" y="2286000"/>
              <a:ext cx="249120" cy="29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Down Arrow 13"/>
          <p:cNvGrpSpPr/>
          <p:nvPr/>
        </p:nvGrpSpPr>
        <p:grpSpPr>
          <a:xfrm>
            <a:off x="7047000" y="2189160"/>
            <a:ext cx="682560" cy="3254400"/>
            <a:chOff x="7047000" y="2189160"/>
            <a:chExt cx="682560" cy="3254400"/>
          </a:xfrm>
        </p:grpSpPr>
        <p:pic>
          <p:nvPicPr>
            <p:cNvPr id="265" name="Down Arrow 13" descr=""/>
            <p:cNvPicPr/>
            <p:nvPr/>
          </p:nvPicPr>
          <p:blipFill>
            <a:blip r:embed="rId2"/>
            <a:stretch/>
          </p:blipFill>
          <p:spPr>
            <a:xfrm>
              <a:off x="7047000" y="2189160"/>
              <a:ext cx="682560" cy="32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0800000">
              <a:off x="7269120" y="2410920"/>
              <a:ext cx="24912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          </a:t>
              </a: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deserializa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Rectangle 5"/>
          <p:cNvGrpSpPr/>
          <p:nvPr/>
        </p:nvGrpSpPr>
        <p:grpSpPr>
          <a:xfrm>
            <a:off x="1616040" y="2189160"/>
            <a:ext cx="5261040" cy="901800"/>
            <a:chOff x="1616040" y="2189160"/>
            <a:chExt cx="5261040" cy="901800"/>
          </a:xfrm>
        </p:grpSpPr>
        <p:pic>
          <p:nvPicPr>
            <p:cNvPr id="268" name="Rectangle 5" descr=""/>
            <p:cNvPicPr/>
            <p:nvPr/>
          </p:nvPicPr>
          <p:blipFill>
            <a:blip r:embed="rId3"/>
            <a:stretch/>
          </p:blipFill>
          <p:spPr>
            <a:xfrm>
              <a:off x="1616040" y="2189160"/>
              <a:ext cx="5261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714680" y="2286000"/>
              <a:ext cx="507204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live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0" name="Rectangle 7"/>
          <p:cNvGrpSpPr/>
          <p:nvPr/>
        </p:nvGrpSpPr>
        <p:grpSpPr>
          <a:xfrm>
            <a:off x="4900680" y="2901960"/>
            <a:ext cx="2189160" cy="762120"/>
            <a:chOff x="4900680" y="2901960"/>
            <a:chExt cx="2189160" cy="762120"/>
          </a:xfrm>
        </p:grpSpPr>
        <p:pic>
          <p:nvPicPr>
            <p:cNvPr id="271" name="Rectangle 7" descr=""/>
            <p:cNvPicPr/>
            <p:nvPr/>
          </p:nvPicPr>
          <p:blipFill>
            <a:blip r:embed="rId4"/>
            <a:stretch/>
          </p:blipFill>
          <p:spPr>
            <a:xfrm>
              <a:off x="4900680" y="290196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5000760" y="3000240"/>
              <a:ext cx="2000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composit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Rectangle 6"/>
          <p:cNvGrpSpPr/>
          <p:nvPr/>
        </p:nvGrpSpPr>
        <p:grpSpPr>
          <a:xfrm>
            <a:off x="1616040" y="2901960"/>
            <a:ext cx="3260880" cy="762120"/>
            <a:chOff x="1616040" y="2901960"/>
            <a:chExt cx="3260880" cy="762120"/>
          </a:xfrm>
        </p:grpSpPr>
        <p:pic>
          <p:nvPicPr>
            <p:cNvPr id="274" name="Rectangle 6" descr=""/>
            <p:cNvPicPr/>
            <p:nvPr/>
          </p:nvPicPr>
          <p:blipFill>
            <a:blip r:embed="rId5"/>
            <a:stretch/>
          </p:blipFill>
          <p:spPr>
            <a:xfrm>
              <a:off x="1616040" y="290196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714680" y="3000240"/>
              <a:ext cx="3071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er / deserializ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Rectangle 15"/>
          <p:cNvGrpSpPr/>
          <p:nvPr/>
        </p:nvGrpSpPr>
        <p:grpSpPr>
          <a:xfrm>
            <a:off x="1616040" y="3475080"/>
            <a:ext cx="5261040" cy="689040"/>
            <a:chOff x="1616040" y="3475080"/>
            <a:chExt cx="5261040" cy="689040"/>
          </a:xfrm>
        </p:grpSpPr>
        <p:pic>
          <p:nvPicPr>
            <p:cNvPr id="277" name="Rectangle 15" descr=""/>
            <p:cNvPicPr/>
            <p:nvPr/>
          </p:nvPicPr>
          <p:blipFill>
            <a:blip r:embed="rId6"/>
            <a:stretch/>
          </p:blipFill>
          <p:spPr>
            <a:xfrm>
              <a:off x="1616040" y="3475080"/>
              <a:ext cx="5261040" cy="6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714680" y="3571920"/>
              <a:ext cx="50720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serialization toke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9" name="Rectangle 9"/>
          <p:cNvGrpSpPr/>
          <p:nvPr/>
        </p:nvGrpSpPr>
        <p:grpSpPr>
          <a:xfrm>
            <a:off x="4900680" y="3975120"/>
            <a:ext cx="2189160" cy="762120"/>
            <a:chOff x="4900680" y="3975120"/>
            <a:chExt cx="2189160" cy="762120"/>
          </a:xfrm>
        </p:grpSpPr>
        <p:pic>
          <p:nvPicPr>
            <p:cNvPr id="280" name="Rectangle 9" descr=""/>
            <p:cNvPicPr/>
            <p:nvPr/>
          </p:nvPicPr>
          <p:blipFill>
            <a:blip r:embed="rId7"/>
            <a:stretch/>
          </p:blipFill>
          <p:spPr>
            <a:xfrm>
              <a:off x="4900680" y="3975120"/>
              <a:ext cx="21891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"/>
            <p:cNvSpPr/>
            <p:nvPr/>
          </p:nvSpPr>
          <p:spPr>
            <a:xfrm>
              <a:off x="5000760" y="4071960"/>
              <a:ext cx="20001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rimiti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" name="Rectangle 8"/>
          <p:cNvGrpSpPr/>
          <p:nvPr/>
        </p:nvGrpSpPr>
        <p:grpSpPr>
          <a:xfrm>
            <a:off x="1616040" y="3975120"/>
            <a:ext cx="3260880" cy="762120"/>
            <a:chOff x="1616040" y="3975120"/>
            <a:chExt cx="3260880" cy="762120"/>
          </a:xfrm>
        </p:grpSpPr>
        <p:pic>
          <p:nvPicPr>
            <p:cNvPr id="283" name="Rectangle 8" descr=""/>
            <p:cNvPicPr/>
            <p:nvPr/>
          </p:nvPicPr>
          <p:blipFill>
            <a:blip r:embed="rId8"/>
            <a:stretch/>
          </p:blipFill>
          <p:spPr>
            <a:xfrm>
              <a:off x="1616040" y="3975120"/>
              <a:ext cx="32608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714680" y="4071960"/>
              <a:ext cx="3071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generator / parse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Rectangle 10"/>
          <p:cNvGrpSpPr/>
          <p:nvPr/>
        </p:nvGrpSpPr>
        <p:grpSpPr>
          <a:xfrm>
            <a:off x="1616040" y="4548240"/>
            <a:ext cx="5261040" cy="895320"/>
            <a:chOff x="1616040" y="4548240"/>
            <a:chExt cx="5261040" cy="895320"/>
          </a:xfrm>
        </p:grpSpPr>
        <p:pic>
          <p:nvPicPr>
            <p:cNvPr id="286" name="Rectangle 10" descr=""/>
            <p:cNvPicPr/>
            <p:nvPr/>
          </p:nvPicPr>
          <p:blipFill>
            <a:blip r:embed="rId9"/>
            <a:stretch/>
          </p:blipFill>
          <p:spPr>
            <a:xfrm>
              <a:off x="1616040" y="4548240"/>
              <a:ext cx="5261040" cy="8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1714680" y="4643280"/>
              <a:ext cx="50720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persisted object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Exampl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785880" y="17287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Oval 4"/>
          <p:cNvSpPr/>
          <p:nvPr/>
        </p:nvSpPr>
        <p:spPr>
          <a:xfrm>
            <a:off x="785880" y="265752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785880" y="358632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1643040" y="4514760"/>
            <a:ext cx="642960" cy="642960"/>
          </a:xfrm>
          <a:prstGeom prst="ellipse">
            <a:avLst/>
          </a:prstGeom>
          <a:solidFill>
            <a:srgbClr val="8d89a4"/>
          </a:solidFill>
          <a:ln w="19080">
            <a:solidFill>
              <a:srgbClr val="6663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2500200" y="451476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1643040" y="3657600"/>
            <a:ext cx="642960" cy="64296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2500200" y="5372280"/>
            <a:ext cx="642960" cy="6426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Curved Connector 11"/>
          <p:cNvCxnSpPr>
            <a:stCxn id="289" idx="4"/>
            <a:endCxn id="290" idx="0"/>
          </p:cNvCxnSpPr>
          <p:nvPr/>
        </p:nvCxnSpPr>
        <p:spPr>
          <a:xfrm rot="5400000">
            <a:off x="964080" y="2515320"/>
            <a:ext cx="28620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7" name="Curved Connector 13"/>
          <p:cNvCxnSpPr>
            <a:stCxn id="290" idx="4"/>
            <a:endCxn id="291" idx="0"/>
          </p:cNvCxnSpPr>
          <p:nvPr/>
        </p:nvCxnSpPr>
        <p:spPr>
          <a:xfrm rot="5400000">
            <a:off x="963720" y="3444120"/>
            <a:ext cx="286560" cy="2160"/>
          </a:xfrm>
          <a:prstGeom prst="curvedConnector5">
            <a:avLst>
              <a:gd name="adj1" fmla="val 49937"/>
              <a:gd name="adj2" fmla="val 40000"/>
              <a:gd name="adj3" fmla="val 49937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8" name="Shape 15"/>
          <p:cNvCxnSpPr>
            <a:stCxn id="290" idx="6"/>
            <a:endCxn id="294" idx="0"/>
          </p:cNvCxnSpPr>
          <p:nvPr/>
        </p:nvCxnSpPr>
        <p:spPr>
          <a:xfrm>
            <a:off x="1428840" y="2979360"/>
            <a:ext cx="535680" cy="67860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299" name="Curved Connector 17"/>
          <p:cNvCxnSpPr>
            <a:stCxn id="294" idx="4"/>
            <a:endCxn id="292" idx="0"/>
          </p:cNvCxnSpPr>
          <p:nvPr/>
        </p:nvCxnSpPr>
        <p:spPr>
          <a:xfrm rot="5400000">
            <a:off x="1856520" y="4408560"/>
            <a:ext cx="215280" cy="2160"/>
          </a:xfrm>
          <a:prstGeom prst="curvedConnector5">
            <a:avLst>
              <a:gd name="adj1" fmla="val 49916"/>
              <a:gd name="adj2" fmla="val 40000"/>
              <a:gd name="adj3" fmla="val 49916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0" name="Curved Connector 19"/>
          <p:cNvCxnSpPr>
            <a:stCxn id="294" idx="4"/>
            <a:endCxn id="291" idx="4"/>
          </p:cNvCxnSpPr>
          <p:nvPr/>
        </p:nvCxnSpPr>
        <p:spPr>
          <a:xfrm flipV="1" rot="16200000">
            <a:off x="1499040" y="3835800"/>
            <a:ext cx="72000" cy="857880"/>
          </a:xfrm>
          <a:prstGeom prst="curvedConnector5">
            <a:avLst>
              <a:gd name="adj1" fmla="val -319597"/>
              <a:gd name="adj2" fmla="val 50000"/>
              <a:gd name="adj3" fmla="val -319597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1" name="Shape 22"/>
          <p:cNvCxnSpPr>
            <a:stCxn id="294" idx="6"/>
            <a:endCxn id="293" idx="0"/>
          </p:cNvCxnSpPr>
          <p:nvPr/>
        </p:nvCxnSpPr>
        <p:spPr>
          <a:xfrm>
            <a:off x="2286000" y="3979800"/>
            <a:ext cx="535680" cy="535680"/>
          </a:xfrm>
          <a:prstGeom prst="curvedConnector2">
            <a:avLst/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2" name="Curved Connector 24"/>
          <p:cNvCxnSpPr>
            <a:stCxn id="293" idx="4"/>
            <a:endCxn id="295" idx="0"/>
          </p:cNvCxnSpPr>
          <p:nvPr/>
        </p:nvCxnSpPr>
        <p:spPr>
          <a:xfrm rot="5400000">
            <a:off x="2714040" y="5265720"/>
            <a:ext cx="214920" cy="2160"/>
          </a:xfrm>
          <a:prstGeom prst="curvedConnector5">
            <a:avLst>
              <a:gd name="adj1" fmla="val 50000"/>
              <a:gd name="adj2" fmla="val 40000"/>
              <a:gd name="adj3" fmla="val 50000"/>
            </a:avLst>
          </a:prstGeom>
          <a:ln w="9360">
            <a:solidFill>
              <a:srgbClr val="219ac1"/>
            </a:solidFill>
            <a:miter/>
            <a:tailEnd len="med" type="arrow" w="med"/>
          </a:ln>
        </p:spPr>
      </p:cxnSp>
      <p:cxnSp>
        <p:nvCxnSpPr>
          <p:cNvPr id="303" name="Shape 26"/>
          <p:cNvCxnSpPr>
            <a:stCxn id="295" idx="2"/>
            <a:endCxn id="292" idx="4"/>
          </p:cNvCxnSpPr>
          <p:nvPr/>
        </p:nvCxnSpPr>
        <p:spPr>
          <a:xfrm rot="10800000">
            <a:off x="1963800" y="5157000"/>
            <a:ext cx="536760" cy="537480"/>
          </a:xfrm>
          <a:prstGeom prst="curvedConnector2">
            <a:avLst/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4" name="Curved Connector 28"/>
          <p:cNvCxnSpPr>
            <a:stCxn id="295" idx="6"/>
            <a:endCxn id="294" idx="6"/>
          </p:cNvCxnSpPr>
          <p:nvPr/>
        </p:nvCxnSpPr>
        <p:spPr>
          <a:xfrm flipH="1" flipV="1">
            <a:off x="2285280" y="3979080"/>
            <a:ext cx="857880" cy="1715400"/>
          </a:xfrm>
          <a:prstGeom prst="curvedConnector5">
            <a:avLst>
              <a:gd name="adj1" fmla="val -26658"/>
              <a:gd name="adj2" fmla="val 50000"/>
              <a:gd name="adj3" fmla="val -2665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5" name="Curved Connector 30"/>
          <p:cNvCxnSpPr>
            <a:stCxn id="293" idx="6"/>
            <a:endCxn id="289" idx="6"/>
          </p:cNvCxnSpPr>
          <p:nvPr/>
        </p:nvCxnSpPr>
        <p:spPr>
          <a:xfrm flipH="1" flipV="1">
            <a:off x="1428480" y="2050200"/>
            <a:ext cx="1715040" cy="2786760"/>
          </a:xfrm>
          <a:prstGeom prst="curvedConnector5">
            <a:avLst>
              <a:gd name="adj1" fmla="val -13331"/>
              <a:gd name="adj2" fmla="val 50000"/>
              <a:gd name="adj3" fmla="val -13331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cxnSp>
        <p:nvCxnSpPr>
          <p:cNvPr id="306" name="Curved Connector 35"/>
          <p:cNvCxnSpPr>
            <a:stCxn id="293" idx="6"/>
            <a:endCxn id="294" idx="6"/>
          </p:cNvCxnSpPr>
          <p:nvPr/>
        </p:nvCxnSpPr>
        <p:spPr>
          <a:xfrm flipH="1" flipV="1">
            <a:off x="2285280" y="3979080"/>
            <a:ext cx="857880" cy="857880"/>
          </a:xfrm>
          <a:prstGeom prst="curvedConnector5">
            <a:avLst>
              <a:gd name="adj1" fmla="val -54408"/>
              <a:gd name="adj2" fmla="val 50000"/>
              <a:gd name="adj3" fmla="val -54408"/>
            </a:avLst>
          </a:prstGeom>
          <a:ln w="9360">
            <a:solidFill>
              <a:srgbClr val="5d872d"/>
            </a:solidFill>
            <a:miter/>
            <a:tailEnd len="med" type="arrow" w="med"/>
          </a:ln>
        </p:spPr>
      </p:cxnSp>
      <p:sp>
        <p:nvSpPr>
          <p:cNvPr id="307" name="Rectangle 38"/>
          <p:cNvSpPr/>
          <p:nvPr/>
        </p:nvSpPr>
        <p:spPr>
          <a:xfrm>
            <a:off x="5072040" y="1500120"/>
            <a:ext cx="3500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2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6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7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4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92d050"/>
                </a:solidFill>
                <a:latin typeface="Courier New"/>
                <a:ea typeface="Courier New"/>
              </a:rPr>
              <a:t>referenc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5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/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00b0f0"/>
                </a:solidFill>
                <a:latin typeface="Courier New"/>
                <a:ea typeface="Courier New"/>
              </a:rPr>
              <a:t>composit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Right Arrow 40"/>
          <p:cNvGrpSpPr/>
          <p:nvPr/>
        </p:nvGrpSpPr>
        <p:grpSpPr>
          <a:xfrm>
            <a:off x="3913200" y="3267000"/>
            <a:ext cx="1530360" cy="970200"/>
            <a:chOff x="3913200" y="3267000"/>
            <a:chExt cx="1530360" cy="970200"/>
          </a:xfrm>
        </p:grpSpPr>
        <p:pic>
          <p:nvPicPr>
            <p:cNvPr id="309" name="Right Arrow 40" descr=""/>
            <p:cNvPicPr/>
            <p:nvPr/>
          </p:nvPicPr>
          <p:blipFill>
            <a:blip r:embed="rId1"/>
            <a:stretch/>
          </p:blipFill>
          <p:spPr>
            <a:xfrm>
              <a:off x="3913200" y="3267000"/>
              <a:ext cx="153036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000680" y="3554280"/>
              <a:ext cx="116028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mposit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12" name="Right Arrow 10"/>
          <p:cNvGrpSpPr/>
          <p:nvPr/>
        </p:nvGrpSpPr>
        <p:grpSpPr>
          <a:xfrm>
            <a:off x="3645000" y="2230560"/>
            <a:ext cx="1530360" cy="969840"/>
            <a:chOff x="3645000" y="2230560"/>
            <a:chExt cx="1530360" cy="969840"/>
          </a:xfrm>
        </p:grpSpPr>
        <p:pic>
          <p:nvPicPr>
            <p:cNvPr id="313" name="Right Arrow 10" descr=""/>
            <p:cNvPicPr/>
            <p:nvPr/>
          </p:nvPicPr>
          <p:blipFill>
            <a:blip r:embed="rId1"/>
            <a:stretch/>
          </p:blipFill>
          <p:spPr>
            <a:xfrm>
              <a:off x="3645000" y="2230560"/>
              <a:ext cx="15303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732120" y="2517840"/>
              <a:ext cx="116208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5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extract or compose fro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ub-obj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meta inform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decide whether they are applicab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37"/>
          <p:cNvGrpSpPr/>
          <p:nvPr/>
        </p:nvGrpSpPr>
        <p:grpSpPr>
          <a:xfrm>
            <a:off x="5965920" y="1714680"/>
            <a:ext cx="2677680" cy="2043360"/>
            <a:chOff x="5965920" y="1714680"/>
            <a:chExt cx="2677680" cy="2043360"/>
          </a:xfrm>
        </p:grpSpPr>
        <p:sp>
          <p:nvSpPr>
            <p:cNvPr id="317" name="Oval 11"/>
            <p:cNvSpPr/>
            <p:nvPr/>
          </p:nvSpPr>
          <p:spPr>
            <a:xfrm>
              <a:off x="6608520" y="1856520"/>
              <a:ext cx="64260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8" name="Oval 12"/>
            <p:cNvGrpSpPr/>
            <p:nvPr/>
          </p:nvGrpSpPr>
          <p:grpSpPr>
            <a:xfrm>
              <a:off x="6510960" y="2761560"/>
              <a:ext cx="822600" cy="829080"/>
              <a:chOff x="6510960" y="2761560"/>
              <a:chExt cx="822600" cy="829080"/>
            </a:xfrm>
          </p:grpSpPr>
          <p:pic>
            <p:nvPicPr>
              <p:cNvPr id="319" name="Oval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0960" y="2761560"/>
                <a:ext cx="8226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670248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1" name="Oval 13"/>
            <p:cNvGrpSpPr/>
            <p:nvPr/>
          </p:nvGrpSpPr>
          <p:grpSpPr>
            <a:xfrm>
              <a:off x="7370640" y="2761560"/>
              <a:ext cx="828720" cy="829080"/>
              <a:chOff x="7370640" y="2761560"/>
              <a:chExt cx="828720" cy="829080"/>
            </a:xfrm>
          </p:grpSpPr>
          <p:pic>
            <p:nvPicPr>
              <p:cNvPr id="322" name="Oval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7370640" y="2761560"/>
                <a:ext cx="82872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7559640" y="2950920"/>
                <a:ext cx="454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4" name="Curved Connector 14" descr=""/>
            <p:cNvPicPr/>
            <p:nvPr/>
          </p:nvPicPr>
          <p:blipFill>
            <a:blip r:embed="rId4"/>
            <a:stretch/>
          </p:blipFill>
          <p:spPr>
            <a:xfrm>
              <a:off x="6761160" y="2426400"/>
              <a:ext cx="34740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Shape 15" descr=""/>
            <p:cNvPicPr/>
            <p:nvPr/>
          </p:nvPicPr>
          <p:blipFill>
            <a:blip r:embed="rId5"/>
            <a:stretch/>
          </p:blipFill>
          <p:spPr>
            <a:xfrm>
              <a:off x="7175520" y="2090880"/>
              <a:ext cx="785880" cy="9388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326" name="Curved Connector 16"/>
            <p:cNvCxnSpPr/>
            <p:nvPr/>
          </p:nvCxnSpPr>
          <p:spPr>
            <a:xfrm rot="5400000">
              <a:off x="7679160" y="360684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7" name="Curved Connector 17"/>
            <p:cNvCxnSpPr/>
            <p:nvPr/>
          </p:nvCxnSpPr>
          <p:spPr>
            <a:xfrm rot="5400000">
              <a:off x="7357680" y="3071520"/>
              <a:ext cx="2160" cy="857520"/>
            </a:xfrm>
            <a:prstGeom prst="curvedConnector5">
              <a:avLst>
                <a:gd name="adj1" fmla="val 14380000"/>
                <a:gd name="adj2" fmla="val 49979"/>
                <a:gd name="adj3" fmla="val 1438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28" name="Shape 18"/>
            <p:cNvCxnSpPr/>
            <p:nvPr/>
          </p:nvCxnSpPr>
          <p:spPr>
            <a:xfrm>
              <a:off x="8107920" y="3178440"/>
              <a:ext cx="536040" cy="5364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29" name="TextBox 26"/>
            <p:cNvSpPr/>
            <p:nvPr/>
          </p:nvSpPr>
          <p:spPr>
            <a:xfrm>
              <a:off x="5965920" y="3000600"/>
              <a:ext cx="35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0" name="Down Arrow 27"/>
            <p:cNvGrpSpPr/>
            <p:nvPr/>
          </p:nvGrpSpPr>
          <p:grpSpPr>
            <a:xfrm>
              <a:off x="6157800" y="2444760"/>
              <a:ext cx="481320" cy="524160"/>
              <a:chOff x="6157800" y="2444760"/>
              <a:chExt cx="481320" cy="524160"/>
            </a:xfrm>
          </p:grpSpPr>
          <p:pic>
            <p:nvPicPr>
              <p:cNvPr id="331" name="Down Arrow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6157800" y="2444760"/>
                <a:ext cx="48132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2" name=""/>
              <p:cNvSpPr/>
              <p:nvPr/>
            </p:nvSpPr>
            <p:spPr>
              <a:xfrm rot="1862400">
                <a:off x="6341040" y="2553840"/>
                <a:ext cx="1425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3" name="Oval 34"/>
            <p:cNvSpPr/>
            <p:nvPr/>
          </p:nvSpPr>
          <p:spPr>
            <a:xfrm>
              <a:off x="6465600" y="1714680"/>
              <a:ext cx="928440" cy="92880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4" name="Group 36"/>
          <p:cNvGrpSpPr/>
          <p:nvPr/>
        </p:nvGrpSpPr>
        <p:grpSpPr>
          <a:xfrm>
            <a:off x="785880" y="1571400"/>
            <a:ext cx="2071800" cy="2286360"/>
            <a:chOff x="785880" y="1571400"/>
            <a:chExt cx="2071800" cy="2286360"/>
          </a:xfrm>
        </p:grpSpPr>
        <p:grpSp>
          <p:nvGrpSpPr>
            <p:cNvPr id="335" name="Oval 2"/>
            <p:cNvGrpSpPr/>
            <p:nvPr/>
          </p:nvGrpSpPr>
          <p:grpSpPr>
            <a:xfrm>
              <a:off x="902160" y="1761840"/>
              <a:ext cx="835200" cy="829080"/>
              <a:chOff x="902160" y="1761840"/>
              <a:chExt cx="835200" cy="829080"/>
            </a:xfrm>
          </p:grpSpPr>
          <p:pic>
            <p:nvPicPr>
              <p:cNvPr id="336" name="Oval 2" descr=""/>
              <p:cNvPicPr/>
              <p:nvPr/>
            </p:nvPicPr>
            <p:blipFill>
              <a:blip r:embed="rId7"/>
              <a:stretch/>
            </p:blipFill>
            <p:spPr>
              <a:xfrm>
                <a:off x="902160" y="1761840"/>
                <a:ext cx="835200" cy="82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7" name=""/>
              <p:cNvSpPr/>
              <p:nvPr/>
            </p:nvSpPr>
            <p:spPr>
              <a:xfrm>
                <a:off x="1094040" y="1950840"/>
                <a:ext cx="454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Oval 3"/>
            <p:cNvSpPr/>
            <p:nvPr/>
          </p:nvSpPr>
          <p:spPr>
            <a:xfrm>
              <a:off x="1000080" y="285696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"/>
            <p:cNvSpPr/>
            <p:nvPr/>
          </p:nvSpPr>
          <p:spPr>
            <a:xfrm>
              <a:off x="1857600" y="2856240"/>
              <a:ext cx="642960" cy="642960"/>
            </a:xfrm>
            <a:prstGeom prst="ellipse">
              <a:avLst/>
            </a:prstGeom>
            <a:solidFill>
              <a:srgbClr val="7e848d"/>
            </a:solidFill>
            <a:ln w="19080">
              <a:solidFill>
                <a:srgbClr val="5b5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d0d0d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40" name="Curved Connector 5"/>
            <p:cNvCxnSpPr>
              <a:endCxn id="336" idx="0"/>
            </p:cNvCxnSpPr>
            <p:nvPr/>
          </p:nvCxnSpPr>
          <p:spPr>
            <a:xfrm rot="5400000">
              <a:off x="1178280" y="1713600"/>
              <a:ext cx="28620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1" name="Curved Connector 6"/>
            <p:cNvCxnSpPr/>
            <p:nvPr/>
          </p:nvCxnSpPr>
          <p:spPr>
            <a:xfrm rot="5400000">
              <a:off x="1142280" y="2678400"/>
              <a:ext cx="357840" cy="2160"/>
            </a:xfrm>
            <a:prstGeom prst="curvedConnector5">
              <a:avLst>
                <a:gd name="adj1" fmla="val 49949"/>
                <a:gd name="adj2" fmla="val 40000"/>
                <a:gd name="adj3" fmla="val 49949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2" name="Shape 7"/>
            <p:cNvCxnSpPr/>
            <p:nvPr/>
          </p:nvCxnSpPr>
          <p:spPr>
            <a:xfrm>
              <a:off x="1643040" y="2177640"/>
              <a:ext cx="536400" cy="678600"/>
            </a:xfrm>
            <a:prstGeom prst="curvedConnector2">
              <a:avLst/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3" name="Curved Connector 8"/>
            <p:cNvCxnSpPr>
              <a:stCxn id="339" idx="4"/>
            </p:cNvCxnSpPr>
            <p:nvPr/>
          </p:nvCxnSpPr>
          <p:spPr>
            <a:xfrm rot="5400000">
              <a:off x="2071440" y="3606120"/>
              <a:ext cx="214920" cy="2160"/>
            </a:xfrm>
            <a:prstGeom prst="curvedConnector5">
              <a:avLst>
                <a:gd name="adj1" fmla="val 50000"/>
                <a:gd name="adj2" fmla="val 40000"/>
                <a:gd name="adj3" fmla="val 50000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cxnSp>
          <p:nvCxnSpPr>
            <p:cNvPr id="344" name="Curved Connector 9"/>
            <p:cNvCxnSpPr>
              <a:stCxn id="339" idx="4"/>
              <a:endCxn id="338" idx="4"/>
            </p:cNvCxnSpPr>
            <p:nvPr/>
          </p:nvCxnSpPr>
          <p:spPr>
            <a:xfrm rot="5400000">
              <a:off x="1748880" y="3070800"/>
              <a:ext cx="1440" cy="857880"/>
            </a:xfrm>
            <a:prstGeom prst="curvedConnector5">
              <a:avLst>
                <a:gd name="adj1" fmla="val 28866666"/>
                <a:gd name="adj2" fmla="val 50000"/>
                <a:gd name="adj3" fmla="val 28866666"/>
              </a:avLst>
            </a:prstGeom>
            <a:ln w="9360">
              <a:solidFill>
                <a:srgbClr val="57667b"/>
              </a:solidFill>
              <a:miter/>
              <a:tailEnd len="med" type="arrow" w="med"/>
            </a:ln>
          </p:spPr>
        </p:cxnSp>
        <p:sp>
          <p:nvSpPr>
            <p:cNvPr id="345" name="Oval 35"/>
            <p:cNvSpPr/>
            <p:nvPr/>
          </p:nvSpPr>
          <p:spPr>
            <a:xfrm>
              <a:off x="785880" y="2643480"/>
              <a:ext cx="2071800" cy="1214280"/>
            </a:xfrm>
            <a:prstGeom prst="ellipse">
              <a:avLst/>
            </a:prstGeom>
            <a:solidFill>
              <a:srgbClr val="40404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Primitive Serializer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143000" y="2058480"/>
            <a:ext cx="642960" cy="929160"/>
            <a:chOff x="1143000" y="2058480"/>
            <a:chExt cx="642960" cy="929160"/>
          </a:xfrm>
        </p:grpSpPr>
        <p:grpSp>
          <p:nvGrpSpPr>
            <p:cNvPr id="348" name="Oval 2"/>
            <p:cNvGrpSpPr/>
            <p:nvPr/>
          </p:nvGrpSpPr>
          <p:grpSpPr>
            <a:xfrm>
              <a:off x="1143000" y="2232000"/>
              <a:ext cx="642960" cy="755640"/>
              <a:chOff x="1143000" y="2232000"/>
              <a:chExt cx="642960" cy="755640"/>
            </a:xfrm>
          </p:grpSpPr>
          <p:pic>
            <p:nvPicPr>
              <p:cNvPr id="349" name="Oval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232000"/>
                <a:ext cx="64296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>
                <a:off x="1292760" y="2404080"/>
                <a:ext cx="34992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351" name="Curved Connector 3"/>
            <p:cNvCxnSpPr>
              <a:endCxn id="349" idx="0"/>
            </p:cNvCxnSpPr>
            <p:nvPr/>
          </p:nvCxnSpPr>
          <p:spPr>
            <a:xfrm rot="5400000">
              <a:off x="1337040" y="2188080"/>
              <a:ext cx="261000" cy="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219ac1"/>
              </a:solidFill>
              <a:miter/>
              <a:tailEnd len="med" type="arrow" w="med"/>
            </a:ln>
          </p:spPr>
        </p:cxnSp>
      </p:grpSp>
      <p:grpSp>
        <p:nvGrpSpPr>
          <p:cNvPr id="352" name="Right Arrow 4"/>
          <p:cNvGrpSpPr/>
          <p:nvPr/>
        </p:nvGrpSpPr>
        <p:grpSpPr>
          <a:xfrm>
            <a:off x="2998800" y="2036880"/>
            <a:ext cx="1530360" cy="968400"/>
            <a:chOff x="2998800" y="2036880"/>
            <a:chExt cx="1530360" cy="968400"/>
          </a:xfrm>
        </p:grpSpPr>
        <p:pic>
          <p:nvPicPr>
            <p:cNvPr id="353" name="Right Arrow 4" descr=""/>
            <p:cNvPicPr/>
            <p:nvPr/>
          </p:nvPicPr>
          <p:blipFill>
            <a:blip r:embed="rId2"/>
            <a:stretch/>
          </p:blipFill>
          <p:spPr>
            <a:xfrm>
              <a:off x="2998800" y="2036880"/>
              <a:ext cx="153036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086280" y="2327400"/>
              <a:ext cx="116028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Rectangle 5"/>
          <p:cNvSpPr/>
          <p:nvPr/>
        </p:nvSpPr>
        <p:spPr>
          <a:xfrm>
            <a:off x="5749560" y="2046240"/>
            <a:ext cx="1963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3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  </a:t>
            </a:r>
            <a:r>
              <a:rPr b="1" lang="de-AT" sz="2000" spc="-1" strike="noStrike">
                <a:solidFill>
                  <a:srgbClr val="ffff00"/>
                </a:solidFill>
                <a:latin typeface="Courier New"/>
                <a:ea typeface="Courier New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lt;/</a:t>
            </a:r>
            <a:r>
              <a:rPr b="0" lang="de-AT" sz="1800" spc="-1" strike="noStrike">
                <a:solidFill>
                  <a:srgbClr val="d76fd0"/>
                </a:solidFill>
                <a:latin typeface="Courier New"/>
                <a:ea typeface="Courier New"/>
              </a:rPr>
              <a:t>primitive</a:t>
            </a:r>
            <a:r>
              <a:rPr b="0" lang="de-AT" sz="1800" spc="-1" strike="noStrike">
                <a:solidFill>
                  <a:srgbClr val="7f7f7f"/>
                </a:solidFill>
                <a:latin typeface="Courier New"/>
                <a:ea typeface="Courier New"/>
              </a:rPr>
              <a:t>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457200" y="4143240"/>
            <a:ext cx="74674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transform betw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in-memory obj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serial format (e.g. XML tex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fixed mapping between formatter </a:t>
            </a:r>
            <a:r>
              <a:rPr b="0" lang="de-AT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 typ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876240" indent="-382680">
              <a:lnSpc>
                <a:spcPct val="100000"/>
              </a:lnSpc>
              <a:spcBef>
                <a:spcPts val="649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Configurat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pecific to output format (e.g. XML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contai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composite serializer (in orde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primitive serializ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included in type cach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persistent (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ConfigurationService</a:t>
            </a: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default configuration through reflec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600" spc="-1" strike="noStrike">
                <a:solidFill>
                  <a:srgbClr val="ffffff"/>
                </a:solidFill>
                <a:latin typeface="Franklin Gothic Book"/>
              </a:rPr>
              <a:t>U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811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std. data types are handle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ffffff"/>
                </a:solidFill>
                <a:latin typeface="Arial"/>
              </a:rPr>
              <a:t>new classes can use </a:t>
            </a:r>
            <a:r>
              <a:rPr b="0" lang="de-AT" sz="2800" spc="-1" strike="noStrike">
                <a:solidFill>
                  <a:srgbClr val="ffffff"/>
                </a:solidFill>
                <a:latin typeface="Courier New"/>
                <a:ea typeface="Courier New"/>
              </a:rPr>
              <a:t>StorableSeriali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4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dd </a:t>
            </a:r>
            <a:r>
              <a:rPr b="0" lang="de-AT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[Storable]</a:t>
            </a:r>
            <a:r>
              <a:rPr b="0" lang="de-A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AT" sz="2600" spc="-1" strike="noStrike">
                <a:solidFill>
                  <a:srgbClr val="ffffff"/>
                </a:solidFill>
                <a:latin typeface="Arial"/>
              </a:rPr>
              <a:t>attribute to fields or properti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Rectangle 5"/>
          <p:cNvGrpSpPr/>
          <p:nvPr/>
        </p:nvGrpSpPr>
        <p:grpSpPr>
          <a:xfrm>
            <a:off x="706320" y="3456000"/>
            <a:ext cx="3372120" cy="2316240"/>
            <a:chOff x="706320" y="3456000"/>
            <a:chExt cx="3372120" cy="2316240"/>
          </a:xfrm>
        </p:grpSpPr>
        <p:pic>
          <p:nvPicPr>
            <p:cNvPr id="362" name="Rectangle 5" descr=""/>
            <p:cNvPicPr/>
            <p:nvPr/>
          </p:nvPicPr>
          <p:blipFill>
            <a:blip r:embed="rId1"/>
            <a:stretch/>
          </p:blipFill>
          <p:spPr>
            <a:xfrm>
              <a:off x="706320" y="3456000"/>
              <a:ext cx="337212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14240" y="3460680"/>
              <a:ext cx="33577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IntWrapper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Value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6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Storabl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</a:t>
              </a:r>
              <a:r>
                <a:rPr b="0" lang="de-AT" sz="1600" spc="-1" strike="noStrike">
                  <a:solidFill>
                    <a:srgbClr val="0070c0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tring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Name {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g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</a:t>
              </a: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set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4" name="Rectangle 6"/>
          <p:cNvGrpSpPr/>
          <p:nvPr/>
        </p:nvGrpSpPr>
        <p:grpSpPr>
          <a:xfrm>
            <a:off x="4705200" y="3444840"/>
            <a:ext cx="3372120" cy="1182600"/>
            <a:chOff x="4705200" y="3444840"/>
            <a:chExt cx="3372120" cy="1182600"/>
          </a:xfrm>
        </p:grpSpPr>
        <p:pic>
          <p:nvPicPr>
            <p:cNvPr id="365" name="Rectangle 6" descr=""/>
            <p:cNvPicPr/>
            <p:nvPr/>
          </p:nvPicPr>
          <p:blipFill>
            <a:blip r:embed="rId2"/>
            <a:stretch/>
          </p:blipFill>
          <p:spPr>
            <a:xfrm>
              <a:off x="4705200" y="3444840"/>
              <a:ext cx="337212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4714920" y="3451320"/>
              <a:ext cx="3357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[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StorableClass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]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NonSerialized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  </a:t>
              </a: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rivate int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TransientValue;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   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..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7" name="Rectangle 7"/>
          <p:cNvGrpSpPr/>
          <p:nvPr/>
        </p:nvGrpSpPr>
        <p:grpSpPr>
          <a:xfrm>
            <a:off x="4705200" y="5400720"/>
            <a:ext cx="3372120" cy="323640"/>
            <a:chOff x="4705200" y="5400720"/>
            <a:chExt cx="3372120" cy="323640"/>
          </a:xfrm>
        </p:grpSpPr>
        <p:pic>
          <p:nvPicPr>
            <p:cNvPr id="368" name="Rectangle 7" descr=""/>
            <p:cNvPicPr/>
            <p:nvPr/>
          </p:nvPicPr>
          <p:blipFill>
            <a:blip r:embed="rId3"/>
            <a:stretch/>
          </p:blipFill>
          <p:spPr>
            <a:xfrm>
              <a:off x="4705200" y="5400720"/>
              <a:ext cx="337212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4714920" y="5407200"/>
              <a:ext cx="335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public class </a:t>
              </a:r>
              <a:r>
                <a:rPr b="0" lang="de-AT" sz="1400" spc="-1" strike="noStrike">
                  <a:solidFill>
                    <a:srgbClr val="2b91af"/>
                  </a:solidFill>
                  <a:latin typeface="Courier New"/>
                  <a:ea typeface="Courier New"/>
                </a:rPr>
                <a:t>Empty </a:t>
              </a:r>
              <a:r>
                <a:rPr b="0" lang="de-AT" sz="1400" spc="-1" strike="noStrike">
                  <a:solidFill>
                    <a:srgbClr val="0d0d0d"/>
                  </a:solidFill>
                  <a:latin typeface="Courier New"/>
                  <a:ea typeface="Courier New"/>
                </a:rPr>
                <a:t>{ }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07:51:22Z</dcterms:created>
  <dc:creator>Pitzer Erik</dc:creator>
  <dc:description/>
  <dc:language>en-US</dc:language>
  <cp:lastModifiedBy>erik</cp:lastModifiedBy>
  <dcterms:modified xsi:type="dcterms:W3CDTF">2009-05-19T09:22:09Z</dcterms:modified>
  <cp:revision>164</cp:revision>
  <dc:subject/>
  <dc:title>Persistcence 3.3</dc:title>
</cp:coreProperties>
</file>