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8A91-559E-4822-9201-1CAE48AF8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CF47-FDCE-4F26-8B01-C9EC343B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E317-9671-4D75-8E16-5B4DC14D7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F5EA-1DC5-4F59-8C8C-1280364B8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A19E-8A66-456C-96E4-2FC5B2FDF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9FDC-5E3E-49E3-B972-3A60CCFA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7D4A-5603-46FF-91AC-A52E0229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4A90-9AD6-4DDC-B18E-410CB86B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FA36-1A74-418E-8538-5A32F843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582B-0F32-49A4-92EB-908A1914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4D50-575F-4582-93F8-D6058113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F24A-5C85-4214-A762-6635075A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9FB1-9C0D-4E16-BDBB-A5BBEAB7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641A-28BA-4AED-BF13-79724C1E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A8D4-B869-4870-AC04-FB3F6DD8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8B10-5120-4E2C-89B8-54012E617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1AF9-7593-4494-87D6-9439B5AB4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1CDBA-D028-4FA4-BE41-26191F876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BB5AB-646A-454D-9692-9CA1F946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73F90-122A-4BD3-B622-D9C83B39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BF1A6-44AA-438A-9E6D-F8964F5A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F3A08-2629-459F-A526-15AAE9E7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D283-104E-4967-9246-D68CC8C2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F01DA-15CD-4970-ADBF-EDFAF84F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0B1E0-DF03-4EE4-A841-A72AF11A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0FEA0-F03F-4AEF-B718-33F2B53D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60BDF-6D0B-451A-90DA-0AB54714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EC3C1-D9EC-4944-A8C0-69DAC16D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D5297-DD64-484D-8CA7-598057198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E0531-AADB-4AE3-A402-D2B3A72DB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03FC8-5EB4-4231-BABC-76F34C4FB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F27AC-5F7B-4B41-88DD-C0775CC3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6A236-81CC-4B97-8FCC-0AE0A833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533F-686C-45B8-8884-EFCD3B01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896AD-6615-4A16-90E3-234002AA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7D437-7866-4FEF-99B7-AE8C1A97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3EFEE-C3AA-4A8D-BF11-D7CBBEDC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39C3D-EED4-4686-82E8-0A4B8D6A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461BC-75B0-4D71-AEDF-9DC2191B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A9439-98FC-4CF9-80D9-0ACBAB1B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19176-0237-4F47-80EA-DDF7BE8F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96528-CEBC-4162-B443-B3EC0BF1B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D1321-3DE2-4FC8-A1C9-03F7D7D55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31B07-C1F1-4089-9FB5-E9624E38F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AFF4-C1C7-4284-A055-0EB4DD37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25D7E-D551-41A6-B268-47A3909C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59A1D-DAC5-452B-8F3E-B3E4062A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3C65B-A521-416E-A04D-4B74D4A4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7DC34-94E7-4D37-9861-7424DF8D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0B2F1-55B5-4107-8CF9-98765DAF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DF395-C84F-4A25-810C-62274C60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1D0C8-E324-40C8-A716-F6AE0339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872EC-70CA-4030-B3F1-715CF7C6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BDEB2-9C4B-4EA0-9F69-957E0C08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069EB-E587-4C9A-B9F9-F67390AFC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115B-202B-4127-A978-49459D76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11351-B75E-4254-8087-C894C3FE0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47561-97B2-4B79-9991-D740CA099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9647B-2CD0-4121-A842-4D18FCF4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3B6AB-5985-4E1B-BFD9-784AE56D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1FF32-3E7D-4D8F-BBB1-6EDDEF02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80BFB-0A2A-40C5-A5CB-ADE4A2CC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78540-4130-4611-B265-906C8529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E80B1-BD3A-452A-96AC-16240992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6DB3B-A1C4-4D07-B519-241BE95C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D15F4-C373-414E-9834-425F98B6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21FF-0256-4DE2-BE0A-127B14E6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00AA6-7024-48A6-ACDD-26A8F750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67380-CB12-48B1-90C7-5143F2AD9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9E5EE-0EB2-457F-81DF-F201E74F5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7BD1-0474-4649-995D-AC02445A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36A5-B9D0-40BD-9B6D-A6A49BD0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71DA-80C1-4B28-BC72-6C9C4B7D143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18C1-FD81-445B-9C05-B6AE31B9341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1C61-1A08-454C-BAC4-467F9550BDC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D530-31A9-4EC5-912F-75CD97BE2E7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3D22-BE06-4FB7-AAA9-8BEFDFCF02D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9B30-864D-4E4A-A365-AE08500C8B1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71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HeuristicL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Advanced 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ustom serialization through proper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oad old version: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Name=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faultValue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Rectangle 9"/>
          <p:cNvGrpSpPr/>
          <p:nvPr/>
        </p:nvGrpSpPr>
        <p:grpSpPr>
          <a:xfrm>
            <a:off x="781200" y="3071880"/>
            <a:ext cx="6441840" cy="2469960"/>
            <a:chOff x="781200" y="3071880"/>
            <a:chExt cx="6441840" cy="2469960"/>
          </a:xfrm>
        </p:grpSpPr>
        <p:pic>
          <p:nvPicPr>
            <p:cNvPr id="373" name="Rectangle 9" descr=""/>
            <p:cNvPicPr/>
            <p:nvPr/>
          </p:nvPicPr>
          <p:blipFill>
            <a:blip r:embed="rId1"/>
            <a:stretch/>
          </p:blipFill>
          <p:spPr>
            <a:xfrm>
              <a:off x="781200" y="3071880"/>
              <a:ext cx="6441840" cy="24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785880" y="3075120"/>
              <a:ext cx="642924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imeTes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Name=</a:t>
              </a:r>
              <a:r>
                <a:rPr b="0" lang="de-AT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"Time"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 DefaultValue=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Now)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Persistence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return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;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=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.Now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Hack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ZIP Fi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data.xml</a:t>
            </a: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s serial object grap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Tags: 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PRIMITIV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EFERENC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NU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Attributes: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nam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id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typeId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e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cache.xml</a:t>
            </a: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s mapping of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Id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 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AssemblyQualified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eria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Extension &amp; Customiz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more efficient serialization through new custom serializers (e.g. compact array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introduce new format by replacing generator and pars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bugSt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 mechains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disable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orableSeria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add new generic composite seria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Primitiv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0" name="Rectangle 3"/>
          <p:cNvGrpSpPr/>
          <p:nvPr/>
        </p:nvGrpSpPr>
        <p:grpSpPr>
          <a:xfrm>
            <a:off x="1994040" y="2567160"/>
            <a:ext cx="5510160" cy="2900160"/>
            <a:chOff x="1994040" y="2567160"/>
            <a:chExt cx="5510160" cy="2900160"/>
          </a:xfrm>
        </p:grpSpPr>
        <p:pic>
          <p:nvPicPr>
            <p:cNvPr id="381" name="Rectangle 3" descr=""/>
            <p:cNvPicPr/>
            <p:nvPr/>
          </p:nvPicPr>
          <p:blipFill>
            <a:blip r:embed="rId1"/>
            <a:stretch/>
          </p:blipFill>
          <p:spPr>
            <a:xfrm>
              <a:off x="1994040" y="2567160"/>
              <a:ext cx="5510160" cy="29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2000160" y="2571840"/>
              <a:ext cx="5500800" cy="28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ring2XmlFormatter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PrimitiveSerializerBas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verride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ormat(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s)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verride 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arse(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.Data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Composit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4" name="Rectangle 4"/>
          <p:cNvGrpSpPr/>
          <p:nvPr/>
        </p:nvGrpSpPr>
        <p:grpSpPr>
          <a:xfrm>
            <a:off x="493560" y="1414440"/>
            <a:ext cx="7796520" cy="5089680"/>
            <a:chOff x="493560" y="1414440"/>
            <a:chExt cx="7796520" cy="5089680"/>
          </a:xfrm>
        </p:grpSpPr>
        <p:pic>
          <p:nvPicPr>
            <p:cNvPr id="385" name="Rectangle 4" descr=""/>
            <p:cNvPicPr/>
            <p:nvPr/>
          </p:nvPicPr>
          <p:blipFill>
            <a:blip r:embed="rId1"/>
            <a:stretch/>
          </p:blipFill>
          <p:spPr>
            <a:xfrm>
              <a:off x="493560" y="1414440"/>
              <a:ext cx="7796520" cy="50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500040" y="1422360"/>
              <a:ext cx="7786800" cy="48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erableDecompos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CompositeSerializ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int Priority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ge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; }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bool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nSerializ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.GetInterfac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ypeof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.FullName) !=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ull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&gt;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MetaInfo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o) 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};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&gt;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ompose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i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yield return new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o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bjec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Instance(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,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metaInfo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Activator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CreateInstance(type,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ru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void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pulat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stance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tags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var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in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s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.GetMethod(</a:t>
              </a:r>
              <a:r>
                <a:rPr b="0" lang="en-US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"Add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").Invoke(instance,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ew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tag.Value }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Composit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8" name="Rectangle 2"/>
          <p:cNvGrpSpPr/>
          <p:nvPr/>
        </p:nvGrpSpPr>
        <p:grpSpPr>
          <a:xfrm>
            <a:off x="566640" y="1725480"/>
            <a:ext cx="7510680" cy="4351320"/>
            <a:chOff x="566640" y="1725480"/>
            <a:chExt cx="7510680" cy="4351320"/>
          </a:xfrm>
        </p:grpSpPr>
        <p:pic>
          <p:nvPicPr>
            <p:cNvPr id="389" name="Rectangle 2" descr=""/>
            <p:cNvPicPr/>
            <p:nvPr/>
          </p:nvPicPr>
          <p:blipFill>
            <a:blip r:embed="rId1"/>
            <a:stretch/>
          </p:blipFill>
          <p:spPr>
            <a:xfrm>
              <a:off x="566640" y="1725480"/>
              <a:ext cx="751068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571680" y="1731960"/>
              <a:ext cx="7500600" cy="42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Decompos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CompositeSerializ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int Priority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; }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bool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nSerializ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a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!=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ull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MetaInfo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yield return new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Format(obj.GetType(), obj, </a:t>
              </a:r>
              <a:r>
                <a:rPr b="0" lang="en-US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"G"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ompos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bj) {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}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Instanc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metaInfo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tor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it = metaInfo.GetEnumerator();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t.MoveNext(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Parse(t, 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it.Current.Value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void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pulat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stance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elements, Type t) {}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Version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full version information is stor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fall back to compatible ver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ame major &amp; minor version numb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ewer build &amp; revi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possibility of independent archiv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ntain all required assembl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serialized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used seria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Next Step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ver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opulate/GetXML()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rebuild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engi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te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Motiv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ess memory press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 D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ingle pa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linear proc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ess developer eff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 interfaces to impl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modularity &amp; flexibi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t specific to X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t specific to any interface (i.e. </a:t>
            </a:r>
            <a:r>
              <a:rPr b="0" lang="de-A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mpone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546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driver: serializer (deserializ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traversal of object grap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object graph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tree/stre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object analys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mposit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back end: generator (pars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primitiv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erial object information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file/db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Overview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61" name="Down Arrow 11"/>
          <p:cNvGrpSpPr/>
          <p:nvPr/>
        </p:nvGrpSpPr>
        <p:grpSpPr>
          <a:xfrm>
            <a:off x="974880" y="2189160"/>
            <a:ext cx="688680" cy="3254400"/>
            <a:chOff x="974880" y="2189160"/>
            <a:chExt cx="688680" cy="3254400"/>
          </a:xfrm>
        </p:grpSpPr>
        <p:pic>
          <p:nvPicPr>
            <p:cNvPr id="262" name="Down Arrow 11" descr=""/>
            <p:cNvPicPr/>
            <p:nvPr/>
          </p:nvPicPr>
          <p:blipFill>
            <a:blip r:embed="rId1"/>
            <a:stretch/>
          </p:blipFill>
          <p:spPr>
            <a:xfrm>
              <a:off x="974880" y="2189160"/>
              <a:ext cx="6886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197000" y="2286000"/>
              <a:ext cx="249120" cy="29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             </a:t>
              </a: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Down Arrow 13"/>
          <p:cNvGrpSpPr/>
          <p:nvPr/>
        </p:nvGrpSpPr>
        <p:grpSpPr>
          <a:xfrm>
            <a:off x="7047000" y="2189160"/>
            <a:ext cx="682560" cy="3254400"/>
            <a:chOff x="7047000" y="2189160"/>
            <a:chExt cx="682560" cy="3254400"/>
          </a:xfrm>
        </p:grpSpPr>
        <p:pic>
          <p:nvPicPr>
            <p:cNvPr id="265" name="Down Arrow 13" descr=""/>
            <p:cNvPicPr/>
            <p:nvPr/>
          </p:nvPicPr>
          <p:blipFill>
            <a:blip r:embed="rId2"/>
            <a:stretch/>
          </p:blipFill>
          <p:spPr>
            <a:xfrm>
              <a:off x="7047000" y="2189160"/>
              <a:ext cx="68256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0800000">
              <a:off x="7269120" y="2410920"/>
              <a:ext cx="249120" cy="29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deserializ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Rectangle 5"/>
          <p:cNvGrpSpPr/>
          <p:nvPr/>
        </p:nvGrpSpPr>
        <p:grpSpPr>
          <a:xfrm>
            <a:off x="1616040" y="2189160"/>
            <a:ext cx="5261040" cy="901800"/>
            <a:chOff x="1616040" y="2189160"/>
            <a:chExt cx="5261040" cy="901800"/>
          </a:xfrm>
        </p:grpSpPr>
        <p:pic>
          <p:nvPicPr>
            <p:cNvPr id="268" name="Rectangle 5" descr=""/>
            <p:cNvPicPr/>
            <p:nvPr/>
          </p:nvPicPr>
          <p:blipFill>
            <a:blip r:embed="rId3"/>
            <a:stretch/>
          </p:blipFill>
          <p:spPr>
            <a:xfrm>
              <a:off x="1616040" y="2189160"/>
              <a:ext cx="52610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714680" y="2286000"/>
              <a:ext cx="50720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live obje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Rectangle 7"/>
          <p:cNvGrpSpPr/>
          <p:nvPr/>
        </p:nvGrpSpPr>
        <p:grpSpPr>
          <a:xfrm>
            <a:off x="4900680" y="2901960"/>
            <a:ext cx="2189160" cy="762120"/>
            <a:chOff x="4900680" y="2901960"/>
            <a:chExt cx="2189160" cy="762120"/>
          </a:xfrm>
        </p:grpSpPr>
        <p:pic>
          <p:nvPicPr>
            <p:cNvPr id="271" name="Rectangle 7" descr=""/>
            <p:cNvPicPr/>
            <p:nvPr/>
          </p:nvPicPr>
          <p:blipFill>
            <a:blip r:embed="rId4"/>
            <a:stretch/>
          </p:blipFill>
          <p:spPr>
            <a:xfrm>
              <a:off x="4900680" y="2901960"/>
              <a:ext cx="21891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5000760" y="3000240"/>
              <a:ext cx="20001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composi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Rectangle 6"/>
          <p:cNvGrpSpPr/>
          <p:nvPr/>
        </p:nvGrpSpPr>
        <p:grpSpPr>
          <a:xfrm>
            <a:off x="1616040" y="2901960"/>
            <a:ext cx="3260880" cy="762120"/>
            <a:chOff x="1616040" y="2901960"/>
            <a:chExt cx="3260880" cy="762120"/>
          </a:xfrm>
        </p:grpSpPr>
        <p:pic>
          <p:nvPicPr>
            <p:cNvPr id="274" name="Rectangle 6" descr=""/>
            <p:cNvPicPr/>
            <p:nvPr/>
          </p:nvPicPr>
          <p:blipFill>
            <a:blip r:embed="rId5"/>
            <a:stretch/>
          </p:blipFill>
          <p:spPr>
            <a:xfrm>
              <a:off x="1616040" y="2901960"/>
              <a:ext cx="3260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714680" y="3000240"/>
              <a:ext cx="3071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er / deserializ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Rectangle 15"/>
          <p:cNvGrpSpPr/>
          <p:nvPr/>
        </p:nvGrpSpPr>
        <p:grpSpPr>
          <a:xfrm>
            <a:off x="1616040" y="3475080"/>
            <a:ext cx="5261040" cy="689040"/>
            <a:chOff x="1616040" y="3475080"/>
            <a:chExt cx="5261040" cy="689040"/>
          </a:xfrm>
        </p:grpSpPr>
        <p:pic>
          <p:nvPicPr>
            <p:cNvPr id="277" name="Rectangle 15" descr=""/>
            <p:cNvPicPr/>
            <p:nvPr/>
          </p:nvPicPr>
          <p:blipFill>
            <a:blip r:embed="rId6"/>
            <a:stretch/>
          </p:blipFill>
          <p:spPr>
            <a:xfrm>
              <a:off x="1616040" y="3475080"/>
              <a:ext cx="52610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1714680" y="3571920"/>
              <a:ext cx="5072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ation toke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Rectangle 9"/>
          <p:cNvGrpSpPr/>
          <p:nvPr/>
        </p:nvGrpSpPr>
        <p:grpSpPr>
          <a:xfrm>
            <a:off x="4900680" y="3975120"/>
            <a:ext cx="2189160" cy="762120"/>
            <a:chOff x="4900680" y="3975120"/>
            <a:chExt cx="2189160" cy="762120"/>
          </a:xfrm>
        </p:grpSpPr>
        <p:pic>
          <p:nvPicPr>
            <p:cNvPr id="280" name="Rectangle 9" descr=""/>
            <p:cNvPicPr/>
            <p:nvPr/>
          </p:nvPicPr>
          <p:blipFill>
            <a:blip r:embed="rId7"/>
            <a:stretch/>
          </p:blipFill>
          <p:spPr>
            <a:xfrm>
              <a:off x="4900680" y="3975120"/>
              <a:ext cx="21891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000760" y="4071960"/>
              <a:ext cx="20001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primitiv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Rectangle 8"/>
          <p:cNvGrpSpPr/>
          <p:nvPr/>
        </p:nvGrpSpPr>
        <p:grpSpPr>
          <a:xfrm>
            <a:off x="1616040" y="3975120"/>
            <a:ext cx="3260880" cy="762120"/>
            <a:chOff x="1616040" y="3975120"/>
            <a:chExt cx="3260880" cy="762120"/>
          </a:xfrm>
        </p:grpSpPr>
        <p:pic>
          <p:nvPicPr>
            <p:cNvPr id="283" name="Rectangle 8" descr=""/>
            <p:cNvPicPr/>
            <p:nvPr/>
          </p:nvPicPr>
          <p:blipFill>
            <a:blip r:embed="rId8"/>
            <a:stretch/>
          </p:blipFill>
          <p:spPr>
            <a:xfrm>
              <a:off x="1616040" y="3975120"/>
              <a:ext cx="3260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714680" y="4071960"/>
              <a:ext cx="3071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generator / pars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Rectangle 10"/>
          <p:cNvGrpSpPr/>
          <p:nvPr/>
        </p:nvGrpSpPr>
        <p:grpSpPr>
          <a:xfrm>
            <a:off x="1616040" y="4548240"/>
            <a:ext cx="5261040" cy="895320"/>
            <a:chOff x="1616040" y="4548240"/>
            <a:chExt cx="5261040" cy="895320"/>
          </a:xfrm>
        </p:grpSpPr>
        <p:pic>
          <p:nvPicPr>
            <p:cNvPr id="286" name="Rectangle 10" descr=""/>
            <p:cNvPicPr/>
            <p:nvPr/>
          </p:nvPicPr>
          <p:blipFill>
            <a:blip r:embed="rId9"/>
            <a:stretch/>
          </p:blipFill>
          <p:spPr>
            <a:xfrm>
              <a:off x="1616040" y="4548240"/>
              <a:ext cx="526104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714680" y="4643280"/>
              <a:ext cx="5072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persisted obje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Oval 3"/>
          <p:cNvSpPr/>
          <p:nvPr/>
        </p:nvSpPr>
        <p:spPr>
          <a:xfrm>
            <a:off x="785880" y="172872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Oval 4"/>
          <p:cNvSpPr/>
          <p:nvPr/>
        </p:nvSpPr>
        <p:spPr>
          <a:xfrm>
            <a:off x="785880" y="265752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Oval 5"/>
          <p:cNvSpPr/>
          <p:nvPr/>
        </p:nvSpPr>
        <p:spPr>
          <a:xfrm>
            <a:off x="785880" y="3586320"/>
            <a:ext cx="642960" cy="642960"/>
          </a:xfrm>
          <a:prstGeom prst="ellipse">
            <a:avLst/>
          </a:prstGeom>
          <a:solidFill>
            <a:srgbClr val="8d89a4"/>
          </a:soli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Oval 6"/>
          <p:cNvSpPr/>
          <p:nvPr/>
        </p:nvSpPr>
        <p:spPr>
          <a:xfrm>
            <a:off x="1643040" y="4514760"/>
            <a:ext cx="642960" cy="642960"/>
          </a:xfrm>
          <a:prstGeom prst="ellipse">
            <a:avLst/>
          </a:prstGeom>
          <a:solidFill>
            <a:srgbClr val="8d89a4"/>
          </a:soli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Oval 7"/>
          <p:cNvSpPr/>
          <p:nvPr/>
        </p:nvSpPr>
        <p:spPr>
          <a:xfrm>
            <a:off x="2500200" y="451476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Oval 8"/>
          <p:cNvSpPr/>
          <p:nvPr/>
        </p:nvSpPr>
        <p:spPr>
          <a:xfrm>
            <a:off x="1643040" y="365760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2500200" y="5372280"/>
            <a:ext cx="642960" cy="64260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6" name="Curved Connector 11"/>
          <p:cNvCxnSpPr>
            <a:stCxn id="289" idx="4"/>
            <a:endCxn id="290" idx="0"/>
          </p:cNvCxnSpPr>
          <p:nvPr/>
        </p:nvCxnSpPr>
        <p:spPr>
          <a:xfrm rot="5400000">
            <a:off x="964080" y="2515320"/>
            <a:ext cx="28620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7" name="Curved Connector 13"/>
          <p:cNvCxnSpPr>
            <a:stCxn id="290" idx="4"/>
            <a:endCxn id="291" idx="0"/>
          </p:cNvCxnSpPr>
          <p:nvPr/>
        </p:nvCxnSpPr>
        <p:spPr>
          <a:xfrm rot="5400000">
            <a:off x="963720" y="3444120"/>
            <a:ext cx="286560" cy="2160"/>
          </a:xfrm>
          <a:prstGeom prst="curvedConnector5">
            <a:avLst>
              <a:gd name="adj1" fmla="val 49937"/>
              <a:gd name="adj2" fmla="val 40000"/>
              <a:gd name="adj3" fmla="val 49937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8" name="Shape 15"/>
          <p:cNvCxnSpPr>
            <a:stCxn id="290" idx="6"/>
            <a:endCxn id="294" idx="0"/>
          </p:cNvCxnSpPr>
          <p:nvPr/>
        </p:nvCxnSpPr>
        <p:spPr>
          <a:xfrm>
            <a:off x="1428840" y="2979360"/>
            <a:ext cx="535680" cy="678600"/>
          </a:xfrm>
          <a:prstGeom prst="curvedConnector2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9" name="Curved Connector 17"/>
          <p:cNvCxnSpPr>
            <a:stCxn id="294" idx="4"/>
            <a:endCxn id="292" idx="0"/>
          </p:cNvCxnSpPr>
          <p:nvPr/>
        </p:nvCxnSpPr>
        <p:spPr>
          <a:xfrm rot="5400000">
            <a:off x="1856520" y="4408560"/>
            <a:ext cx="215280" cy="2160"/>
          </a:xfrm>
          <a:prstGeom prst="curvedConnector5">
            <a:avLst>
              <a:gd name="adj1" fmla="val 49916"/>
              <a:gd name="adj2" fmla="val 40000"/>
              <a:gd name="adj3" fmla="val 49916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0" name="Curved Connector 19"/>
          <p:cNvCxnSpPr>
            <a:stCxn id="294" idx="4"/>
            <a:endCxn id="291" idx="4"/>
          </p:cNvCxnSpPr>
          <p:nvPr/>
        </p:nvCxnSpPr>
        <p:spPr>
          <a:xfrm flipV="1" rot="16200000">
            <a:off x="1499040" y="3835800"/>
            <a:ext cx="72000" cy="857880"/>
          </a:xfrm>
          <a:prstGeom prst="curvedConnector5">
            <a:avLst>
              <a:gd name="adj1" fmla="val -319597"/>
              <a:gd name="adj2" fmla="val 50000"/>
              <a:gd name="adj3" fmla="val -319597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1" name="Shape 22"/>
          <p:cNvCxnSpPr>
            <a:stCxn id="294" idx="6"/>
            <a:endCxn id="293" idx="0"/>
          </p:cNvCxnSpPr>
          <p:nvPr/>
        </p:nvCxnSpPr>
        <p:spPr>
          <a:xfrm>
            <a:off x="2286000" y="3979800"/>
            <a:ext cx="535680" cy="535680"/>
          </a:xfrm>
          <a:prstGeom prst="curvedConnector2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2" name="Curved Connector 24"/>
          <p:cNvCxnSpPr>
            <a:stCxn id="293" idx="4"/>
            <a:endCxn id="295" idx="0"/>
          </p:cNvCxnSpPr>
          <p:nvPr/>
        </p:nvCxnSpPr>
        <p:spPr>
          <a:xfrm rot="5400000">
            <a:off x="2714040" y="5265720"/>
            <a:ext cx="2149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3" name="Shape 26"/>
          <p:cNvCxnSpPr>
            <a:stCxn id="295" idx="2"/>
            <a:endCxn id="292" idx="4"/>
          </p:cNvCxnSpPr>
          <p:nvPr/>
        </p:nvCxnSpPr>
        <p:spPr>
          <a:xfrm rot="10800000">
            <a:off x="1963800" y="5157000"/>
            <a:ext cx="536760" cy="537480"/>
          </a:xfrm>
          <a:prstGeom prst="curvedConnector2">
            <a:avLst/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4" name="Curved Connector 28"/>
          <p:cNvCxnSpPr>
            <a:stCxn id="295" idx="6"/>
            <a:endCxn id="294" idx="6"/>
          </p:cNvCxnSpPr>
          <p:nvPr/>
        </p:nvCxnSpPr>
        <p:spPr>
          <a:xfrm flipH="1" flipV="1">
            <a:off x="2285280" y="3979080"/>
            <a:ext cx="857880" cy="1715400"/>
          </a:xfrm>
          <a:prstGeom prst="curvedConnector5">
            <a:avLst>
              <a:gd name="adj1" fmla="val -26658"/>
              <a:gd name="adj2" fmla="val 50000"/>
              <a:gd name="adj3" fmla="val -26658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5" name="Curved Connector 30"/>
          <p:cNvCxnSpPr>
            <a:stCxn id="293" idx="6"/>
            <a:endCxn id="289" idx="6"/>
          </p:cNvCxnSpPr>
          <p:nvPr/>
        </p:nvCxnSpPr>
        <p:spPr>
          <a:xfrm flipH="1" flipV="1">
            <a:off x="1428480" y="2050200"/>
            <a:ext cx="1715040" cy="2786760"/>
          </a:xfrm>
          <a:prstGeom prst="curvedConnector5">
            <a:avLst>
              <a:gd name="adj1" fmla="val -13331"/>
              <a:gd name="adj2" fmla="val 50000"/>
              <a:gd name="adj3" fmla="val -13331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6" name="Curved Connector 35"/>
          <p:cNvCxnSpPr>
            <a:stCxn id="293" idx="6"/>
            <a:endCxn id="294" idx="6"/>
          </p:cNvCxnSpPr>
          <p:nvPr/>
        </p:nvCxnSpPr>
        <p:spPr>
          <a:xfrm flipH="1" flipV="1">
            <a:off x="2285280" y="3979080"/>
            <a:ext cx="857880" cy="857880"/>
          </a:xfrm>
          <a:prstGeom prst="curvedConnector5">
            <a:avLst>
              <a:gd name="adj1" fmla="val -54408"/>
              <a:gd name="adj2" fmla="val 50000"/>
              <a:gd name="adj3" fmla="val -54408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sp>
        <p:nvSpPr>
          <p:cNvPr id="307" name="Rectangle 38"/>
          <p:cNvSpPr/>
          <p:nvPr/>
        </p:nvSpPr>
        <p:spPr>
          <a:xfrm>
            <a:off x="5072040" y="1500120"/>
            <a:ext cx="3500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2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5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6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7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5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Right Arrow 40"/>
          <p:cNvGrpSpPr/>
          <p:nvPr/>
        </p:nvGrpSpPr>
        <p:grpSpPr>
          <a:xfrm>
            <a:off x="3913200" y="3267000"/>
            <a:ext cx="1530360" cy="970200"/>
            <a:chOff x="3913200" y="3267000"/>
            <a:chExt cx="1530360" cy="970200"/>
          </a:xfrm>
        </p:grpSpPr>
        <p:pic>
          <p:nvPicPr>
            <p:cNvPr id="309" name="Right Arrow 40" descr=""/>
            <p:cNvPicPr/>
            <p:nvPr/>
          </p:nvPicPr>
          <p:blipFill>
            <a:blip r:embed="rId1"/>
            <a:stretch/>
          </p:blipFill>
          <p:spPr>
            <a:xfrm>
              <a:off x="3913200" y="3267000"/>
              <a:ext cx="153036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000680" y="3554280"/>
              <a:ext cx="116028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mposite Serializ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12" name="Right Arrow 10"/>
          <p:cNvGrpSpPr/>
          <p:nvPr/>
        </p:nvGrpSpPr>
        <p:grpSpPr>
          <a:xfrm>
            <a:off x="3645000" y="2230560"/>
            <a:ext cx="1530360" cy="969840"/>
            <a:chOff x="3645000" y="2230560"/>
            <a:chExt cx="1530360" cy="969840"/>
          </a:xfrm>
        </p:grpSpPr>
        <p:pic>
          <p:nvPicPr>
            <p:cNvPr id="313" name="Right Arrow 10" descr=""/>
            <p:cNvPicPr/>
            <p:nvPr/>
          </p:nvPicPr>
          <p:blipFill>
            <a:blip r:embed="rId1"/>
            <a:stretch/>
          </p:blipFill>
          <p:spPr>
            <a:xfrm>
              <a:off x="3645000" y="2230560"/>
              <a:ext cx="153036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3732120" y="2517840"/>
              <a:ext cx="11620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Content Placeholder 2"/>
          <p:cNvSpPr/>
          <p:nvPr/>
        </p:nvSpPr>
        <p:spPr>
          <a:xfrm>
            <a:off x="457200" y="4143240"/>
            <a:ext cx="7467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extract or compose fr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ub-obj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meta inform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decide whether they are applic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Group 37"/>
          <p:cNvGrpSpPr/>
          <p:nvPr/>
        </p:nvGrpSpPr>
        <p:grpSpPr>
          <a:xfrm>
            <a:off x="5965920" y="1714680"/>
            <a:ext cx="2677680" cy="2043360"/>
            <a:chOff x="5965920" y="1714680"/>
            <a:chExt cx="2677680" cy="2043360"/>
          </a:xfrm>
        </p:grpSpPr>
        <p:sp>
          <p:nvSpPr>
            <p:cNvPr id="317" name="Oval 11"/>
            <p:cNvSpPr/>
            <p:nvPr/>
          </p:nvSpPr>
          <p:spPr>
            <a:xfrm>
              <a:off x="6608520" y="1856520"/>
              <a:ext cx="64260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8" name="Oval 12"/>
            <p:cNvGrpSpPr/>
            <p:nvPr/>
          </p:nvGrpSpPr>
          <p:grpSpPr>
            <a:xfrm>
              <a:off x="6510960" y="2761560"/>
              <a:ext cx="822600" cy="829080"/>
              <a:chOff x="6510960" y="2761560"/>
              <a:chExt cx="822600" cy="829080"/>
            </a:xfrm>
          </p:grpSpPr>
          <p:pic>
            <p:nvPicPr>
              <p:cNvPr id="319" name="Oval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0960" y="2761560"/>
                <a:ext cx="8226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>
                <a:off x="6702480" y="2950920"/>
                <a:ext cx="45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1" name="Oval 13"/>
            <p:cNvGrpSpPr/>
            <p:nvPr/>
          </p:nvGrpSpPr>
          <p:grpSpPr>
            <a:xfrm>
              <a:off x="7370640" y="2761560"/>
              <a:ext cx="828720" cy="829080"/>
              <a:chOff x="7370640" y="2761560"/>
              <a:chExt cx="828720" cy="829080"/>
            </a:xfrm>
          </p:grpSpPr>
          <p:pic>
            <p:nvPicPr>
              <p:cNvPr id="322" name="Oval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7370640" y="2761560"/>
                <a:ext cx="82872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"/>
              <p:cNvSpPr/>
              <p:nvPr/>
            </p:nvSpPr>
            <p:spPr>
              <a:xfrm>
                <a:off x="7559640" y="2950920"/>
                <a:ext cx="45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324" name="Curved Connector 14" descr=""/>
            <p:cNvPicPr/>
            <p:nvPr/>
          </p:nvPicPr>
          <p:blipFill>
            <a:blip r:embed="rId4"/>
            <a:stretch/>
          </p:blipFill>
          <p:spPr>
            <a:xfrm>
              <a:off x="6761160" y="2426400"/>
              <a:ext cx="34740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Shape 15" descr=""/>
            <p:cNvPicPr/>
            <p:nvPr/>
          </p:nvPicPr>
          <p:blipFill>
            <a:blip r:embed="rId5"/>
            <a:stretch/>
          </p:blipFill>
          <p:spPr>
            <a:xfrm>
              <a:off x="7175520" y="2090880"/>
              <a:ext cx="785880" cy="9388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26" name="Curved Connector 16"/>
            <p:cNvCxnSpPr/>
            <p:nvPr/>
          </p:nvCxnSpPr>
          <p:spPr>
            <a:xfrm rot="5400000">
              <a:off x="7679160" y="3606840"/>
              <a:ext cx="21492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27" name="Curved Connector 17"/>
            <p:cNvCxnSpPr/>
            <p:nvPr/>
          </p:nvCxnSpPr>
          <p:spPr>
            <a:xfrm rot="5400000">
              <a:off x="7357680" y="3071520"/>
              <a:ext cx="2160" cy="857520"/>
            </a:xfrm>
            <a:prstGeom prst="curvedConnector5">
              <a:avLst>
                <a:gd name="adj1" fmla="val 14380000"/>
                <a:gd name="adj2" fmla="val 49979"/>
                <a:gd name="adj3" fmla="val 1438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28" name="Shape 18"/>
            <p:cNvCxnSpPr/>
            <p:nvPr/>
          </p:nvCxnSpPr>
          <p:spPr>
            <a:xfrm>
              <a:off x="8107920" y="3178440"/>
              <a:ext cx="536040" cy="536400"/>
            </a:xfrm>
            <a:prstGeom prst="curvedConnector2">
              <a:avLst/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sp>
          <p:nvSpPr>
            <p:cNvPr id="329" name="TextBox 26"/>
            <p:cNvSpPr/>
            <p:nvPr/>
          </p:nvSpPr>
          <p:spPr>
            <a:xfrm>
              <a:off x="5965920" y="3000600"/>
              <a:ext cx="35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0" name="Down Arrow 27"/>
            <p:cNvGrpSpPr/>
            <p:nvPr/>
          </p:nvGrpSpPr>
          <p:grpSpPr>
            <a:xfrm>
              <a:off x="6157800" y="2444760"/>
              <a:ext cx="481320" cy="524160"/>
              <a:chOff x="6157800" y="2444760"/>
              <a:chExt cx="481320" cy="524160"/>
            </a:xfrm>
          </p:grpSpPr>
          <p:pic>
            <p:nvPicPr>
              <p:cNvPr id="331" name="Down Arrow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6157800" y="2444760"/>
                <a:ext cx="481320" cy="52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"/>
              <p:cNvSpPr/>
              <p:nvPr/>
            </p:nvSpPr>
            <p:spPr>
              <a:xfrm rot="1862400">
                <a:off x="6341040" y="2553840"/>
                <a:ext cx="14256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3" name="Oval 34"/>
            <p:cNvSpPr/>
            <p:nvPr/>
          </p:nvSpPr>
          <p:spPr>
            <a:xfrm>
              <a:off x="6465600" y="1714680"/>
              <a:ext cx="928440" cy="928800"/>
            </a:xfrm>
            <a:prstGeom prst="ellipse">
              <a:avLst/>
            </a:prstGeom>
            <a:solidFill>
              <a:srgbClr val="40404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4" name="Group 36"/>
          <p:cNvGrpSpPr/>
          <p:nvPr/>
        </p:nvGrpSpPr>
        <p:grpSpPr>
          <a:xfrm>
            <a:off x="785880" y="1571400"/>
            <a:ext cx="2071800" cy="2286360"/>
            <a:chOff x="785880" y="1571400"/>
            <a:chExt cx="2071800" cy="2286360"/>
          </a:xfrm>
        </p:grpSpPr>
        <p:grpSp>
          <p:nvGrpSpPr>
            <p:cNvPr id="335" name="Oval 2"/>
            <p:cNvGrpSpPr/>
            <p:nvPr/>
          </p:nvGrpSpPr>
          <p:grpSpPr>
            <a:xfrm>
              <a:off x="902160" y="1761840"/>
              <a:ext cx="835200" cy="829080"/>
              <a:chOff x="902160" y="1761840"/>
              <a:chExt cx="835200" cy="829080"/>
            </a:xfrm>
          </p:grpSpPr>
          <p:pic>
            <p:nvPicPr>
              <p:cNvPr id="336" name="Oval 2" descr=""/>
              <p:cNvPicPr/>
              <p:nvPr/>
            </p:nvPicPr>
            <p:blipFill>
              <a:blip r:embed="rId7"/>
              <a:stretch/>
            </p:blipFill>
            <p:spPr>
              <a:xfrm>
                <a:off x="902160" y="1761840"/>
                <a:ext cx="8352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>
                <a:off x="1094040" y="1950840"/>
                <a:ext cx="454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8" name="Oval 3"/>
            <p:cNvSpPr/>
            <p:nvPr/>
          </p:nvSpPr>
          <p:spPr>
            <a:xfrm>
              <a:off x="1000080" y="2856960"/>
              <a:ext cx="64296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"/>
            <p:cNvSpPr/>
            <p:nvPr/>
          </p:nvSpPr>
          <p:spPr>
            <a:xfrm>
              <a:off x="1857600" y="2856240"/>
              <a:ext cx="64296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40" name="Curved Connector 5"/>
            <p:cNvCxnSpPr>
              <a:endCxn id="336" idx="0"/>
            </p:cNvCxnSpPr>
            <p:nvPr/>
          </p:nvCxnSpPr>
          <p:spPr>
            <a:xfrm rot="5400000">
              <a:off x="1178280" y="1713600"/>
              <a:ext cx="28620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1" name="Curved Connector 6"/>
            <p:cNvCxnSpPr/>
            <p:nvPr/>
          </p:nvCxnSpPr>
          <p:spPr>
            <a:xfrm rot="5400000">
              <a:off x="1142280" y="2678400"/>
              <a:ext cx="357840" cy="2160"/>
            </a:xfrm>
            <a:prstGeom prst="curvedConnector5">
              <a:avLst>
                <a:gd name="adj1" fmla="val 49949"/>
                <a:gd name="adj2" fmla="val 40000"/>
                <a:gd name="adj3" fmla="val 49949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2" name="Shape 7"/>
            <p:cNvCxnSpPr/>
            <p:nvPr/>
          </p:nvCxnSpPr>
          <p:spPr>
            <a:xfrm>
              <a:off x="1643040" y="2177640"/>
              <a:ext cx="536400" cy="678600"/>
            </a:xfrm>
            <a:prstGeom prst="curvedConnector2">
              <a:avLst/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3" name="Curved Connector 8"/>
            <p:cNvCxnSpPr>
              <a:stCxn id="339" idx="4"/>
            </p:cNvCxnSpPr>
            <p:nvPr/>
          </p:nvCxnSpPr>
          <p:spPr>
            <a:xfrm rot="5400000">
              <a:off x="2071440" y="3606120"/>
              <a:ext cx="21492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4" name="Curved Connector 9"/>
            <p:cNvCxnSpPr>
              <a:stCxn id="339" idx="4"/>
              <a:endCxn id="338" idx="4"/>
            </p:cNvCxnSpPr>
            <p:nvPr/>
          </p:nvCxnSpPr>
          <p:spPr>
            <a:xfrm rot="5400000">
              <a:off x="1748880" y="3070800"/>
              <a:ext cx="1440" cy="857880"/>
            </a:xfrm>
            <a:prstGeom prst="curvedConnector5">
              <a:avLst>
                <a:gd name="adj1" fmla="val 28866666"/>
                <a:gd name="adj2" fmla="val 50000"/>
                <a:gd name="adj3" fmla="val 28866666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sp>
          <p:nvSpPr>
            <p:cNvPr id="345" name="Oval 35"/>
            <p:cNvSpPr/>
            <p:nvPr/>
          </p:nvSpPr>
          <p:spPr>
            <a:xfrm>
              <a:off x="785880" y="2643480"/>
              <a:ext cx="2071800" cy="1214280"/>
            </a:xfrm>
            <a:prstGeom prst="ellipse">
              <a:avLst/>
            </a:prstGeom>
            <a:solidFill>
              <a:srgbClr val="40404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Primitive Serializ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47" name="Group 7"/>
          <p:cNvGrpSpPr/>
          <p:nvPr/>
        </p:nvGrpSpPr>
        <p:grpSpPr>
          <a:xfrm>
            <a:off x="1143000" y="2058480"/>
            <a:ext cx="642960" cy="929160"/>
            <a:chOff x="1143000" y="2058480"/>
            <a:chExt cx="642960" cy="929160"/>
          </a:xfrm>
        </p:grpSpPr>
        <p:grpSp>
          <p:nvGrpSpPr>
            <p:cNvPr id="348" name="Oval 2"/>
            <p:cNvGrpSpPr/>
            <p:nvPr/>
          </p:nvGrpSpPr>
          <p:grpSpPr>
            <a:xfrm>
              <a:off x="1143000" y="2232000"/>
              <a:ext cx="642960" cy="755640"/>
              <a:chOff x="1143000" y="2232000"/>
              <a:chExt cx="642960" cy="755640"/>
            </a:xfrm>
          </p:grpSpPr>
          <p:pic>
            <p:nvPicPr>
              <p:cNvPr id="349" name="Oval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143000" y="2232000"/>
                <a:ext cx="642960" cy="7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>
                <a:off x="1292760" y="2404080"/>
                <a:ext cx="34992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351" name="Curved Connector 3"/>
            <p:cNvCxnSpPr>
              <a:endCxn id="349" idx="0"/>
            </p:cNvCxnSpPr>
            <p:nvPr/>
          </p:nvCxnSpPr>
          <p:spPr>
            <a:xfrm rot="5400000">
              <a:off x="1337040" y="2188080"/>
              <a:ext cx="261000" cy="18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219ac1"/>
              </a:solidFill>
              <a:miter/>
              <a:tailEnd len="med" type="arrow" w="med"/>
            </a:ln>
          </p:spPr>
        </p:cxnSp>
      </p:grpSp>
      <p:grpSp>
        <p:nvGrpSpPr>
          <p:cNvPr id="352" name="Right Arrow 4"/>
          <p:cNvGrpSpPr/>
          <p:nvPr/>
        </p:nvGrpSpPr>
        <p:grpSpPr>
          <a:xfrm>
            <a:off x="2998800" y="2036880"/>
            <a:ext cx="1530360" cy="968400"/>
            <a:chOff x="2998800" y="2036880"/>
            <a:chExt cx="1530360" cy="968400"/>
          </a:xfrm>
        </p:grpSpPr>
        <p:pic>
          <p:nvPicPr>
            <p:cNvPr id="353" name="Right Arrow 4" descr=""/>
            <p:cNvPicPr/>
            <p:nvPr/>
          </p:nvPicPr>
          <p:blipFill>
            <a:blip r:embed="rId2"/>
            <a:stretch/>
          </p:blipFill>
          <p:spPr>
            <a:xfrm>
              <a:off x="2998800" y="2036880"/>
              <a:ext cx="153036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3086280" y="2327400"/>
              <a:ext cx="11602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Rectangle 5"/>
          <p:cNvSpPr/>
          <p:nvPr/>
        </p:nvSpPr>
        <p:spPr>
          <a:xfrm>
            <a:off x="5749560" y="2046240"/>
            <a:ext cx="1963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</a:t>
            </a:r>
            <a:r>
              <a:rPr b="1" lang="de-AT" sz="2000" spc="-1" strike="noStrike">
                <a:solidFill>
                  <a:srgbClr val="ffff00"/>
                </a:solidFill>
                <a:latin typeface="Courier New"/>
                <a:ea typeface="Courier New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457200" y="4143240"/>
            <a:ext cx="7467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transform betwe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in-memory obj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erial format (e.g. XML tex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fixed mapping between formatter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typ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nfigur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specific to output format (e.g. XM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mposite serializer (in orde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primitiv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included in type cach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persistent (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ConfigurationService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default configuration through refle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std. data types are handl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new classes can use 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torableSeriali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add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attribute to fields or proper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Rectangle 5"/>
          <p:cNvGrpSpPr/>
          <p:nvPr/>
        </p:nvGrpSpPr>
        <p:grpSpPr>
          <a:xfrm>
            <a:off x="706320" y="3456000"/>
            <a:ext cx="3372120" cy="2316240"/>
            <a:chOff x="706320" y="3456000"/>
            <a:chExt cx="3372120" cy="2316240"/>
          </a:xfrm>
        </p:grpSpPr>
        <p:pic>
          <p:nvPicPr>
            <p:cNvPr id="362" name="Rectangle 5" descr=""/>
            <p:cNvPicPr/>
            <p:nvPr/>
          </p:nvPicPr>
          <p:blipFill>
            <a:blip r:embed="rId1"/>
            <a:stretch/>
          </p:blipFill>
          <p:spPr>
            <a:xfrm>
              <a:off x="706320" y="3456000"/>
              <a:ext cx="3372120" cy="23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14240" y="3460680"/>
              <a:ext cx="33577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ntWrapper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int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Value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</a:t>
              </a:r>
              <a:r>
                <a:rPr b="0" lang="de-AT" sz="16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Name 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;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t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4" name="Rectangle 6"/>
          <p:cNvGrpSpPr/>
          <p:nvPr/>
        </p:nvGrpSpPr>
        <p:grpSpPr>
          <a:xfrm>
            <a:off x="4705200" y="3444840"/>
            <a:ext cx="3372120" cy="1182600"/>
            <a:chOff x="4705200" y="3444840"/>
            <a:chExt cx="3372120" cy="1182600"/>
          </a:xfrm>
        </p:grpSpPr>
        <p:pic>
          <p:nvPicPr>
            <p:cNvPr id="365" name="Rectangle 6" descr=""/>
            <p:cNvPicPr/>
            <p:nvPr/>
          </p:nvPicPr>
          <p:blipFill>
            <a:blip r:embed="rId2"/>
            <a:stretch/>
          </p:blipFill>
          <p:spPr>
            <a:xfrm>
              <a:off x="4705200" y="3444840"/>
              <a:ext cx="33721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4714920" y="3451320"/>
              <a:ext cx="3357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NonSerialized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int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TransientValue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..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7" name="Rectangle 7"/>
          <p:cNvGrpSpPr/>
          <p:nvPr/>
        </p:nvGrpSpPr>
        <p:grpSpPr>
          <a:xfrm>
            <a:off x="4705200" y="5400720"/>
            <a:ext cx="3372120" cy="323640"/>
            <a:chOff x="4705200" y="5400720"/>
            <a:chExt cx="3372120" cy="323640"/>
          </a:xfrm>
        </p:grpSpPr>
        <p:pic>
          <p:nvPicPr>
            <p:cNvPr id="368" name="Rectangle 7" descr=""/>
            <p:cNvPicPr/>
            <p:nvPr/>
          </p:nvPicPr>
          <p:blipFill>
            <a:blip r:embed="rId3"/>
            <a:stretch/>
          </p:blipFill>
          <p:spPr>
            <a:xfrm>
              <a:off x="4705200" y="5400720"/>
              <a:ext cx="337212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4714920" y="5407200"/>
              <a:ext cx="335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07:51:22Z</dcterms:created>
  <dc:creator>Pitzer Erik</dc:creator>
  <dc:description/>
  <dc:language>en-US</dc:language>
  <cp:lastModifiedBy>erik</cp:lastModifiedBy>
  <dcterms:modified xsi:type="dcterms:W3CDTF">2009-05-19T09:22:09Z</dcterms:modified>
  <cp:revision>164</cp:revision>
  <dc:subject/>
  <dc:title>Persistcence 3.3</dc:title>
</cp:coreProperties>
</file>