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662F-DC12-4E60-B86A-094EFF7FA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BF26-6EF5-499D-9E3B-9CCEADDC9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2963-0623-4E51-A9DE-C1474E7EF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3E4C-0108-45B8-A3AB-158282810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3D8B-175A-4E1D-BE37-FA944206E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53F2-7E73-4946-9891-EDE05F589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7F91-3695-4F9D-B2D1-788FFE8BA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B644-D0BC-4B63-8ADA-6A32111E5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77CE-323B-4CF0-8E60-55435772E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74CA-5BB6-4884-ADBD-69A73D3A6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CED4-B9E2-4801-B6F6-181EFB43E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D514-0020-4893-B5C0-42A7BD041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D650F-463B-4E10-8818-68BE279CAF0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9C460-9620-445B-A812-6E8076E857E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Modeling 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separate sub-scopes into two group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nsert a new level in the scope tre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opy/move selected sub-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work on selected 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basic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ef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igh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andom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copy/move n sub-scopes from left or right or randoml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quality-based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election is based on a double value (quality) in each sub-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Proportional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inearRank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Tournament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16A1D-39CB-4FAD-9A62-AD92B3F84A1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51FAA-AF80-4FE7-A47E-F3E804FA100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Gruppieren 35"/>
          <p:cNvGrpSpPr/>
          <p:nvPr/>
        </p:nvGrpSpPr>
        <p:grpSpPr>
          <a:xfrm>
            <a:off x="1677960" y="2428920"/>
            <a:ext cx="5788080" cy="3071880"/>
            <a:chOff x="1677960" y="2428920"/>
            <a:chExt cx="5788080" cy="3071880"/>
          </a:xfrm>
        </p:grpSpPr>
        <p:sp>
          <p:nvSpPr>
            <p:cNvPr id="180" name="Rechteck 5"/>
            <p:cNvSpPr/>
            <p:nvPr/>
          </p:nvSpPr>
          <p:spPr>
            <a:xfrm>
              <a:off x="53222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hteck 6"/>
            <p:cNvSpPr/>
            <p:nvPr/>
          </p:nvSpPr>
          <p:spPr>
            <a:xfrm>
              <a:off x="38930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2" name="Gruppieren 33"/>
            <p:cNvGrpSpPr/>
            <p:nvPr/>
          </p:nvGrpSpPr>
          <p:grpSpPr>
            <a:xfrm>
              <a:off x="1677960" y="3214800"/>
              <a:ext cx="1071720" cy="928800"/>
              <a:chOff x="1677960" y="3214800"/>
              <a:chExt cx="1071720" cy="928800"/>
            </a:xfrm>
          </p:grpSpPr>
          <p:sp>
            <p:nvSpPr>
              <p:cNvPr id="183" name="Ellipse 4"/>
              <p:cNvSpPr/>
              <p:nvPr/>
            </p:nvSpPr>
            <p:spPr>
              <a:xfrm>
                <a:off x="16779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Ellipse 5"/>
              <p:cNvSpPr/>
              <p:nvPr/>
            </p:nvSpPr>
            <p:spPr>
              <a:xfrm>
                <a:off x="23925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Rechteck 31"/>
              <p:cNvSpPr/>
              <p:nvPr/>
            </p:nvSpPr>
            <p:spPr>
              <a:xfrm>
                <a:off x="2035080" y="37864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Ellipse 32"/>
              <p:cNvSpPr/>
              <p:nvPr/>
            </p:nvSpPr>
            <p:spPr>
              <a:xfrm>
                <a:off x="2035080" y="32148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Gerade Verbindung 33"/>
              <p:cNvSpPr/>
              <p:nvPr/>
            </p:nvSpPr>
            <p:spPr>
              <a:xfrm flipH="1">
                <a:off x="185652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Gerade Verbindung 34"/>
              <p:cNvSpPr/>
              <p:nvPr/>
            </p:nvSpPr>
            <p:spPr>
              <a:xfrm>
                <a:off x="221364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9" name="Gruppieren 34"/>
            <p:cNvGrpSpPr/>
            <p:nvPr/>
          </p:nvGrpSpPr>
          <p:grpSpPr>
            <a:xfrm>
              <a:off x="3964680" y="2928960"/>
              <a:ext cx="2500920" cy="1500120"/>
              <a:chOff x="3964680" y="2928960"/>
              <a:chExt cx="2500920" cy="1500120"/>
            </a:xfrm>
          </p:grpSpPr>
          <p:sp>
            <p:nvSpPr>
              <p:cNvPr id="190" name="Ellipse 14"/>
              <p:cNvSpPr/>
              <p:nvPr/>
            </p:nvSpPr>
            <p:spPr>
              <a:xfrm>
                <a:off x="39646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Ellipse 15"/>
              <p:cNvSpPr/>
              <p:nvPr/>
            </p:nvSpPr>
            <p:spPr>
              <a:xfrm>
                <a:off x="46792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Rechteck 16"/>
              <p:cNvSpPr/>
              <p:nvPr/>
            </p:nvSpPr>
            <p:spPr>
              <a:xfrm>
                <a:off x="43218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Ellipse 17"/>
              <p:cNvSpPr/>
              <p:nvPr/>
            </p:nvSpPr>
            <p:spPr>
              <a:xfrm>
                <a:off x="43218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Gerade Verbindung 18"/>
              <p:cNvSpPr/>
              <p:nvPr/>
            </p:nvSpPr>
            <p:spPr>
              <a:xfrm flipH="1">
                <a:off x="41432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Gerade Verbindung 19"/>
              <p:cNvSpPr/>
              <p:nvPr/>
            </p:nvSpPr>
            <p:spPr>
              <a:xfrm>
                <a:off x="450036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Ellipse 20"/>
              <p:cNvSpPr/>
              <p:nvPr/>
            </p:nvSpPr>
            <p:spPr>
              <a:xfrm>
                <a:off x="53938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Ellipse 21"/>
              <p:cNvSpPr/>
              <p:nvPr/>
            </p:nvSpPr>
            <p:spPr>
              <a:xfrm>
                <a:off x="61084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Rechteck 22"/>
              <p:cNvSpPr/>
              <p:nvPr/>
            </p:nvSpPr>
            <p:spPr>
              <a:xfrm>
                <a:off x="57510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Ellipse 23"/>
              <p:cNvSpPr/>
              <p:nvPr/>
            </p:nvSpPr>
            <p:spPr>
              <a:xfrm>
                <a:off x="57510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Gerade Verbindung 24"/>
              <p:cNvSpPr/>
              <p:nvPr/>
            </p:nvSpPr>
            <p:spPr>
              <a:xfrm flipH="1">
                <a:off x="55724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Gerade Verbindung 25"/>
              <p:cNvSpPr/>
              <p:nvPr/>
            </p:nvSpPr>
            <p:spPr>
              <a:xfrm>
                <a:off x="592992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Ellipse 26"/>
              <p:cNvSpPr/>
              <p:nvPr/>
            </p:nvSpPr>
            <p:spPr>
              <a:xfrm>
                <a:off x="5036400" y="2928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Gerade Verbindung 27"/>
              <p:cNvSpPr/>
              <p:nvPr/>
            </p:nvSpPr>
            <p:spPr>
              <a:xfrm flipH="1">
                <a:off x="4500000" y="328608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Gerade Verbindung 28"/>
              <p:cNvSpPr/>
              <p:nvPr/>
            </p:nvSpPr>
            <p:spPr>
              <a:xfrm flipH="1" flipV="1">
                <a:off x="5214600" y="328572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5" name="Pfeil nach rechts 9"/>
            <p:cNvSpPr/>
            <p:nvPr/>
          </p:nvSpPr>
          <p:spPr>
            <a:xfrm>
              <a:off x="3107160" y="3500280"/>
              <a:ext cx="571680" cy="357120"/>
            </a:xfrm>
            <a:prstGeom prst="rightArrow">
              <a:avLst>
                <a:gd name="adj1" fmla="val 50000"/>
                <a:gd name="adj2" fmla="val 50025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Nach unten gekrümmter Pfeil 10"/>
            <p:cNvSpPr/>
            <p:nvPr/>
          </p:nvSpPr>
          <p:spPr>
            <a:xfrm>
              <a:off x="2178000" y="2428920"/>
              <a:ext cx="3144240" cy="428400"/>
            </a:xfrm>
            <a:custGeom>
              <a:avLst/>
              <a:gdLst>
                <a:gd name="textAreaLeft" fmla="*/ 745920 w 3144240"/>
                <a:gd name="textAreaRight" fmla="*/ 2345040 w 31442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Nach oben gekrümmter Pfeil 11"/>
            <p:cNvSpPr/>
            <p:nvPr/>
          </p:nvSpPr>
          <p:spPr>
            <a:xfrm>
              <a:off x="2178000" y="4572000"/>
              <a:ext cx="3858840" cy="428400"/>
            </a:xfrm>
            <a:custGeom>
              <a:avLst/>
              <a:gdLst>
                <a:gd name="textAreaLeft" fmla="*/ 924480 w 3858840"/>
                <a:gd name="textAreaRight" fmla="*/ 2880720 w 38588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-3700920"/>
                  <a:lnTo>
                    <a:pt x="21271" y="5400"/>
                  </a:lnTo>
                  <a:lnTo>
                    <a:pt x="21000" y="0"/>
                  </a:lnTo>
                  <a:lnTo>
                    <a:pt x="20071" y="5400"/>
                  </a:lnTo>
                  <a:lnTo>
                    <a:pt x="20371" y="5400"/>
                  </a:lnTo>
                  <a:arcTo wR="10350" hR="21600" stAng="1699080" swAng="3653156"/>
                  <a:lnTo>
                    <a:pt x="10650" y="21591"/>
                  </a:lnTo>
                  <a:arcTo wR="10350" hR="21600" stAng="5447763" swAng="5352237"/>
                  <a:close/>
                </a:path>
                <a:path fill="darkenLess"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47763"/>
                  <a:lnTo>
                    <a:pt x="10650" y="21591"/>
                  </a:lnTo>
                  <a:arcTo wR="10350" hR="21600" stAng="5447763" swAng="53522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Legende mit Linie 1 12"/>
            <p:cNvSpPr/>
            <p:nvPr/>
          </p:nvSpPr>
          <p:spPr>
            <a:xfrm>
              <a:off x="496512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197652"/>
                <a:gd name="adj4" fmla="val -46245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Remainin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Legende mit Linie 1 13"/>
            <p:cNvSpPr/>
            <p:nvPr/>
          </p:nvSpPr>
          <p:spPr>
            <a:xfrm>
              <a:off x="646560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202574"/>
                <a:gd name="adj4" fmla="val -5239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Crossover &amp; Mu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depend on solution enco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effect variables contained in 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rossov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erge groups of n sub-scopes to one new sub-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SinglePointCrossove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OrderCrosso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mu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anipulate a 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FlipManipulato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InversionManipul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97EA8-7930-4424-B370-6961128A22B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3" name="Gruppieren 4"/>
          <p:cNvGrpSpPr/>
          <p:nvPr/>
        </p:nvGrpSpPr>
        <p:grpSpPr>
          <a:xfrm>
            <a:off x="2571840" y="3571920"/>
            <a:ext cx="4000320" cy="1571400"/>
            <a:chOff x="2571840" y="3571920"/>
            <a:chExt cx="4000320" cy="1571400"/>
          </a:xfrm>
        </p:grpSpPr>
        <p:grpSp>
          <p:nvGrpSpPr>
            <p:cNvPr id="214" name="Gruppieren 62"/>
            <p:cNvGrpSpPr/>
            <p:nvPr/>
          </p:nvGrpSpPr>
          <p:grpSpPr>
            <a:xfrm>
              <a:off x="5500800" y="3571920"/>
              <a:ext cx="1071360" cy="1000080"/>
              <a:chOff x="5500800" y="3571920"/>
              <a:chExt cx="1071360" cy="1000080"/>
            </a:xfrm>
          </p:grpSpPr>
          <p:sp>
            <p:nvSpPr>
              <p:cNvPr id="215" name="Rechteck 21"/>
              <p:cNvSpPr/>
              <p:nvPr/>
            </p:nvSpPr>
            <p:spPr>
              <a:xfrm>
                <a:off x="607212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Rechteck 22"/>
              <p:cNvSpPr/>
              <p:nvPr/>
            </p:nvSpPr>
            <p:spPr>
              <a:xfrm>
                <a:off x="55008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Ellipse 4"/>
              <p:cNvSpPr/>
              <p:nvPr/>
            </p:nvSpPr>
            <p:spPr>
              <a:xfrm>
                <a:off x="55720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Ellipse 5"/>
              <p:cNvSpPr/>
              <p:nvPr/>
            </p:nvSpPr>
            <p:spPr>
              <a:xfrm>
                <a:off x="61437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Ellipse 25"/>
              <p:cNvSpPr/>
              <p:nvPr/>
            </p:nvSpPr>
            <p:spPr>
              <a:xfrm>
                <a:off x="58579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Gerade Verbindung 26"/>
              <p:cNvSpPr/>
              <p:nvPr/>
            </p:nvSpPr>
            <p:spPr>
              <a:xfrm flipH="1">
                <a:off x="57502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Gerade Verbindung 27"/>
              <p:cNvSpPr/>
              <p:nvPr/>
            </p:nvSpPr>
            <p:spPr>
              <a:xfrm>
                <a:off x="60357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2" name="Pfeil nach rechts 6"/>
            <p:cNvSpPr/>
            <p:nvPr/>
          </p:nvSpPr>
          <p:spPr>
            <a:xfrm>
              <a:off x="4714920" y="385740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Nach oben gekrümmter Pfeil 7"/>
            <p:cNvSpPr/>
            <p:nvPr/>
          </p:nvSpPr>
          <p:spPr>
            <a:xfrm>
              <a:off x="3000240" y="4714920"/>
              <a:ext cx="2857320" cy="428400"/>
            </a:xfrm>
            <a:custGeom>
              <a:avLst/>
              <a:gdLst>
                <a:gd name="textAreaLeft" fmla="*/ 673920 w 2857320"/>
                <a:gd name="textAreaRight" fmla="*/ 2129760 w 28573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-3678814"/>
                  <a:lnTo>
                    <a:pt x="21276" y="5400"/>
                  </a:lnTo>
                  <a:lnTo>
                    <a:pt x="20790" y="0"/>
                  </a:lnTo>
                  <a:lnTo>
                    <a:pt x="19656" y="5400"/>
                  </a:lnTo>
                  <a:lnTo>
                    <a:pt x="20061" y="5400"/>
                  </a:lnTo>
                  <a:arcTo wR="10193" hR="21600" stAng="1721186" swAng="3614312"/>
                  <a:lnTo>
                    <a:pt x="10598" y="21583"/>
                  </a:lnTo>
                  <a:arcTo wR="10193" hR="21600" stAng="5464501" swAng="5335499"/>
                  <a:close/>
                </a:path>
                <a:path fill="darkenLess"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64501"/>
                  <a:lnTo>
                    <a:pt x="10598" y="21583"/>
                  </a:lnTo>
                  <a:arcTo wR="10193" hR="21600" stAng="5464501" swAng="533549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4" name="Gruppieren 63"/>
            <p:cNvGrpSpPr/>
            <p:nvPr/>
          </p:nvGrpSpPr>
          <p:grpSpPr>
            <a:xfrm>
              <a:off x="2571840" y="3571920"/>
              <a:ext cx="1928880" cy="1000080"/>
              <a:chOff x="2571840" y="3571920"/>
              <a:chExt cx="1928880" cy="1000080"/>
            </a:xfrm>
          </p:grpSpPr>
          <p:sp>
            <p:nvSpPr>
              <p:cNvPr id="225" name="Rechteck 10"/>
              <p:cNvSpPr/>
              <p:nvPr/>
            </p:nvSpPr>
            <p:spPr>
              <a:xfrm>
                <a:off x="357192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Rechteck 5"/>
              <p:cNvSpPr/>
              <p:nvPr/>
            </p:nvSpPr>
            <p:spPr>
              <a:xfrm>
                <a:off x="257184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Ellipse 12"/>
              <p:cNvSpPr/>
              <p:nvPr/>
            </p:nvSpPr>
            <p:spPr>
              <a:xfrm>
                <a:off x="26431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Ellipse 13"/>
              <p:cNvSpPr/>
              <p:nvPr/>
            </p:nvSpPr>
            <p:spPr>
              <a:xfrm>
                <a:off x="30718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Ellipse 14"/>
              <p:cNvSpPr/>
              <p:nvPr/>
            </p:nvSpPr>
            <p:spPr>
              <a:xfrm>
                <a:off x="33577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Ellipse 15"/>
              <p:cNvSpPr/>
              <p:nvPr/>
            </p:nvSpPr>
            <p:spPr>
              <a:xfrm>
                <a:off x="36435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Ellipse 16"/>
              <p:cNvSpPr/>
              <p:nvPr/>
            </p:nvSpPr>
            <p:spPr>
              <a:xfrm>
                <a:off x="40723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Gerade Verbindung 17"/>
              <p:cNvSpPr/>
              <p:nvPr/>
            </p:nvSpPr>
            <p:spPr>
              <a:xfrm flipH="1">
                <a:off x="28216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Gerade Verbindung 18"/>
              <p:cNvSpPr/>
              <p:nvPr/>
            </p:nvSpPr>
            <p:spPr>
              <a:xfrm flipH="1">
                <a:off x="32500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Gerade Verbindung 19"/>
              <p:cNvSpPr/>
              <p:nvPr/>
            </p:nvSpPr>
            <p:spPr>
              <a:xfrm>
                <a:off x="35355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Gerade Verbindung 20"/>
              <p:cNvSpPr/>
              <p:nvPr/>
            </p:nvSpPr>
            <p:spPr>
              <a:xfrm>
                <a:off x="35362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6" name="Nach oben gekrümmter Pfeil 9"/>
            <p:cNvSpPr/>
            <p:nvPr/>
          </p:nvSpPr>
          <p:spPr>
            <a:xfrm>
              <a:off x="4000320" y="4714920"/>
              <a:ext cx="2428920" cy="428400"/>
            </a:xfrm>
            <a:custGeom>
              <a:avLst/>
              <a:gdLst>
                <a:gd name="textAreaLeft" fmla="*/ 567000 w 2428920"/>
                <a:gd name="textAreaRight" fmla="*/ 1808280 w 24289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-3663493"/>
                  <a:lnTo>
                    <a:pt x="21280" y="5400"/>
                  </a:lnTo>
                  <a:lnTo>
                    <a:pt x="20647" y="0"/>
                  </a:lnTo>
                  <a:lnTo>
                    <a:pt x="19374" y="5400"/>
                  </a:lnTo>
                  <a:lnTo>
                    <a:pt x="19851" y="5400"/>
                  </a:lnTo>
                  <a:arcTo wR="10086" hR="21600" stAng="1736507" swAng="3587663"/>
                  <a:lnTo>
                    <a:pt x="10562" y="21576"/>
                  </a:lnTo>
                  <a:arcTo wR="10086" hR="21600" stAng="5475830" swAng="5324170"/>
                  <a:close/>
                </a:path>
                <a:path fill="darkenLess"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75830"/>
                  <a:lnTo>
                    <a:pt x="10562" y="21576"/>
                  </a:lnTo>
                  <a:arcTo wR="10086" hR="21600" stAng="5475830" swAng="5324170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Foliennummernplatzhalter 3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74258-C88B-44E4-B589-752D9601D0B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0" name="Gewinkelte Verbindung 17"/>
          <p:cNvCxnSpPr>
            <a:stCxn id="239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1" name="Gewinkelte Verbindung 18"/>
          <p:cNvCxnSpPr>
            <a:stCxn id="239" idx="3"/>
            <a:endCxn id="242" idx="1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43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portional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lussdiagramm: Prozess 49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Flussdiagramm: Prozess 56"/>
          <p:cNvSpPr/>
          <p:nvPr/>
        </p:nvSpPr>
        <p:spPr>
          <a:xfrm>
            <a:off x="435780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mptyOp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lussdiagramm: Prozess 5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Flussdiagramm: Prozess 5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OrderCross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Flussdiagramm: Prozess 5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Flussdiagramm: Prozess 60"/>
          <p:cNvSpPr/>
          <p:nvPr/>
        </p:nvSpPr>
        <p:spPr>
          <a:xfrm>
            <a:off x="628668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lussdiagramm: Prozess 61"/>
          <p:cNvSpPr/>
          <p:nvPr/>
        </p:nvSpPr>
        <p:spPr>
          <a:xfrm>
            <a:off x="500040" y="44290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Flussdiagramm: Prozess 62"/>
          <p:cNvSpPr/>
          <p:nvPr/>
        </p:nvSpPr>
        <p:spPr>
          <a:xfrm>
            <a:off x="242892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tochastic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Flussdiagramm: Prozess 63"/>
          <p:cNvSpPr/>
          <p:nvPr/>
        </p:nvSpPr>
        <p:spPr>
          <a:xfrm>
            <a:off x="2428920" y="4857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Flussdiagramm: Prozess 64"/>
          <p:cNvSpPr/>
          <p:nvPr/>
        </p:nvSpPr>
        <p:spPr>
          <a:xfrm>
            <a:off x="2428920" y="5286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Flussdiagramm: Prozess 65"/>
          <p:cNvSpPr/>
          <p:nvPr/>
        </p:nvSpPr>
        <p:spPr>
          <a:xfrm>
            <a:off x="435780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InversionManipul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4" name="Gewinkelte Verbindung 69"/>
          <p:cNvCxnSpPr>
            <a:stCxn id="242" idx="3"/>
            <a:endCxn id="244" idx="1"/>
          </p:cNvCxnSpPr>
          <p:nvPr/>
        </p:nvCxnSpPr>
        <p:spPr>
          <a:xfrm>
            <a:off x="4143240" y="232092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5" name="Gewinkelte Verbindung 72"/>
          <p:cNvCxnSpPr>
            <a:stCxn id="242" idx="3"/>
            <a:endCxn id="245" idx="1"/>
          </p:cNvCxnSpPr>
          <p:nvPr/>
        </p:nvCxnSpPr>
        <p:spPr>
          <a:xfrm>
            <a:off x="4143240" y="232056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6" name="Gewinkelte Verbindung 75"/>
          <p:cNvCxnSpPr>
            <a:stCxn id="245" idx="3"/>
            <a:endCxn id="246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7" name="Gewinkelte Verbindung 78"/>
          <p:cNvCxnSpPr>
            <a:stCxn id="245" idx="3"/>
            <a:endCxn id="247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8" name="Gewinkelte Verbindung 81"/>
          <p:cNvCxnSpPr>
            <a:stCxn id="245" idx="3"/>
            <a:endCxn id="248" idx="1"/>
          </p:cNvCxnSpPr>
          <p:nvPr/>
        </p:nvCxnSpPr>
        <p:spPr>
          <a:xfrm>
            <a:off x="6072120" y="2749320"/>
            <a:ext cx="215280" cy="8593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9" name="Gewinkelte Verbindung 94"/>
          <p:cNvCxnSpPr>
            <a:stCxn id="247" idx="3"/>
            <a:endCxn id="249" idx="1"/>
          </p:cNvCxnSpPr>
          <p:nvPr/>
        </p:nvCxnSpPr>
        <p:spPr>
          <a:xfrm flipH="1">
            <a:off x="499680" y="3177720"/>
            <a:ext cx="7501680" cy="1430640"/>
          </a:xfrm>
          <a:prstGeom prst="bentConnector5">
            <a:avLst>
              <a:gd name="adj1" fmla="val -3042"/>
              <a:gd name="adj2" fmla="val 49987"/>
              <a:gd name="adj3" fmla="val 103042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0" name="Gewinkelte Verbindung 101"/>
          <p:cNvCxnSpPr>
            <a:stCxn id="249" idx="3"/>
            <a:endCxn id="250" idx="1"/>
          </p:cNvCxnSpPr>
          <p:nvPr/>
        </p:nvCxnSpPr>
        <p:spPr>
          <a:xfrm>
            <a:off x="2214360" y="46080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1" name="Gewinkelte Verbindung 106"/>
          <p:cNvCxnSpPr>
            <a:stCxn id="249" idx="3"/>
            <a:endCxn id="251" idx="1"/>
          </p:cNvCxnSpPr>
          <p:nvPr/>
        </p:nvCxnSpPr>
        <p:spPr>
          <a:xfrm>
            <a:off x="2214360" y="46080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2" name="Gewinkelte Verbindung 109"/>
          <p:cNvCxnSpPr>
            <a:stCxn id="249" idx="3"/>
            <a:endCxn id="252" idx="1"/>
          </p:cNvCxnSpPr>
          <p:nvPr/>
        </p:nvCxnSpPr>
        <p:spPr>
          <a:xfrm>
            <a:off x="2214360" y="46083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3" name="Gewinkelte Verbindung 112"/>
          <p:cNvCxnSpPr>
            <a:stCxn id="250" idx="3"/>
            <a:endCxn id="253" idx="1"/>
          </p:cNvCxnSpPr>
          <p:nvPr/>
        </p:nvCxnSpPr>
        <p:spPr>
          <a:xfrm>
            <a:off x="4143240" y="46080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64" name="Flussdiagramm: Prozess 181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lussdiagramm: Prozess 182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Termination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6" name="Gewinkelte Verbindung 190"/>
          <p:cNvCxnSpPr>
            <a:stCxn id="239" idx="3"/>
            <a:endCxn id="264" idx="1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7" name="Gewinkelte Verbindung 193"/>
          <p:cNvCxnSpPr>
            <a:stCxn id="239" idx="3"/>
            <a:endCxn id="265" idx="1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8" name="Gewinkelte Verbindung 196"/>
          <p:cNvCxnSpPr>
            <a:stCxn id="265" idx="3"/>
            <a:endCxn id="239" idx="1"/>
          </p:cNvCxnSpPr>
          <p:nvPr/>
        </p:nvCxnSpPr>
        <p:spPr>
          <a:xfrm flipH="1" flipV="1">
            <a:off x="499680" y="1891800"/>
            <a:ext cx="3643920" cy="1286640"/>
          </a:xfrm>
          <a:prstGeom prst="bentConnector5">
            <a:avLst>
              <a:gd name="adj1" fmla="val -6264"/>
              <a:gd name="adj2" fmla="val -27260"/>
              <a:gd name="adj3" fmla="val 106264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69" name="Gruppieren 129"/>
          <p:cNvGrpSpPr/>
          <p:nvPr/>
        </p:nvGrpSpPr>
        <p:grpSpPr>
          <a:xfrm>
            <a:off x="6286680" y="4000680"/>
            <a:ext cx="2714400" cy="2428560"/>
            <a:chOff x="6286680" y="4000680"/>
            <a:chExt cx="2714400" cy="2428560"/>
          </a:xfrm>
        </p:grpSpPr>
        <p:sp>
          <p:nvSpPr>
            <p:cNvPr id="270" name="Rechteck 85"/>
            <p:cNvSpPr/>
            <p:nvPr/>
          </p:nvSpPr>
          <p:spPr>
            <a:xfrm>
              <a:off x="6286680" y="4000680"/>
              <a:ext cx="2714400" cy="2428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1" name="Gruppieren 49"/>
            <p:cNvGrpSpPr/>
            <p:nvPr/>
          </p:nvGrpSpPr>
          <p:grpSpPr>
            <a:xfrm>
              <a:off x="7000920" y="4071960"/>
              <a:ext cx="1071360" cy="1000080"/>
              <a:chOff x="7000920" y="4071960"/>
              <a:chExt cx="1071360" cy="1000080"/>
            </a:xfrm>
          </p:grpSpPr>
          <p:sp>
            <p:nvSpPr>
              <p:cNvPr id="272" name="Rechteck 88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Ellipse 89"/>
              <p:cNvSpPr/>
              <p:nvPr/>
            </p:nvSpPr>
            <p:spPr>
              <a:xfrm>
                <a:off x="700092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Ellipse 90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Ellipse 91"/>
              <p:cNvSpPr/>
              <p:nvPr/>
            </p:nvSpPr>
            <p:spPr>
              <a:xfrm>
                <a:off x="771516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Rechteck 92"/>
              <p:cNvSpPr/>
              <p:nvPr/>
            </p:nvSpPr>
            <p:spPr>
              <a:xfrm>
                <a:off x="7358040" y="47149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Gerade Verbindung 93"/>
              <p:cNvSpPr/>
              <p:nvPr/>
            </p:nvSpPr>
            <p:spPr>
              <a:xfrm flipH="1">
                <a:off x="717948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Gerade Verbindung 95"/>
              <p:cNvSpPr/>
              <p:nvPr/>
            </p:nvSpPr>
            <p:spPr>
              <a:xfrm>
                <a:off x="753660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9" name="Legende mit Linie 1 87"/>
            <p:cNvSpPr/>
            <p:nvPr/>
          </p:nvSpPr>
          <p:spPr>
            <a:xfrm>
              <a:off x="7858080" y="550080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135861"/>
                <a:gd name="adj4" fmla="val -32583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Parent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281" name="Rechteck 2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283" name="Rechteck 30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Ellipse 30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Ellipse 30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Ellipse 30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Rechteck 30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Gerade Verbindung 3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Gerade Verbindung 3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Ellipse 30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Ellipse 30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Ellipse 30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Rechteck 31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Gerade Verbindung 3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Gerade Verbindung 3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Ellipse 3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Gerade Verbindung 3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Gerade Verbindung 3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9" name="Legende mit Linie 1 2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01" name="Rechteck 3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03" name="Rechteck 320"/>
              <p:cNvSpPr/>
              <p:nvPr/>
            </p:nvSpPr>
            <p:spPr>
              <a:xfrm>
                <a:off x="65718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Ellipse 32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Ellipse 32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Ellipse 32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" name="Rechteck 32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" name="Gerade Verbindung 3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" name="Gerade Verbindung 3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" name="Ellipse 32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Ellipse 32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Ellipse 32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Rechteck 33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Gerade Verbindung 3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Gerade Verbindung 3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Ellipse 3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Gerade Verbindung 3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Gerade Verbindung 3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9" name="Legende mit Linie 1 3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21" name="Rechteck 33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2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23" name="Rechteck 34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Ellipse 34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Ellipse 34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" name="Ellipse 34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Rechteck 34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Gerade Verbindung 34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" name="Gerade Verbindung 34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" name="Ellipse 34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" name="Ellipse 34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" name="Ellipse 34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Rechteck 35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Gerade Verbindung 35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Gerade Verbindung 35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Ellipse 35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Gerade Verbindung 35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Gerade Verbindung 35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9" name="Legende mit Linie 1 33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41" name="Rechteck 35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4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43" name="Rechteck 36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Ellipse 36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Ellipse 36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Ellipse 36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Rechteck 36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Gerade Verbindung 36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" name="Gerade Verbindung 36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" name="Ellipse 36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Ellipse 36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" name="Ellipse 36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Rechteck 37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Gerade Verbindung 37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" name="Gerade Verbindung 37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" name="Ellipse 37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" name="Gerade Verbindung 37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Gerade Verbindung 37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9" name="Legende mit Linie 1 35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Gruppieren 16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61" name="Rechteck 37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2" name="Gruppieren 54"/>
            <p:cNvGrpSpPr/>
            <p:nvPr/>
          </p:nvGrpSpPr>
          <p:grpSpPr>
            <a:xfrm>
              <a:off x="6286320" y="4143240"/>
              <a:ext cx="2572200" cy="1571760"/>
              <a:chOff x="6286320" y="4143240"/>
              <a:chExt cx="2572200" cy="1571760"/>
            </a:xfrm>
          </p:grpSpPr>
          <p:sp>
            <p:nvSpPr>
              <p:cNvPr id="363" name="Rechteck 380"/>
              <p:cNvSpPr/>
              <p:nvPr/>
            </p:nvSpPr>
            <p:spPr>
              <a:xfrm>
                <a:off x="7643880" y="5214960"/>
                <a:ext cx="12146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" name="Ellipse 381"/>
              <p:cNvSpPr/>
              <p:nvPr/>
            </p:nvSpPr>
            <p:spPr>
              <a:xfrm>
                <a:off x="77155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Ellipse 38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Ellipse 38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Rechteck 38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Gerade Verbindung 385"/>
              <p:cNvSpPr/>
              <p:nvPr/>
            </p:nvSpPr>
            <p:spPr>
              <a:xfrm flipH="1">
                <a:off x="78940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Gerade Verbindung 38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" name="Ellipse 38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Ellipse 38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Ellipse 38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Rechteck 39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" name="Gerade Verbindung 39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" name="Gerade Verbindung 39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Ellipse 39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Gerade Verbindung 394"/>
              <p:cNvSpPr/>
              <p:nvPr/>
            </p:nvSpPr>
            <p:spPr>
              <a:xfrm>
                <a:off x="7535880" y="450036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Gerade Verbindung 39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9" name="Legende mit Linie 1 37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81" name="Rechteck 3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83" name="Rechteck 40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Ellipse 40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Ellipse 40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Ellipse 40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Rechteck 40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Gerade Verbindung 4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Gerade Verbindung 4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Ellipse 40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Ellipse 40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Ellipse 40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Rechteck 41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Gerade Verbindung 4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Gerade Verbindung 4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Ellipse 4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Gerade Verbindung 4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Gerade Verbindung 4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9" name="Legende mit Linie 1 3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401" name="Rechteck 4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0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403" name="Rechteck 42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Ellipse 42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Ellipse 42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Ellipse 42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Rechteck 42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Gerade Verbindung 4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Gerade Verbindung 4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Ellipse 42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Ellipse 42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Ellipse 42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Rechteck 43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Gerade Verbindung 4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Gerade Verbindung 4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Ellipse 4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Gerade Verbindung 4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Gerade Verbindung 4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9" name="Legende mit Linie 1 4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indefinite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indefinite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indefinite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indefinite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indefinite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indefinite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indefinite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indefinite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indefinite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indefinite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indefinite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indefinite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indefinite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indefinite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indefinite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600200"/>
            <a:ext cx="822960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reverse operation to se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join sub-scopes ag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remove level in the scope t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move sub-scopes on level u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basic reduction op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Lef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Righ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MergingRedu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take sub-scopes from left, right or all group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5C5EB-B21F-446A-99F6-98597EF296F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3" name="Gruppieren 4"/>
          <p:cNvGrpSpPr/>
          <p:nvPr/>
        </p:nvGrpSpPr>
        <p:grpSpPr>
          <a:xfrm>
            <a:off x="2143080" y="4071960"/>
            <a:ext cx="4857840" cy="2571840"/>
            <a:chOff x="2143080" y="4071960"/>
            <a:chExt cx="4857840" cy="2571840"/>
          </a:xfrm>
        </p:grpSpPr>
        <p:sp>
          <p:nvSpPr>
            <p:cNvPr id="424" name="Rechteck 5"/>
            <p:cNvSpPr/>
            <p:nvPr/>
          </p:nvSpPr>
          <p:spPr>
            <a:xfrm>
              <a:off x="5786640" y="5357880"/>
              <a:ext cx="121428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5" name="Gruppieren 33"/>
            <p:cNvGrpSpPr/>
            <p:nvPr/>
          </p:nvGrpSpPr>
          <p:grpSpPr>
            <a:xfrm>
              <a:off x="5857920" y="4857840"/>
              <a:ext cx="1071360" cy="928800"/>
              <a:chOff x="5857920" y="4857840"/>
              <a:chExt cx="1071360" cy="928800"/>
            </a:xfrm>
          </p:grpSpPr>
          <p:sp>
            <p:nvSpPr>
              <p:cNvPr id="426" name="Ellipse 4"/>
              <p:cNvSpPr/>
              <p:nvPr/>
            </p:nvSpPr>
            <p:spPr>
              <a:xfrm>
                <a:off x="585792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Ellipse 5"/>
              <p:cNvSpPr/>
              <p:nvPr/>
            </p:nvSpPr>
            <p:spPr>
              <a:xfrm>
                <a:off x="657216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Rechteck 28"/>
              <p:cNvSpPr/>
              <p:nvPr/>
            </p:nvSpPr>
            <p:spPr>
              <a:xfrm>
                <a:off x="6215040" y="54295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Ellipse 29"/>
              <p:cNvSpPr/>
              <p:nvPr/>
            </p:nvSpPr>
            <p:spPr>
              <a:xfrm>
                <a:off x="6215040" y="48578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Gerade Verbindung 30"/>
              <p:cNvSpPr/>
              <p:nvPr/>
            </p:nvSpPr>
            <p:spPr>
              <a:xfrm flipH="1">
                <a:off x="603648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Gerade Verbindung 31"/>
              <p:cNvSpPr/>
              <p:nvPr/>
            </p:nvSpPr>
            <p:spPr>
              <a:xfrm>
                <a:off x="639360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2" name="Pfeil nach rechts 7"/>
            <p:cNvSpPr/>
            <p:nvPr/>
          </p:nvSpPr>
          <p:spPr>
            <a:xfrm>
              <a:off x="4857840" y="514368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Nach unten gekrümmter Pfeil 8"/>
            <p:cNvSpPr/>
            <p:nvPr/>
          </p:nvSpPr>
          <p:spPr>
            <a:xfrm>
              <a:off x="3321720" y="4071960"/>
              <a:ext cx="3143520" cy="428400"/>
            </a:xfrm>
            <a:custGeom>
              <a:avLst/>
              <a:gdLst>
                <a:gd name="textAreaLeft" fmla="*/ 745560 w 3143520"/>
                <a:gd name="textAreaRight" fmla="*/ 2344320 w 31435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Nach oben gekrümmter Pfeil 9"/>
            <p:cNvSpPr/>
            <p:nvPr/>
          </p:nvSpPr>
          <p:spPr>
            <a:xfrm>
              <a:off x="3321720" y="6215400"/>
              <a:ext cx="3179160" cy="428400"/>
            </a:xfrm>
            <a:custGeom>
              <a:avLst/>
              <a:gdLst>
                <a:gd name="textAreaLeft" fmla="*/ 754560 w 3179160"/>
                <a:gd name="textAreaRight" fmla="*/ 2370960 w 317916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-3687508"/>
                  <a:lnTo>
                    <a:pt x="21274" y="5400"/>
                  </a:lnTo>
                  <a:lnTo>
                    <a:pt x="20872" y="0"/>
                  </a:lnTo>
                  <a:lnTo>
                    <a:pt x="19818" y="5400"/>
                  </a:lnTo>
                  <a:lnTo>
                    <a:pt x="20182" y="5400"/>
                  </a:lnTo>
                  <a:arcTo wR="10254" hR="21600" stAng="1712492" swAng="3629545"/>
                  <a:lnTo>
                    <a:pt x="10618" y="21586"/>
                  </a:lnTo>
                  <a:arcTo wR="10254" hR="21600" stAng="5457963" swAng="5342037"/>
                  <a:close/>
                </a:path>
                <a:path fill="darkenLess"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57963"/>
                  <a:lnTo>
                    <a:pt x="10618" y="21586"/>
                  </a:lnTo>
                  <a:arcTo wR="10254" hR="21600" stAng="5457963" swAng="53420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5" name="Gruppieren 34"/>
            <p:cNvGrpSpPr/>
            <p:nvPr/>
          </p:nvGrpSpPr>
          <p:grpSpPr>
            <a:xfrm>
              <a:off x="2143080" y="4572000"/>
              <a:ext cx="2500200" cy="1500120"/>
              <a:chOff x="2143080" y="4572000"/>
              <a:chExt cx="2500200" cy="1500120"/>
            </a:xfrm>
          </p:grpSpPr>
          <p:sp>
            <p:nvSpPr>
              <p:cNvPr id="436" name="Ellipse 11"/>
              <p:cNvSpPr/>
              <p:nvPr/>
            </p:nvSpPr>
            <p:spPr>
              <a:xfrm>
                <a:off x="214308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Ellipse 12"/>
              <p:cNvSpPr/>
              <p:nvPr/>
            </p:nvSpPr>
            <p:spPr>
              <a:xfrm>
                <a:off x="28573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Rechteck 13"/>
              <p:cNvSpPr/>
              <p:nvPr/>
            </p:nvSpPr>
            <p:spPr>
              <a:xfrm>
                <a:off x="250020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Ellipse 14"/>
              <p:cNvSpPr/>
              <p:nvPr/>
            </p:nvSpPr>
            <p:spPr>
              <a:xfrm>
                <a:off x="250020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Gerade Verbindung 15"/>
              <p:cNvSpPr/>
              <p:nvPr/>
            </p:nvSpPr>
            <p:spPr>
              <a:xfrm flipH="1">
                <a:off x="232164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Gerade Verbindung 16"/>
              <p:cNvSpPr/>
              <p:nvPr/>
            </p:nvSpPr>
            <p:spPr>
              <a:xfrm>
                <a:off x="267876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Ellipse 17"/>
              <p:cNvSpPr/>
              <p:nvPr/>
            </p:nvSpPr>
            <p:spPr>
              <a:xfrm>
                <a:off x="35719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Ellipse 18"/>
              <p:cNvSpPr/>
              <p:nvPr/>
            </p:nvSpPr>
            <p:spPr>
              <a:xfrm>
                <a:off x="428616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Rechteck 19"/>
              <p:cNvSpPr/>
              <p:nvPr/>
            </p:nvSpPr>
            <p:spPr>
              <a:xfrm>
                <a:off x="392904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Ellipse 20"/>
              <p:cNvSpPr/>
              <p:nvPr/>
            </p:nvSpPr>
            <p:spPr>
              <a:xfrm>
                <a:off x="392904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Gerade Verbindung 21"/>
              <p:cNvSpPr/>
              <p:nvPr/>
            </p:nvSpPr>
            <p:spPr>
              <a:xfrm flipH="1">
                <a:off x="375048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Gerade Verbindung 22"/>
              <p:cNvSpPr/>
              <p:nvPr/>
            </p:nvSpPr>
            <p:spPr>
              <a:xfrm>
                <a:off x="410760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Ellipse 23"/>
              <p:cNvSpPr/>
              <p:nvPr/>
            </p:nvSpPr>
            <p:spPr>
              <a:xfrm>
                <a:off x="3214440" y="4572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Gerade Verbindung 24"/>
              <p:cNvSpPr/>
              <p:nvPr/>
            </p:nvSpPr>
            <p:spPr>
              <a:xfrm flipH="1">
                <a:off x="2678760" y="49291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" name="Gerade Verbindung 25"/>
              <p:cNvSpPr/>
              <p:nvPr/>
            </p:nvSpPr>
            <p:spPr>
              <a:xfrm flipH="1" flipV="1">
                <a:off x="3393000" y="49287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plac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merge parents and child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use selection/reduction oper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parents that should stay and discard all others (elitis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children that should replace and discard all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merge both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A4094-3AE6-48AB-A1F3-1F33DAD861B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6" name="Gewinkelte Verbindung 17"/>
          <p:cNvCxnSpPr>
            <a:stCxn id="455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57" name="Gewinkelte Verbindung 18"/>
          <p:cNvCxnSpPr>
            <a:stCxn id="455" idx="3"/>
            <a:endCxn id="458" idx="1"/>
          </p:cNvCxnSpPr>
          <p:nvPr/>
        </p:nvCxnSpPr>
        <p:spPr>
          <a:xfrm>
            <a:off x="2214360" y="1891800"/>
            <a:ext cx="214920" cy="17168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59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Flussdiagramm: Prozess 84"/>
          <p:cNvSpPr/>
          <p:nvPr/>
        </p:nvSpPr>
        <p:spPr>
          <a:xfrm>
            <a:off x="435780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Flussdiagramm: Prozess 85"/>
          <p:cNvSpPr/>
          <p:nvPr/>
        </p:nvSpPr>
        <p:spPr>
          <a:xfrm>
            <a:off x="628668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lussdiagramm: Prozess 86"/>
          <p:cNvSpPr/>
          <p:nvPr/>
        </p:nvSpPr>
        <p:spPr>
          <a:xfrm>
            <a:off x="628668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Flussdiagramm: Prozess 8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Flussdiagramm: Prozess 8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Flussdiagramm: Prozess 8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Flussdiagramm: Prozess 90"/>
          <p:cNvSpPr/>
          <p:nvPr/>
        </p:nvSpPr>
        <p:spPr>
          <a:xfrm>
            <a:off x="242892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erging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Flussdiagramm: Prozess 91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7" name="Gewinkelte Verbindung 93"/>
          <p:cNvCxnSpPr>
            <a:stCxn id="455" idx="3"/>
            <a:endCxn id="466" idx="1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8" name="Gewinkelte Verbindung 97"/>
          <p:cNvCxnSpPr>
            <a:stCxn id="459" idx="3"/>
            <a:endCxn id="460" idx="1"/>
          </p:cNvCxnSpPr>
          <p:nvPr/>
        </p:nvCxnSpPr>
        <p:spPr>
          <a:xfrm>
            <a:off x="414324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9" name="Gewinkelte Verbindung 100"/>
          <p:cNvCxnSpPr>
            <a:stCxn id="459" idx="3"/>
            <a:endCxn id="463" idx="1"/>
          </p:cNvCxnSpPr>
          <p:nvPr/>
        </p:nvCxnSpPr>
        <p:spPr>
          <a:xfrm>
            <a:off x="4143240" y="1892160"/>
            <a:ext cx="215280" cy="85824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0" name="Gewinkelte Verbindung 104"/>
          <p:cNvCxnSpPr>
            <a:stCxn id="460" idx="3"/>
            <a:endCxn id="461" idx="1"/>
          </p:cNvCxnSpPr>
          <p:nvPr/>
        </p:nvCxnSpPr>
        <p:spPr>
          <a:xfrm>
            <a:off x="607212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1" name="Gewinkelte Verbindung 108"/>
          <p:cNvCxnSpPr>
            <a:stCxn id="460" idx="3"/>
            <a:endCxn id="462" idx="1"/>
          </p:cNvCxnSpPr>
          <p:nvPr/>
        </p:nvCxnSpPr>
        <p:spPr>
          <a:xfrm>
            <a:off x="6072120" y="189180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2" name="Gewinkelte Verbindung 113"/>
          <p:cNvCxnSpPr>
            <a:stCxn id="463" idx="3"/>
            <a:endCxn id="464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3" name="Gewinkelte Verbindung 116"/>
          <p:cNvCxnSpPr>
            <a:stCxn id="463" idx="3"/>
            <a:endCxn id="465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474" name="Gruppieren 1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75" name="Rechteck 1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6" name="Gruppieren 166"/>
            <p:cNvGrpSpPr/>
            <p:nvPr/>
          </p:nvGrpSpPr>
          <p:grpSpPr>
            <a:xfrm>
              <a:off x="5357520" y="3786120"/>
              <a:ext cx="3286080" cy="2214720"/>
              <a:chOff x="5357520" y="3786120"/>
              <a:chExt cx="3286080" cy="2214720"/>
            </a:xfrm>
          </p:grpSpPr>
          <p:sp>
            <p:nvSpPr>
              <p:cNvPr id="477" name="Rechteck 135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8" name="Ellipse 136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9" name="Ellipse 137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Ellipse 138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1" name="Rechteck 139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2" name="Gerade Verbindung 141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Gerade Verbindung 143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Ellipse 144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5" name="Ellipse 145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6" name="Ellipse 146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Rechteck 147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Gerade Verbindung 148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Gerade Verbindung 149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Ellipse 150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Gerade Verbindung 151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Gerade Verbindung 152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Legende mit Linie 1 153"/>
              <p:cNvSpPr/>
              <p:nvPr/>
            </p:nvSpPr>
            <p:spPr>
              <a:xfrm>
                <a:off x="764352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Legende mit Linie 1 154"/>
              <p:cNvSpPr/>
              <p:nvPr/>
            </p:nvSpPr>
            <p:spPr>
              <a:xfrm>
                <a:off x="621468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95" name="Gruppieren 155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96" name="Rechteck 156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7" name="Gruppieren 166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498" name="Rechteck 158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9" name="Ellipse 159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Ellipse 16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1" name="Ellipse 16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Rechteck 16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3" name="Gerade Verbindung 16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Gerade Verbindung 16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Ellipse 16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Ellipse 16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Ellipse 16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Rechteck 17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Gerade Verbindung 17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Gerade Verbindung 17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Ellipse 17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Gerade Verbindung 17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Gerade Verbindung 17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4" name="Legende mit Linie 1 176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5" name="Legende mit Linie 1 177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16" name="Gruppieren 412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17" name="Rechteck 413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8" name="Gruppieren 167"/>
            <p:cNvGrpSpPr/>
            <p:nvPr/>
          </p:nvGrpSpPr>
          <p:grpSpPr>
            <a:xfrm>
              <a:off x="5428800" y="3857400"/>
              <a:ext cx="2428920" cy="1857240"/>
              <a:chOff x="5428800" y="3857400"/>
              <a:chExt cx="2428920" cy="1857240"/>
            </a:xfrm>
          </p:grpSpPr>
          <p:sp>
            <p:nvSpPr>
              <p:cNvPr id="519" name="Rechteck 415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0" name="Ellipse 416"/>
              <p:cNvSpPr/>
              <p:nvPr/>
            </p:nvSpPr>
            <p:spPr>
              <a:xfrm>
                <a:off x="67860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1" name="Ellipse 41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Ellipse 418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Rechteck 419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Gerade Verbindung 420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Gerade Verbindung 421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Ellipse 422"/>
              <p:cNvSpPr/>
              <p:nvPr/>
            </p:nvSpPr>
            <p:spPr>
              <a:xfrm>
                <a:off x="57142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Ellipse 42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Gerade Verbindung 42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Gerade Verbindung 42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30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31" name="Ellipse 434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2" name="Rechteck 435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3" name="Gerade Verbindung 436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4" name="Gerade Verbindung 437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35" name="Gruppieren 120"/>
              <p:cNvGrpSpPr/>
              <p:nvPr/>
            </p:nvGrpSpPr>
            <p:grpSpPr>
              <a:xfrm>
                <a:off x="6000120" y="5000400"/>
                <a:ext cx="357120" cy="714240"/>
                <a:chOff x="6000120" y="5000400"/>
                <a:chExt cx="357120" cy="714240"/>
              </a:xfrm>
            </p:grpSpPr>
            <p:sp>
              <p:nvSpPr>
                <p:cNvPr id="536" name="Ellipse 430"/>
                <p:cNvSpPr/>
                <p:nvPr/>
              </p:nvSpPr>
              <p:spPr>
                <a:xfrm>
                  <a:off x="60001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7" name="Rechteck 431"/>
                <p:cNvSpPr/>
                <p:nvPr/>
              </p:nvSpPr>
              <p:spPr>
                <a:xfrm>
                  <a:off x="60001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8" name="Gerade Verbindung 432"/>
                <p:cNvSpPr/>
                <p:nvPr/>
              </p:nvSpPr>
              <p:spPr>
                <a:xfrm>
                  <a:off x="61786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9" name="Gerade Verbindung 433"/>
                <p:cNvSpPr/>
                <p:nvPr/>
              </p:nvSpPr>
              <p:spPr>
                <a:xfrm flipH="1">
                  <a:off x="60001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40" name="Gerade Verbindung 428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1" name="Gerade Verbindung 429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2" name="Gruppieren 438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43" name="Rechteck 439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4" name="Gruppieren 167"/>
            <p:cNvGrpSpPr/>
            <p:nvPr/>
          </p:nvGrpSpPr>
          <p:grpSpPr>
            <a:xfrm>
              <a:off x="5356800" y="3857400"/>
              <a:ext cx="2501280" cy="1857240"/>
              <a:chOff x="5356800" y="3857400"/>
              <a:chExt cx="2501280" cy="1857240"/>
            </a:xfrm>
          </p:grpSpPr>
          <p:sp>
            <p:nvSpPr>
              <p:cNvPr id="545" name="Rechteck 441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6" name="Ellipse 442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Ellipse 443"/>
              <p:cNvSpPr/>
              <p:nvPr/>
            </p:nvSpPr>
            <p:spPr>
              <a:xfrm>
                <a:off x="71438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Ellipse 444"/>
              <p:cNvSpPr/>
              <p:nvPr/>
            </p:nvSpPr>
            <p:spPr>
              <a:xfrm>
                <a:off x="75009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Rechteck 445"/>
              <p:cNvSpPr/>
              <p:nvPr/>
            </p:nvSpPr>
            <p:spPr>
              <a:xfrm>
                <a:off x="71438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Gerade Verbindung 446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Gerade Verbindung 447"/>
              <p:cNvSpPr/>
              <p:nvPr/>
            </p:nvSpPr>
            <p:spPr>
              <a:xfrm>
                <a:off x="73224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2" name="Ellipse 44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Ellipse 449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Gerade Verbindung 450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5" name="Gerade Verbindung 451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56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57" name="Ellipse 463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8" name="Rechteck 464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9" name="Gerade Verbindung 465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0" name="Gerade Verbindung 466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61" name="Gruppieren 120"/>
              <p:cNvGrpSpPr/>
              <p:nvPr/>
            </p:nvGrpSpPr>
            <p:grpSpPr>
              <a:xfrm>
                <a:off x="6000480" y="5000400"/>
                <a:ext cx="357120" cy="714240"/>
                <a:chOff x="6000480" y="5000400"/>
                <a:chExt cx="357120" cy="714240"/>
              </a:xfrm>
            </p:grpSpPr>
            <p:sp>
              <p:nvSpPr>
                <p:cNvPr id="562" name="Ellipse 459"/>
                <p:cNvSpPr/>
                <p:nvPr/>
              </p:nvSpPr>
              <p:spPr>
                <a:xfrm>
                  <a:off x="600048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3" name="Rechteck 460"/>
                <p:cNvSpPr/>
                <p:nvPr/>
              </p:nvSpPr>
              <p:spPr>
                <a:xfrm>
                  <a:off x="600048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4" name="Gerade Verbindung 461"/>
                <p:cNvSpPr/>
                <p:nvPr/>
              </p:nvSpPr>
              <p:spPr>
                <a:xfrm>
                  <a:off x="61790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5" name="Gerade Verbindung 462"/>
                <p:cNvSpPr/>
                <p:nvPr/>
              </p:nvSpPr>
              <p:spPr>
                <a:xfrm flipH="1">
                  <a:off x="60004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66" name="Gerade Verbindung 454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Gerade Verbindung 455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68" name="Gruppieren 132"/>
              <p:cNvGrpSpPr/>
              <p:nvPr/>
            </p:nvGrpSpPr>
            <p:grpSpPr>
              <a:xfrm>
                <a:off x="5356800" y="4928400"/>
                <a:ext cx="500040" cy="500400"/>
                <a:chOff x="5356800" y="4928400"/>
                <a:chExt cx="500040" cy="500400"/>
              </a:xfrm>
            </p:grpSpPr>
            <p:sp>
              <p:nvSpPr>
                <p:cNvPr id="569" name="Gerade Verbindung 457"/>
                <p:cNvSpPr/>
                <p:nvPr/>
              </p:nvSpPr>
              <p:spPr>
                <a:xfrm flipV="1">
                  <a:off x="535680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0" name="Gerade Verbindung 458"/>
                <p:cNvSpPr/>
                <p:nvPr/>
              </p:nvSpPr>
              <p:spPr>
                <a:xfrm>
                  <a:off x="535680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571" name="Gruppieren 46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72" name="Rechteck 46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3" name="Gruppieren 24"/>
            <p:cNvGrpSpPr/>
            <p:nvPr/>
          </p:nvGrpSpPr>
          <p:grpSpPr>
            <a:xfrm>
              <a:off x="5357520" y="3857400"/>
              <a:ext cx="2500200" cy="2143080"/>
              <a:chOff x="5357520" y="3857400"/>
              <a:chExt cx="2500200" cy="2143080"/>
            </a:xfrm>
          </p:grpSpPr>
          <p:sp>
            <p:nvSpPr>
              <p:cNvPr id="574" name="Rechteck 470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Ellipse 47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6" name="Ellipse 47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Ellipse 47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8" name="Rechteck 47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9" name="Gerade Verbindung 47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0" name="Gerade Verbindung 47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1" name="Ellipse 47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2" name="Ellipse 47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3" name="Ellipse 47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4" name="Rechteck 48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5" name="Gerade Verbindung 48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Gerade Verbindung 48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7" name="Ellipse 48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8" name="Gerade Verbindung 48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Gerade Verbindung 48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Legende mit Linie 1 486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1" name="Gruppieren 48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92" name="Rechteck 48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3" name="Gruppieren 24"/>
            <p:cNvGrpSpPr/>
            <p:nvPr/>
          </p:nvGrpSpPr>
          <p:grpSpPr>
            <a:xfrm>
              <a:off x="5357520" y="3857400"/>
              <a:ext cx="2500200" cy="1500120"/>
              <a:chOff x="5357520" y="3857400"/>
              <a:chExt cx="2500200" cy="1500120"/>
            </a:xfrm>
          </p:grpSpPr>
          <p:sp>
            <p:nvSpPr>
              <p:cNvPr id="594" name="Rechteck 490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Ellipse 49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Ellipse 49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Ellipse 49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Rechteck 49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Gerade Verbindung 49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Gerade Verbindung 49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1" name="Ellipse 49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Ellipse 49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Ellipse 49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Rechteck 50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5" name="Gerade Verbindung 50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Gerade Verbindung 50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Ellipse 50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Gerade Verbindung 50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Gerade Verbindung 50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0" name="Gruppieren 506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11" name="Rechteck 507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2" name="Gruppieren 168"/>
            <p:cNvGrpSpPr/>
            <p:nvPr/>
          </p:nvGrpSpPr>
          <p:grpSpPr>
            <a:xfrm>
              <a:off x="5357520" y="3857400"/>
              <a:ext cx="2428920" cy="1857240"/>
              <a:chOff x="5357520" y="3857400"/>
              <a:chExt cx="2428920" cy="1857240"/>
            </a:xfrm>
          </p:grpSpPr>
          <p:sp>
            <p:nvSpPr>
              <p:cNvPr id="613" name="Rechteck 509"/>
              <p:cNvSpPr/>
              <p:nvPr/>
            </p:nvSpPr>
            <p:spPr>
              <a:xfrm>
                <a:off x="70722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Ellipse 510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Ellipse 51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6" name="Ellipse 512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7" name="Rechteck 513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8" name="Gerade Verbindung 514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9" name="Gerade Verbindung 515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Ellipse 516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1" name="Ellipse 517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2" name="Gerade Verbindung 518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Gerade Verbindung 51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24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25" name="Ellipse 528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6" name="Rechteck 529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7" name="Gerade Verbindung 530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8" name="Gerade Verbindung 531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29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30" name="Ellipse 524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1" name="Rechteck 525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2" name="Gerade Verbindung 526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3" name="Gerade Verbindung 527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34" name="Gerade Verbindung 522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5" name="Gerade Verbindung 523"/>
              <p:cNvSpPr/>
              <p:nvPr/>
            </p:nvSpPr>
            <p:spPr>
              <a:xfrm flipH="1">
                <a:off x="70362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36" name="Gruppieren 5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37" name="Rechteck 5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8" name="Gruppieren 168"/>
            <p:cNvGrpSpPr/>
            <p:nvPr/>
          </p:nvGrpSpPr>
          <p:grpSpPr>
            <a:xfrm>
              <a:off x="5357520" y="3857400"/>
              <a:ext cx="2499480" cy="1857240"/>
              <a:chOff x="5357520" y="3857400"/>
              <a:chExt cx="2499480" cy="1857240"/>
            </a:xfrm>
          </p:grpSpPr>
          <p:sp>
            <p:nvSpPr>
              <p:cNvPr id="639" name="Rechteck 535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Ellipse 536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Ellipse 53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Ellipse 538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Rechteck 539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Gerade Verbindung 540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Gerade Verbindung 541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Ellipse 54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Ellipse 54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Gerade Verbindung 54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Gerade Verbindung 54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50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51" name="Ellipse 557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2" name="Rechteck 558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3" name="Gerade Verbindung 559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4" name="Gerade Verbindung 560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55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56" name="Ellipse 553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7" name="Rechteck 554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8" name="Gerade Verbindung 555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9" name="Gerade Verbindung 556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0" name="Gerade Verbindung 548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Gerade Verbindung 549"/>
              <p:cNvSpPr/>
              <p:nvPr/>
            </p:nvSpPr>
            <p:spPr>
              <a:xfrm flipH="1">
                <a:off x="703584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2" name="Gruppieren 156"/>
              <p:cNvGrpSpPr/>
              <p:nvPr/>
            </p:nvGrpSpPr>
            <p:grpSpPr>
              <a:xfrm>
                <a:off x="7356960" y="4928400"/>
                <a:ext cx="500040" cy="500400"/>
                <a:chOff x="7356960" y="4928400"/>
                <a:chExt cx="500040" cy="500400"/>
              </a:xfrm>
            </p:grpSpPr>
            <p:sp>
              <p:nvSpPr>
                <p:cNvPr id="663" name="Gerade Verbindung 551"/>
                <p:cNvSpPr/>
                <p:nvPr/>
              </p:nvSpPr>
              <p:spPr>
                <a:xfrm flipV="1">
                  <a:off x="735696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Gerade Verbindung 552"/>
                <p:cNvSpPr/>
                <p:nvPr/>
              </p:nvSpPr>
              <p:spPr>
                <a:xfrm>
                  <a:off x="735696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665" name="Gruppieren 56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66" name="Rechteck 56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7" name="Gruppieren 24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668" name="Rechteck 564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Ellipse 565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Ellipse 566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Ellipse 567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Rechteck 568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Gerade Verbindung 56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Gerade Verbindung 57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Ellipse 571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Ellipse 57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Ellipse 573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Rechteck 574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Gerade Verbindung 57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Gerade Verbindung 57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Ellipse 57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Gerade Verbindung 57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Gerade Verbindung 57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Legende mit Linie 1 580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5" name="Gruppieren 58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86" name="Rechteck 58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7" name="Gruppieren 170"/>
            <p:cNvGrpSpPr/>
            <p:nvPr/>
          </p:nvGrpSpPr>
          <p:grpSpPr>
            <a:xfrm>
              <a:off x="5357520" y="3786120"/>
              <a:ext cx="2500200" cy="1571760"/>
              <a:chOff x="5357520" y="3786120"/>
              <a:chExt cx="2500200" cy="1571760"/>
            </a:xfrm>
          </p:grpSpPr>
          <p:sp>
            <p:nvSpPr>
              <p:cNvPr id="688" name="Rechteck 584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Ellipse 585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Ellipse 586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Ellipse 587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Rechteck 588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Gerade Verbindung 58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Gerade Verbindung 59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Ellipse 591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Ellipse 592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Ellipse 593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8" name="Rechteck 594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Gerade Verbindung 59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Gerade Verbindung 59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1" name="Ellipse 59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Gerade Verbindung 59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Gerade Verbindung 59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04" name="Gruppieren 600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705" name="Rechteck 601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6" name="Gruppieren 188"/>
            <p:cNvGrpSpPr/>
            <p:nvPr/>
          </p:nvGrpSpPr>
          <p:grpSpPr>
            <a:xfrm>
              <a:off x="6072120" y="3786120"/>
              <a:ext cx="1857240" cy="1643040"/>
              <a:chOff x="6072120" y="3786120"/>
              <a:chExt cx="1857240" cy="1643040"/>
            </a:xfrm>
          </p:grpSpPr>
          <p:sp>
            <p:nvSpPr>
              <p:cNvPr id="707" name="Rechteck 603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Ellipse 604"/>
              <p:cNvSpPr/>
              <p:nvPr/>
            </p:nvSpPr>
            <p:spPr>
              <a:xfrm>
                <a:off x="607212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Ellipse 605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Ellipse 606"/>
              <p:cNvSpPr/>
              <p:nvPr/>
            </p:nvSpPr>
            <p:spPr>
              <a:xfrm>
                <a:off x="678636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Rechteck 607"/>
              <p:cNvSpPr/>
              <p:nvPr/>
            </p:nvSpPr>
            <p:spPr>
              <a:xfrm>
                <a:off x="6429240" y="44290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2" name="Gerade Verbindung 608"/>
              <p:cNvSpPr/>
              <p:nvPr/>
            </p:nvSpPr>
            <p:spPr>
              <a:xfrm flipH="1">
                <a:off x="625068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3" name="Gerade Verbindung 609"/>
              <p:cNvSpPr/>
              <p:nvPr/>
            </p:nvSpPr>
            <p:spPr>
              <a:xfrm>
                <a:off x="660780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Legende mit Linie 1 610"/>
              <p:cNvSpPr/>
              <p:nvPr/>
            </p:nvSpPr>
            <p:spPr>
              <a:xfrm>
                <a:off x="6929280" y="507204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Next Generatio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1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751DB-4F50-4BA2-BD20-32B700077D8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indefinite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indefinite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indefinite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indefinite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indefinite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indefinite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indefinite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indefinite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indefinite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indefinite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ular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 graphs grow quite quickly and become hard to hand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zation of operator graphs is necess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special operator that wraps a whole operator grap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gorithms contain problem-specific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: TSPInjector, RandomPermutationGenerator, DistanceMatrixPathTSPEvaluator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to build a generic SGA template that can be parameterized with all necessary problem-specific operator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bined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an operator 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ay inject its sub-operators into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ecutes the whole operator graph on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peratorExtra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aceholder 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racts and executes an operator with a predefined name from the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variable lookup goes up in the scope tree until a matching operator is foun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05C4A-F88F-49BA-8BCB-48AFC80333E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0" name="Gruppieren 89"/>
          <p:cNvGrpSpPr/>
          <p:nvPr/>
        </p:nvGrpSpPr>
        <p:grpSpPr>
          <a:xfrm>
            <a:off x="714240" y="2643120"/>
            <a:ext cx="7715520" cy="3786120"/>
            <a:chOff x="714240" y="2643120"/>
            <a:chExt cx="7715520" cy="3786120"/>
          </a:xfrm>
        </p:grpSpPr>
        <p:sp>
          <p:nvSpPr>
            <p:cNvPr id="721" name="Flussdiagramm: Prozess 87"/>
            <p:cNvSpPr/>
            <p:nvPr/>
          </p:nvSpPr>
          <p:spPr>
            <a:xfrm>
              <a:off x="714240" y="2643120"/>
              <a:ext cx="7715520" cy="3786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2" name="Gruppieren 82"/>
            <p:cNvGrpSpPr/>
            <p:nvPr/>
          </p:nvGrpSpPr>
          <p:grpSpPr>
            <a:xfrm>
              <a:off x="804600" y="2930400"/>
              <a:ext cx="7501320" cy="3357720"/>
              <a:chOff x="804600" y="2930400"/>
              <a:chExt cx="7501320" cy="3357720"/>
            </a:xfrm>
          </p:grpSpPr>
          <p:sp>
            <p:nvSpPr>
              <p:cNvPr id="723" name="Flussdiagramm: Prozess 5"/>
              <p:cNvSpPr/>
              <p:nvPr/>
            </p:nvSpPr>
            <p:spPr>
              <a:xfrm>
                <a:off x="80460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24" name="Gewinkelte Verbindung 6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25" name="Gewinkelte Verbindung 7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726" name="Flussdiagramm: Prozess 16"/>
              <p:cNvSpPr/>
              <p:nvPr/>
            </p:nvSpPr>
            <p:spPr>
              <a:xfrm>
                <a:off x="273348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Random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7" name="Flussdiagramm: Prozess 17"/>
              <p:cNvSpPr/>
              <p:nvPr/>
            </p:nvSpPr>
            <p:spPr>
              <a:xfrm>
                <a:off x="2733480" y="335880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ProblemInitializ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8" name="Flussdiagramm: Prozess 19"/>
              <p:cNvSpPr/>
              <p:nvPr/>
            </p:nvSpPr>
            <p:spPr>
              <a:xfrm>
                <a:off x="2733480" y="378756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Variable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9" name="Flussdiagramm: Prozess 20"/>
              <p:cNvSpPr/>
              <p:nvPr/>
            </p:nvSpPr>
            <p:spPr>
              <a:xfrm>
                <a:off x="2733480" y="421632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Crea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0" name="Flussdiagramm: Prozess 21"/>
              <p:cNvSpPr/>
              <p:nvPr/>
            </p:nvSpPr>
            <p:spPr>
              <a:xfrm>
                <a:off x="273348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UniformSequential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Flussdiagramm: Prozess 22"/>
              <p:cNvSpPr/>
              <p:nvPr/>
            </p:nvSpPr>
            <p:spPr>
              <a:xfrm>
                <a:off x="466236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2" name="Flussdiagramm: Prozess 23"/>
              <p:cNvSpPr/>
              <p:nvPr/>
            </p:nvSpPr>
            <p:spPr>
              <a:xfrm>
                <a:off x="6591600" y="464508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SolutionGener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3" name="Flussdiagramm: Prozess 24"/>
              <p:cNvSpPr/>
              <p:nvPr/>
            </p:nvSpPr>
            <p:spPr>
              <a:xfrm>
                <a:off x="6591600" y="507384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Evalu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4" name="Flussdiagramm: Prozess 25"/>
              <p:cNvSpPr/>
              <p:nvPr/>
            </p:nvSpPr>
            <p:spPr>
              <a:xfrm>
                <a:off x="6591600" y="550224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Coun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5" name="Flussdiagramm: Prozess 26"/>
              <p:cNvSpPr/>
              <p:nvPr/>
            </p:nvSpPr>
            <p:spPr>
              <a:xfrm>
                <a:off x="2733480" y="59310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or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36" name="Gewinkelte Verbindung 44"/>
              <p:cNvCxnSpPr>
                <a:stCxn id="723" idx="3"/>
                <a:endCxn id="728" idx="1"/>
              </p:cNvCxnSpPr>
              <p:nvPr/>
            </p:nvCxnSpPr>
            <p:spPr>
              <a:xfrm>
                <a:off x="2518560" y="310860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7" name="Gewinkelte Verbindung 46"/>
              <p:cNvCxnSpPr>
                <a:stCxn id="723" idx="3"/>
                <a:endCxn id="729" idx="1"/>
              </p:cNvCxnSpPr>
              <p:nvPr/>
            </p:nvCxnSpPr>
            <p:spPr>
              <a:xfrm>
                <a:off x="2518560" y="3108960"/>
                <a:ext cx="214920" cy="128664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8" name="Gewinkelte Verbindung 48"/>
              <p:cNvCxnSpPr>
                <a:stCxn id="723" idx="3"/>
                <a:endCxn id="730" idx="1"/>
              </p:cNvCxnSpPr>
              <p:nvPr/>
            </p:nvCxnSpPr>
            <p:spPr>
              <a:xfrm>
                <a:off x="2518560" y="3108600"/>
                <a:ext cx="214920" cy="171540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9" name="Gewinkelte Verbindung 50"/>
              <p:cNvCxnSpPr>
                <a:stCxn id="723" idx="3"/>
                <a:endCxn id="735" idx="1"/>
              </p:cNvCxnSpPr>
              <p:nvPr/>
            </p:nvCxnSpPr>
            <p:spPr>
              <a:xfrm>
                <a:off x="2518560" y="3108600"/>
                <a:ext cx="214920" cy="30013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0" name="Gewinkelte Verbindung 56"/>
              <p:cNvCxnSpPr>
                <a:stCxn id="730" idx="3"/>
                <a:endCxn id="731" idx="1"/>
              </p:cNvCxnSpPr>
              <p:nvPr/>
            </p:nvCxnSpPr>
            <p:spPr>
              <a:xfrm>
                <a:off x="444780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1" name="Gewinkelte Verbindung 59"/>
              <p:cNvCxnSpPr>
                <a:stCxn id="731" idx="3"/>
                <a:endCxn id="732" idx="1"/>
              </p:cNvCxnSpPr>
              <p:nvPr/>
            </p:nvCxnSpPr>
            <p:spPr>
              <a:xfrm>
                <a:off x="637668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2" name="Gewinkelte Verbindung 62"/>
              <p:cNvCxnSpPr>
                <a:stCxn id="731" idx="3"/>
                <a:endCxn id="733" idx="1"/>
              </p:cNvCxnSpPr>
              <p:nvPr/>
            </p:nvCxnSpPr>
            <p:spPr>
              <a:xfrm>
                <a:off x="6376680" y="482364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3" name="Gewinkelte Verbindung 65"/>
              <p:cNvCxnSpPr>
                <a:stCxn id="731" idx="3"/>
                <a:endCxn id="734" idx="1"/>
              </p:cNvCxnSpPr>
              <p:nvPr/>
            </p:nvCxnSpPr>
            <p:spPr>
              <a:xfrm>
                <a:off x="6376680" y="482328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</p:grpSp>
      <p:grpSp>
        <p:nvGrpSpPr>
          <p:cNvPr id="744" name="Gruppieren 88"/>
          <p:cNvGrpSpPr/>
          <p:nvPr/>
        </p:nvGrpSpPr>
        <p:grpSpPr>
          <a:xfrm>
            <a:off x="714240" y="1214280"/>
            <a:ext cx="3643560" cy="1214640"/>
            <a:chOff x="714240" y="1214280"/>
            <a:chExt cx="3643560" cy="1214640"/>
          </a:xfrm>
        </p:grpSpPr>
        <p:sp>
          <p:nvSpPr>
            <p:cNvPr id="745" name="Flussdiagramm: Prozess 40"/>
            <p:cNvSpPr/>
            <p:nvPr/>
          </p:nvSpPr>
          <p:spPr>
            <a:xfrm>
              <a:off x="714240" y="1214280"/>
              <a:ext cx="1714680" cy="357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Flussdiagramm: Prozess 41"/>
            <p:cNvSpPr/>
            <p:nvPr/>
          </p:nvSpPr>
          <p:spPr>
            <a:xfrm>
              <a:off x="2643120" y="121428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SPInjec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Flussdiagramm: Prozess 42"/>
            <p:cNvSpPr/>
            <p:nvPr/>
          </p:nvSpPr>
          <p:spPr>
            <a:xfrm>
              <a:off x="2643120" y="164304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andom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Gen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Flussdiagramm: Prozess 43"/>
            <p:cNvSpPr/>
            <p:nvPr/>
          </p:nvSpPr>
          <p:spPr>
            <a:xfrm>
              <a:off x="2643120" y="207180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DistanceMatrixPathTS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49" name="Gewinkelte Verbindung 68"/>
            <p:cNvCxnSpPr>
              <a:stCxn id="745" idx="3"/>
              <a:endCxn id="748" idx="1"/>
            </p:cNvCxnSpPr>
            <p:nvPr/>
          </p:nvCxnSpPr>
          <p:spPr>
            <a:xfrm>
              <a:off x="2428560" y="1392840"/>
              <a:ext cx="214920" cy="8582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0" name="Gewinkelte Verbindung 71"/>
            <p:cNvCxnSpPr>
              <a:stCxn id="745" idx="3"/>
              <a:endCxn id="747" idx="1"/>
            </p:cNvCxnSpPr>
            <p:nvPr/>
          </p:nvCxnSpPr>
          <p:spPr>
            <a:xfrm>
              <a:off x="2428560" y="1392480"/>
              <a:ext cx="214920" cy="429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1" name="Gewinkelte Verbindung 74"/>
            <p:cNvCxnSpPr>
              <a:stCxn id="745" idx="3"/>
              <a:endCxn id="746" idx="1"/>
            </p:cNvCxnSpPr>
            <p:nvPr/>
          </p:nvCxnSpPr>
          <p:spPr>
            <a:xfrm>
              <a:off x="2428560" y="139284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9702D-4AA5-44F1-9BA5-81000E5E6D8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Nach links gekrümmter Pfeil 91"/>
          <p:cNvSpPr/>
          <p:nvPr/>
        </p:nvSpPr>
        <p:spPr>
          <a:xfrm>
            <a:off x="4572000" y="1357200"/>
            <a:ext cx="500040" cy="2286000"/>
          </a:xfrm>
          <a:custGeom>
            <a:avLst/>
            <a:gdLst>
              <a:gd name="textAreaLeft" fmla="*/ 66960 w 500040"/>
              <a:gd name="textAreaRight" fmla="*/ 433080 w 500040"/>
              <a:gd name="textAreaTop" fmla="*/ 524520 h 2286000"/>
              <a:gd name="textAreaBottom" fmla="*/ 16988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3638411"/>
                <a:lnTo>
                  <a:pt x="5400" y="21285"/>
                </a:lnTo>
                <a:lnTo>
                  <a:pt x="0" y="20419"/>
                </a:lnTo>
                <a:lnTo>
                  <a:pt x="5400" y="18922"/>
                </a:lnTo>
                <a:lnTo>
                  <a:pt x="5400" y="19513"/>
                </a:lnTo>
                <a:arcTo wR="21600" hR="9914" stAng="3638411" swAng="-3544286"/>
                <a:lnTo>
                  <a:pt x="21562" y="10505"/>
                </a:lnTo>
                <a:arcTo wR="21600" hR="9914" stAng="-94125" swAng="-5305875"/>
                <a:close/>
              </a:path>
              <a:path fill="darkenLess"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-94125"/>
                <a:lnTo>
                  <a:pt x="21562" y="10505"/>
                </a:lnTo>
                <a:arcTo wR="21600" hR="9914" stAng="-94125" swAng="-5305875"/>
                <a:close/>
              </a:path>
            </a:pathLst>
          </a:cu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feil nach rechts 93"/>
          <p:cNvSpPr/>
          <p:nvPr/>
        </p:nvSpPr>
        <p:spPr>
          <a:xfrm rot="3022800">
            <a:off x="3820320" y="366768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feil nach rechts 94"/>
          <p:cNvSpPr/>
          <p:nvPr/>
        </p:nvSpPr>
        <p:spPr>
          <a:xfrm rot="3022800">
            <a:off x="3820320" y="316764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feil nach unten 95"/>
          <p:cNvSpPr/>
          <p:nvPr/>
        </p:nvSpPr>
        <p:spPr>
          <a:xfrm>
            <a:off x="1428840" y="178596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3EC6C-9786-483B-ABCA-7F906A5D864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form an n-ary tree 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contain variab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m a graph structur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present basic instructions of algorith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ipulate scopes (modify variables and/o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b-scop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cide which operators are executed n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7FE0E-1D54-4B45-B39C-73011DC3EAF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sic 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mpty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 no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sub-operators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all its sub-operators on the corresponding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first sub-operator on all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nditional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pending on a boolean value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tochastic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ith a predefined probability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jects its local variables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or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orts  its sub-scopes depending on a sorting criter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F2B4D-1620-44A9-9C7D-82882E0F037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bstract E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ic oper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ation, evaluation, selection, crossover, mutation, replac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Gruppieren 82"/>
          <p:cNvGrpSpPr/>
          <p:nvPr/>
        </p:nvGrpSpPr>
        <p:grpSpPr>
          <a:xfrm>
            <a:off x="2842920" y="1857240"/>
            <a:ext cx="4408560" cy="3357720"/>
            <a:chOff x="2842920" y="1857240"/>
            <a:chExt cx="4408560" cy="3357720"/>
          </a:xfrm>
        </p:grpSpPr>
        <p:sp>
          <p:nvSpPr>
            <p:cNvPr id="56" name="Flussdiagramm: Prozess 4"/>
            <p:cNvSpPr/>
            <p:nvPr/>
          </p:nvSpPr>
          <p:spPr>
            <a:xfrm>
              <a:off x="3429000" y="214272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Initializ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lussdiagramm: Verzweigung 5"/>
            <p:cNvSpPr/>
            <p:nvPr/>
          </p:nvSpPr>
          <p:spPr>
            <a:xfrm>
              <a:off x="3071880" y="3286080"/>
              <a:ext cx="1785960" cy="3571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erminate?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lussdiagramm: Prozess 6"/>
            <p:cNvSpPr/>
            <p:nvPr/>
          </p:nvSpPr>
          <p:spPr>
            <a:xfrm>
              <a:off x="342900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lussdiagramm: Prozess 7"/>
            <p:cNvSpPr/>
            <p:nvPr/>
          </p:nvSpPr>
          <p:spPr>
            <a:xfrm>
              <a:off x="471492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Crossove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lussdiagramm: Prozess 8"/>
            <p:cNvSpPr/>
            <p:nvPr/>
          </p:nvSpPr>
          <p:spPr>
            <a:xfrm>
              <a:off x="6000840" y="414324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lussdiagramm: Prozess 9"/>
            <p:cNvSpPr/>
            <p:nvPr/>
          </p:nvSpPr>
          <p:spPr>
            <a:xfrm>
              <a:off x="3429000" y="271440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lussdiagramm: Prozess 10"/>
            <p:cNvSpPr/>
            <p:nvPr/>
          </p:nvSpPr>
          <p:spPr>
            <a:xfrm>
              <a:off x="342900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eplacemen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lussdiagramm: Prozess 11"/>
            <p:cNvSpPr/>
            <p:nvPr/>
          </p:nvSpPr>
          <p:spPr>
            <a:xfrm>
              <a:off x="471492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lussdiagramm: Zusammenführen 12"/>
            <p:cNvSpPr/>
            <p:nvPr/>
          </p:nvSpPr>
          <p:spPr>
            <a:xfrm>
              <a:off x="3857400" y="185724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lussdiagramm: Zusammenführen 13"/>
            <p:cNvSpPr/>
            <p:nvPr/>
          </p:nvSpPr>
          <p:spPr>
            <a:xfrm>
              <a:off x="3857400" y="507240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6" name="Gewinkelte Verbindung 15"/>
            <p:cNvCxnSpPr>
              <a:stCxn id="64" idx="2"/>
              <a:endCxn id="56" idx="0"/>
            </p:cNvCxnSpPr>
            <p:nvPr/>
          </p:nvCxnSpPr>
          <p:spPr>
            <a:xfrm rot="5400000">
              <a:off x="3892680" y="2071440"/>
              <a:ext cx="143280" cy="2160"/>
            </a:xfrm>
            <a:prstGeom prst="bentConnector3">
              <a:avLst>
                <a:gd name="adj1" fmla="val 49874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7" name="Gewinkelte Verbindung 18"/>
            <p:cNvCxnSpPr>
              <a:stCxn id="56" idx="2"/>
              <a:endCxn id="61" idx="0"/>
            </p:cNvCxnSpPr>
            <p:nvPr/>
          </p:nvCxnSpPr>
          <p:spPr>
            <a:xfrm rot="5400000">
              <a:off x="3857040" y="2607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8" name="Gewinkelte Verbindung 21"/>
            <p:cNvCxnSpPr>
              <a:stCxn id="61" idx="2"/>
              <a:endCxn id="57" idx="0"/>
            </p:cNvCxnSpPr>
            <p:nvPr/>
          </p:nvCxnSpPr>
          <p:spPr>
            <a:xfrm rot="5400000">
              <a:off x="3857040" y="317880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9" name="Gewinkelte Verbindung 24"/>
            <p:cNvCxnSpPr>
              <a:stCxn id="57" idx="3"/>
              <a:endCxn id="65" idx="0"/>
            </p:cNvCxnSpPr>
            <p:nvPr/>
          </p:nvCxnSpPr>
          <p:spPr>
            <a:xfrm flipH="1">
              <a:off x="3964320" y="3464280"/>
              <a:ext cx="893520" cy="1608120"/>
            </a:xfrm>
            <a:prstGeom prst="bentConnector4">
              <a:avLst>
                <a:gd name="adj1" fmla="val -268037"/>
                <a:gd name="adj2" fmla="val 91513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0" name="Gewinkelte Verbindung 28"/>
            <p:cNvCxnSpPr>
              <a:stCxn id="57" idx="2"/>
              <a:endCxn id="58" idx="0"/>
            </p:cNvCxnSpPr>
            <p:nvPr/>
          </p:nvCxnSpPr>
          <p:spPr>
            <a:xfrm rot="5400000">
              <a:off x="3857040" y="3750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1" name="Gewinkelte Verbindung 31"/>
            <p:cNvCxnSpPr>
              <a:stCxn id="58" idx="3"/>
              <a:endCxn id="59" idx="1"/>
            </p:cNvCxnSpPr>
            <p:nvPr/>
          </p:nvCxnSpPr>
          <p:spPr>
            <a:xfrm>
              <a:off x="4500000" y="40363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2" name="Gewinkelte Verbindung 35"/>
            <p:cNvCxnSpPr>
              <a:stCxn id="59" idx="3"/>
              <a:endCxn id="60" idx="0"/>
            </p:cNvCxnSpPr>
            <p:nvPr/>
          </p:nvCxnSpPr>
          <p:spPr>
            <a:xfrm>
              <a:off x="5785920" y="4035960"/>
              <a:ext cx="750600" cy="10764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3" name="Gewinkelte Verbindung 35"/>
            <p:cNvCxnSpPr>
              <a:stCxn id="60" idx="2"/>
              <a:endCxn id="63" idx="3"/>
            </p:cNvCxnSpPr>
            <p:nvPr/>
          </p:nvCxnSpPr>
          <p:spPr>
            <a:xfrm rot="5400000">
              <a:off x="6107040" y="4178880"/>
              <a:ext cx="107640" cy="75060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4" name="Gewinkelte Verbindung 35"/>
            <p:cNvCxnSpPr>
              <a:stCxn id="63" idx="1"/>
              <a:endCxn id="62" idx="3"/>
            </p:cNvCxnSpPr>
            <p:nvPr/>
          </p:nvCxnSpPr>
          <p:spPr>
            <a:xfrm rot="10800000">
              <a:off x="4499640" y="460728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" name="Gewinkelte Verbindung 35"/>
            <p:cNvCxnSpPr>
              <a:stCxn id="62" idx="1"/>
              <a:endCxn id="57" idx="1"/>
            </p:cNvCxnSpPr>
            <p:nvPr/>
          </p:nvCxnSpPr>
          <p:spPr>
            <a:xfrm rot="10800000">
              <a:off x="3071160" y="3463920"/>
              <a:ext cx="357840" cy="1143720"/>
            </a:xfrm>
            <a:prstGeom prst="bentConnector3">
              <a:avLst>
                <a:gd name="adj1" fmla="val 163947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6" name="Foliennummernplatzhalter 2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2FB2F-F8F4-4923-914E-C9EEA288BA6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copes form a hierarchical struc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very suitable for representing hierarchical structure of EA popu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a scope may represent a population, a solution, a part of a solution,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operators work on different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to switch levels 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Sequentia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Paralle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Gruppieren 53"/>
          <p:cNvGrpSpPr/>
          <p:nvPr/>
        </p:nvGrpSpPr>
        <p:grpSpPr>
          <a:xfrm>
            <a:off x="500040" y="4071960"/>
            <a:ext cx="8143920" cy="2214720"/>
            <a:chOff x="500040" y="4071960"/>
            <a:chExt cx="8143920" cy="2214720"/>
          </a:xfrm>
        </p:grpSpPr>
        <p:sp>
          <p:nvSpPr>
            <p:cNvPr id="80" name="Rechteck 88"/>
            <p:cNvSpPr/>
            <p:nvPr/>
          </p:nvSpPr>
          <p:spPr>
            <a:xfrm>
              <a:off x="500040" y="5214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Rechteck 89"/>
            <p:cNvSpPr/>
            <p:nvPr/>
          </p:nvSpPr>
          <p:spPr>
            <a:xfrm>
              <a:off x="500040" y="464328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Rechteck 90"/>
            <p:cNvSpPr/>
            <p:nvPr/>
          </p:nvSpPr>
          <p:spPr>
            <a:xfrm>
              <a:off x="500040" y="4071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Rechteck 87"/>
            <p:cNvSpPr/>
            <p:nvPr/>
          </p:nvSpPr>
          <p:spPr>
            <a:xfrm>
              <a:off x="500040" y="578664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Ellipse 3"/>
            <p:cNvSpPr/>
            <p:nvPr/>
          </p:nvSpPr>
          <p:spPr>
            <a:xfrm>
              <a:off x="521496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Ellipse 4"/>
            <p:cNvSpPr/>
            <p:nvPr/>
          </p:nvSpPr>
          <p:spPr>
            <a:xfrm>
              <a:off x="48578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Ellipse 5"/>
            <p:cNvSpPr/>
            <p:nvPr/>
          </p:nvSpPr>
          <p:spPr>
            <a:xfrm>
              <a:off x="557208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Ellipse 7"/>
            <p:cNvSpPr/>
            <p:nvPr/>
          </p:nvSpPr>
          <p:spPr>
            <a:xfrm>
              <a:off x="378612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Ellipse 8"/>
            <p:cNvSpPr/>
            <p:nvPr/>
          </p:nvSpPr>
          <p:spPr>
            <a:xfrm>
              <a:off x="34290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Ellipse 9"/>
            <p:cNvSpPr/>
            <p:nvPr/>
          </p:nvSpPr>
          <p:spPr>
            <a:xfrm>
              <a:off x="41432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Ellipse 10"/>
            <p:cNvSpPr/>
            <p:nvPr/>
          </p:nvSpPr>
          <p:spPr>
            <a:xfrm>
              <a:off x="235728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Ellipse 11"/>
            <p:cNvSpPr/>
            <p:nvPr/>
          </p:nvSpPr>
          <p:spPr>
            <a:xfrm>
              <a:off x="20001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Ellipse 12"/>
            <p:cNvSpPr/>
            <p:nvPr/>
          </p:nvSpPr>
          <p:spPr>
            <a:xfrm>
              <a:off x="27144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Ellipse 13"/>
            <p:cNvSpPr/>
            <p:nvPr/>
          </p:nvSpPr>
          <p:spPr>
            <a:xfrm>
              <a:off x="92844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Ellipse 14"/>
            <p:cNvSpPr/>
            <p:nvPr/>
          </p:nvSpPr>
          <p:spPr>
            <a:xfrm>
              <a:off x="57132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Ellipse 15"/>
            <p:cNvSpPr/>
            <p:nvPr/>
          </p:nvSpPr>
          <p:spPr>
            <a:xfrm>
              <a:off x="12855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Ellipse 16"/>
            <p:cNvSpPr/>
            <p:nvPr/>
          </p:nvSpPr>
          <p:spPr>
            <a:xfrm>
              <a:off x="450072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Ellipse 17"/>
            <p:cNvSpPr/>
            <p:nvPr/>
          </p:nvSpPr>
          <p:spPr>
            <a:xfrm>
              <a:off x="3071880" y="414324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Ellipse 18"/>
            <p:cNvSpPr/>
            <p:nvPr/>
          </p:nvSpPr>
          <p:spPr>
            <a:xfrm>
              <a:off x="164304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hteck 20"/>
            <p:cNvSpPr/>
            <p:nvPr/>
          </p:nvSpPr>
          <p:spPr>
            <a:xfrm>
              <a:off x="521496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hteck 21"/>
            <p:cNvSpPr/>
            <p:nvPr/>
          </p:nvSpPr>
          <p:spPr>
            <a:xfrm>
              <a:off x="378612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hteck 22"/>
            <p:cNvSpPr/>
            <p:nvPr/>
          </p:nvSpPr>
          <p:spPr>
            <a:xfrm>
              <a:off x="235728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hteck 23"/>
            <p:cNvSpPr/>
            <p:nvPr/>
          </p:nvSpPr>
          <p:spPr>
            <a:xfrm>
              <a:off x="92844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hteck 24"/>
            <p:cNvSpPr/>
            <p:nvPr/>
          </p:nvSpPr>
          <p:spPr>
            <a:xfrm>
              <a:off x="164304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hteck 25"/>
            <p:cNvSpPr/>
            <p:nvPr/>
          </p:nvSpPr>
          <p:spPr>
            <a:xfrm>
              <a:off x="450072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hteck 26"/>
            <p:cNvSpPr/>
            <p:nvPr/>
          </p:nvSpPr>
          <p:spPr>
            <a:xfrm>
              <a:off x="3071880" y="471492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Gerade Verbindung 28"/>
            <p:cNvSpPr/>
            <p:nvPr/>
          </p:nvSpPr>
          <p:spPr>
            <a:xfrm flipH="1">
              <a:off x="1821600" y="450036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Gerade Verbindung 29"/>
            <p:cNvSpPr/>
            <p:nvPr/>
          </p:nvSpPr>
          <p:spPr>
            <a:xfrm flipH="1" flipV="1">
              <a:off x="3250440" y="450000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Gerade Verbindung 32"/>
            <p:cNvSpPr/>
            <p:nvPr/>
          </p:nvSpPr>
          <p:spPr>
            <a:xfrm flipH="1" flipV="1">
              <a:off x="4679280" y="507168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Gerade Verbindung 35"/>
            <p:cNvSpPr/>
            <p:nvPr/>
          </p:nvSpPr>
          <p:spPr>
            <a:xfrm flipH="1" flipV="1">
              <a:off x="539352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Gerade Verbindung 38"/>
            <p:cNvSpPr/>
            <p:nvPr/>
          </p:nvSpPr>
          <p:spPr>
            <a:xfrm flipH="1" flipV="1">
              <a:off x="39646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Gerade Verbindung 41"/>
            <p:cNvSpPr/>
            <p:nvPr/>
          </p:nvSpPr>
          <p:spPr>
            <a:xfrm flipH="1" flipV="1">
              <a:off x="253584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Gerade Verbindung 44"/>
            <p:cNvSpPr/>
            <p:nvPr/>
          </p:nvSpPr>
          <p:spPr>
            <a:xfrm flipH="1" flipV="1">
              <a:off x="110700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Gerade Verbindung 47"/>
            <p:cNvSpPr/>
            <p:nvPr/>
          </p:nvSpPr>
          <p:spPr>
            <a:xfrm flipV="1">
              <a:off x="7498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Gerade Verbindung 50"/>
            <p:cNvSpPr/>
            <p:nvPr/>
          </p:nvSpPr>
          <p:spPr>
            <a:xfrm flipH="1">
              <a:off x="217872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Gerade Verbindung 54"/>
            <p:cNvSpPr/>
            <p:nvPr/>
          </p:nvSpPr>
          <p:spPr>
            <a:xfrm flipH="1">
              <a:off x="360756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Gerade Verbindung 57"/>
            <p:cNvSpPr/>
            <p:nvPr/>
          </p:nvSpPr>
          <p:spPr>
            <a:xfrm flipH="1">
              <a:off x="503640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Gerade Verbindung 60"/>
            <p:cNvSpPr/>
            <p:nvPr/>
          </p:nvSpPr>
          <p:spPr>
            <a:xfrm flipH="1">
              <a:off x="3964680" y="507204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Gerade Verbindung 63"/>
            <p:cNvSpPr/>
            <p:nvPr/>
          </p:nvSpPr>
          <p:spPr>
            <a:xfrm flipH="1">
              <a:off x="1107000" y="507204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Gerade Verbindung 67"/>
            <p:cNvSpPr/>
            <p:nvPr/>
          </p:nvSpPr>
          <p:spPr>
            <a:xfrm flipH="1" flipV="1">
              <a:off x="1821600" y="507168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hteck 92"/>
            <p:cNvSpPr/>
            <p:nvPr/>
          </p:nvSpPr>
          <p:spPr>
            <a:xfrm>
              <a:off x="6143760" y="4071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Meta-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hteck 93"/>
            <p:cNvSpPr/>
            <p:nvPr/>
          </p:nvSpPr>
          <p:spPr>
            <a:xfrm>
              <a:off x="6143760" y="464328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hteck 94"/>
            <p:cNvSpPr/>
            <p:nvPr/>
          </p:nvSpPr>
          <p:spPr>
            <a:xfrm>
              <a:off x="6143760" y="5214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echteck 95"/>
            <p:cNvSpPr/>
            <p:nvPr/>
          </p:nvSpPr>
          <p:spPr>
            <a:xfrm>
              <a:off x="6143760" y="578664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ub-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Foliennummernplatzhalter 4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21CAE-2523-44E0-9746-33CCA03F571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set global vari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variables representing global parameters of an algorith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population size, mutation rate, number of elites, number of generations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PR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pecial operators to inject variables representing the problem inst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TSP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create sub-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one sub-scope for each population, individual,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SubScopesCre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e populations, individual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ub-scopes processors to iterate over all sub-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apply special operators to create randomly generated individu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PermutationGen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AA80E-3E1C-4FC0-B5ED-E948E305AC7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calculate and inject quality value for each individu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iterate over all scopes representing an individ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pply problem-specific evaluation oper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900" spc="-1" strike="noStrike">
                <a:solidFill>
                  <a:srgbClr val="000000"/>
                </a:solidFill>
                <a:latin typeface="Calibri"/>
              </a:rPr>
              <a:t>RoundedEuclideanPathTSPEvaluato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500" spc="-1" strike="noStrike">
                <a:solidFill>
                  <a:srgbClr val="000000"/>
                </a:solidFill>
                <a:latin typeface="Calibri"/>
              </a:rPr>
              <a:t>SingleObjectiveEvaluatorBa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e class for all single-objective evaluation oper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evaluates the quality value of an individual depending on the variables in the scope by calling abstract method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Evalu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dds a new double variable "Quality" to the 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f a quality value already exists it is overwritt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BF52C-E08C-478E-BFB1-120E89D1560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E5D3A-D874-463B-9867-B274392F1AF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4" name="Gewinkelte Verbindung 17"/>
          <p:cNvCxnSpPr>
            <a:stCxn id="133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5" name="Gewinkelte Verbindung 18"/>
          <p:cNvCxnSpPr>
            <a:stCxn id="133" idx="3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6" name="Gewinkelte Verbindung 21"/>
          <p:cNvCxnSpPr>
            <a:stCxn id="133" idx="3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Gewinkelte Verbindung 24"/>
          <p:cNvCxnSpPr>
            <a:stCxn id="133" idx="3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8" name="Gewinkelte Verbindung 27"/>
          <p:cNvCxnSpPr>
            <a:stCxn id="133" idx="3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9" name="Gewinkelte Verbindung 30"/>
          <p:cNvCxnSpPr>
            <a:stCxn id="133" idx="3"/>
          </p:cNvCxnSpPr>
          <p:nvPr/>
        </p:nvCxnSpPr>
        <p:spPr>
          <a:xfrm>
            <a:off x="2214360" y="1892160"/>
            <a:ext cx="214920" cy="38599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0" name="Gewinkelte Verbindung 33"/>
          <p:cNvCxnSpPr/>
          <p:nvPr/>
        </p:nvCxnSpPr>
        <p:spPr>
          <a:xfrm>
            <a:off x="6072120" y="4465440"/>
            <a:ext cx="215280" cy="8578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1" name="Gewinkelte Verbindung 36"/>
          <p:cNvCxnSpPr/>
          <p:nvPr/>
        </p:nvCxnSpPr>
        <p:spPr>
          <a:xfrm>
            <a:off x="6072120" y="446580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Gewinkelte Verbindung 39"/>
          <p:cNvCxnSpPr/>
          <p:nvPr/>
        </p:nvCxnSpPr>
        <p:spPr>
          <a:xfrm>
            <a:off x="607212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Gewinkelte Verbindung 42"/>
          <p:cNvCxnSpPr/>
          <p:nvPr/>
        </p:nvCxnSpPr>
        <p:spPr>
          <a:xfrm>
            <a:off x="414324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4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lussdiagramm: Prozess 45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lussdiagramm: Prozess 46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RoundedEuclidean</a:t>
            </a:r>
            <a:br>
              <a:rPr sz="1200"/>
            </a:b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lussdiagramm: Prozess 47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Variable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lussdiagramm: Prozess 48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C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lussdiagramm: Prozess 50"/>
          <p:cNvSpPr/>
          <p:nvPr/>
        </p:nvSpPr>
        <p:spPr>
          <a:xfrm>
            <a:off x="242892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lussdiagramm: Prozess 51"/>
          <p:cNvSpPr/>
          <p:nvPr/>
        </p:nvSpPr>
        <p:spPr>
          <a:xfrm>
            <a:off x="435780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lussdiagramm: Prozess 52"/>
          <p:cNvSpPr/>
          <p:nvPr/>
        </p:nvSpPr>
        <p:spPr>
          <a:xfrm>
            <a:off x="628668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Permu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Gen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lussdiagramm: Prozess 53"/>
          <p:cNvSpPr/>
          <p:nvPr/>
        </p:nvSpPr>
        <p:spPr>
          <a:xfrm>
            <a:off x="6286680" y="471492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lussdiagramm: Prozess 54"/>
          <p:cNvSpPr/>
          <p:nvPr/>
        </p:nvSpPr>
        <p:spPr>
          <a:xfrm>
            <a:off x="6286680" y="5143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lussdiagramm: Prozess 55"/>
          <p:cNvSpPr/>
          <p:nvPr/>
        </p:nvSpPr>
        <p:spPr>
          <a:xfrm>
            <a:off x="2428920" y="5572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Gewinkelte Verbindung 67"/>
          <p:cNvCxnSpPr>
            <a:stCxn id="133" idx="3"/>
            <a:endCxn id="149" idx="1"/>
          </p:cNvCxnSpPr>
          <p:nvPr/>
        </p:nvCxnSpPr>
        <p:spPr>
          <a:xfrm>
            <a:off x="2214360" y="1891800"/>
            <a:ext cx="214920" cy="25743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6" name="Ellipse 82"/>
          <p:cNvSpPr/>
          <p:nvPr/>
        </p:nvSpPr>
        <p:spPr>
          <a:xfrm>
            <a:off x="6786720" y="1928880"/>
            <a:ext cx="357120" cy="35712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Ellipse 83"/>
          <p:cNvSpPr/>
          <p:nvPr/>
        </p:nvSpPr>
        <p:spPr>
          <a:xfrm>
            <a:off x="6500880" y="1857240"/>
            <a:ext cx="928800" cy="50004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Ellipse 84"/>
          <p:cNvSpPr/>
          <p:nvPr/>
        </p:nvSpPr>
        <p:spPr>
          <a:xfrm>
            <a:off x="6357960" y="1785960"/>
            <a:ext cx="1214280" cy="6429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llipse 85"/>
          <p:cNvSpPr/>
          <p:nvPr/>
        </p:nvSpPr>
        <p:spPr>
          <a:xfrm>
            <a:off x="5857920" y="1357200"/>
            <a:ext cx="2214360" cy="15717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opulation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utation 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ed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" name="Gruppieren 95"/>
          <p:cNvGrpSpPr/>
          <p:nvPr/>
        </p:nvGrpSpPr>
        <p:grpSpPr>
          <a:xfrm>
            <a:off x="5786280" y="2928960"/>
            <a:ext cx="2357640" cy="785880"/>
            <a:chOff x="5786280" y="2928960"/>
            <a:chExt cx="2357640" cy="785880"/>
          </a:xfrm>
        </p:grpSpPr>
        <p:sp>
          <p:nvSpPr>
            <p:cNvPr id="161" name="Rechteck 87"/>
            <p:cNvSpPr/>
            <p:nvPr/>
          </p:nvSpPr>
          <p:spPr>
            <a:xfrm>
              <a:off x="6786360" y="32860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Ellipse 88"/>
            <p:cNvSpPr/>
            <p:nvPr/>
          </p:nvSpPr>
          <p:spPr>
            <a:xfrm>
              <a:off x="578628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Ellipse 89"/>
            <p:cNvSpPr/>
            <p:nvPr/>
          </p:nvSpPr>
          <p:spPr>
            <a:xfrm>
              <a:off x="778680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Gerade Verbindung 91"/>
            <p:cNvSpPr/>
            <p:nvPr/>
          </p:nvSpPr>
          <p:spPr>
            <a:xfrm flipH="1">
              <a:off x="596484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Gerade Verbindung 92"/>
            <p:cNvSpPr/>
            <p:nvPr/>
          </p:nvSpPr>
          <p:spPr>
            <a:xfrm>
              <a:off x="696492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uppieren 98"/>
          <p:cNvGrpSpPr/>
          <p:nvPr/>
        </p:nvGrpSpPr>
        <p:grpSpPr>
          <a:xfrm>
            <a:off x="5286240" y="3286080"/>
            <a:ext cx="3357720" cy="500040"/>
            <a:chOff x="5286240" y="3286080"/>
            <a:chExt cx="3357720" cy="500040"/>
          </a:xfrm>
        </p:grpSpPr>
        <p:sp>
          <p:nvSpPr>
            <p:cNvPr id="167" name="Ellipse 96"/>
            <p:cNvSpPr/>
            <p:nvPr/>
          </p:nvSpPr>
          <p:spPr>
            <a:xfrm>
              <a:off x="528624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Ellipse 97"/>
            <p:cNvSpPr/>
            <p:nvPr/>
          </p:nvSpPr>
          <p:spPr>
            <a:xfrm>
              <a:off x="728676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uppieren 101"/>
          <p:cNvGrpSpPr/>
          <p:nvPr/>
        </p:nvGrpSpPr>
        <p:grpSpPr>
          <a:xfrm>
            <a:off x="5143680" y="3143160"/>
            <a:ext cx="3643200" cy="785880"/>
            <a:chOff x="5143680" y="3143160"/>
            <a:chExt cx="3643200" cy="785880"/>
          </a:xfrm>
        </p:grpSpPr>
        <p:sp>
          <p:nvSpPr>
            <p:cNvPr id="170" name="Ellipse 99"/>
            <p:cNvSpPr/>
            <p:nvPr/>
          </p:nvSpPr>
          <p:spPr>
            <a:xfrm>
              <a:off x="514368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Ellipse 100"/>
            <p:cNvSpPr/>
            <p:nvPr/>
          </p:nvSpPr>
          <p:spPr>
            <a:xfrm>
              <a:off x="714384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2" name="Flussdiagramm: Prozess 102"/>
          <p:cNvSpPr/>
          <p:nvPr/>
        </p:nvSpPr>
        <p:spPr>
          <a:xfrm>
            <a:off x="2428920" y="6000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3" name="Gewinkelte Verbindung 103"/>
          <p:cNvCxnSpPr>
            <a:stCxn id="133" idx="3"/>
            <a:endCxn id="172" idx="1"/>
          </p:cNvCxnSpPr>
          <p:nvPr/>
        </p:nvCxnSpPr>
        <p:spPr>
          <a:xfrm>
            <a:off x="2214360" y="1891800"/>
            <a:ext cx="214920" cy="42886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indefinite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indefinite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indefinite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indefinite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indefinite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indefinite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indefinite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indefinite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indefinite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9T00:42:26Z</dcterms:modified>
  <cp:revision>134</cp:revision>
  <dc:subject/>
  <dc:title>HeuristicLab 3.0</dc:title>
</cp:coreProperties>
</file>