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0689-9B28-4270-8E3C-C70CF390C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C4AE-C655-4FCF-8CF1-1D9FA8732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F487-7325-4C1A-BCF2-80DDB27EC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6B14-F060-4E2C-A31E-805719F38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03FF4-B901-45AC-B9DB-6EBC643E0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C86B2-9519-40A7-BA0D-223152897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B9B25-43BE-4AAA-A510-C51F2B724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69EA4-B281-4775-85B7-D7E15709C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5C0F1-617F-456B-A5EF-80D5E0604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BC5BF-5DC7-450D-8DD7-A82DD0AD4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8777E-CEDE-4D67-83D8-AAAABD261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D088-1E29-4672-9E5E-20F82B8F2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9CB81-6AAE-42CC-9CD4-D576E0655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567EF-D8CA-4F84-BE81-390E7AB6D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3B0EA-1709-4351-B732-E76ECBF99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F42A0-9307-403C-95D6-D52CA938C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49A85-5EFB-4520-808A-751F72FB0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C1DA53-5520-44CD-88A4-B1F10775A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6ABD0F-727F-4024-BFC0-E09B34FB2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FC1893-C6E4-46E7-A84A-7E82607F6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9CF55F-A967-43F8-B456-307AB1143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64D3B0-18B8-468F-A9D5-33346FC68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35C9-D9EE-4F3E-94E4-937550242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87B785-9E8A-42DF-86ED-7506061B3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B3A153-EFF2-41B1-BECB-052E5C31D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7E6D63-40BC-43BB-B1F6-D8101671E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A7C567-032F-4803-8F0F-3776219A5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3E4682-EE77-4746-B75F-587B189FD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9501F4-CD9A-4B58-957B-F28429154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A9111C-7405-4D74-B151-B4BA5C1E6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4C73D3-E4F4-4E4B-AC60-14B9AE6A2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42CD0A-F0C5-4455-ADD1-EDF3F5398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C53306-D4D2-42A8-9910-C0119150B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A3D2-416B-45FF-9013-2DB958C07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4AD2C8-D628-40C1-A739-99DA6E280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53F37B-F117-40C4-B829-165B3A000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F0F14F-8A94-4EB8-A2DF-13CCE50C6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C29FF1-99A2-41DD-A3C9-FCD6A987C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11A45B-9604-4565-B86F-399D3D176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56C259-1307-4296-B2F3-1AFE9AD80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B03DDA-CEA7-4D5F-B503-BCA81A9BC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31B963-4A5D-4103-9948-29DD91B26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2F92B6-618C-4974-9D9E-9AB1C1F91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9B89DF-605B-41E0-BB9E-9C8630915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7AC9-ADBE-4E62-AD5B-EF5F32EF7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E217C8-3E33-4DBD-9E78-39305A5F0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26873B-87BC-4302-9101-EE11A5FBB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70BA3A-23FA-4B3A-9BD3-EB3F5F17E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768D0B-2404-434A-8AD3-3F5AAD040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A03E52-B84D-4F36-B329-9AB8594C4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07A06E-F110-4F81-89AC-D90A4F2A6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C62147-6A97-4467-A502-A61DBB061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264E2A-BD1C-47A5-ABB9-9838BE015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476BF7-E313-41CA-BA7C-2DF19F406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207EC5-C0B9-4043-B4A0-C5B3BE996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2A46-8ACC-4187-AEEA-85D013A1E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C9EF34-6EAC-414B-996B-8233572EC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92D922-16F3-4140-8F9C-1F3DE52E1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9AAFC1-C2A5-4036-84EA-31CD95BF2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D1BEB8-DC10-4F20-8CBF-A120F9F1B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4B6E13-FB5F-4368-BC76-8D37B6ABC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BE79AD-CC89-49DA-B31E-A5C9FD06B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EA9A1A-EA56-4016-9D5C-C46FD0AE2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9CC036-037C-4D66-8AC9-D0C508DAD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EE8A19-64CA-4706-AA2C-0316BCC66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E798CB-D2D3-4CB3-AB51-5CD1C9ED9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1F4D-32C7-40C8-865E-FA09818B8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8C2D38-A7E9-435D-8BF1-F26203E8D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BC2D7A-F06F-445F-9BC9-913DD3EE5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810C12-6A7B-4390-B5D0-01991FD7D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A1A0-9C1F-4857-8DA0-FC7DF77FB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1937-E2CB-4EDF-AD44-1EC9885C0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EE09B-4C44-4C55-A79F-BFEA6642916F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10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D2475-86B4-4FFE-A382-CBCE9CE6283C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10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Freeform 12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EB29A-6638-402A-BE03-83613FEAB8B4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34C94-C16B-4F96-9E02-23F884C08298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BD1C6-46DE-492F-A59F-8FBF3BED76A5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179D7-B87B-47B4-8B2E-BAF3C8989A17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Title 1" descr=""/>
          <p:cNvPicPr/>
          <p:nvPr/>
        </p:nvPicPr>
        <p:blipFill>
          <a:blip r:embed="rId1"/>
          <a:stretch/>
        </p:blipFill>
        <p:spPr>
          <a:xfrm>
            <a:off x="420840" y="3200400"/>
            <a:ext cx="6838920" cy="244476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33440" y="1571760"/>
            <a:ext cx="6480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0" bIns="0"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ffffff"/>
                </a:solidFill>
                <a:latin typeface="Arial"/>
              </a:rPr>
              <a:t>HeuristicLa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Advanced Us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56840" y="1600200"/>
            <a:ext cx="8115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custom serialization through propert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load old version: </a:t>
            </a:r>
            <a:r>
              <a:rPr b="0" lang="de-AT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Name=</a:t>
            </a: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de-AT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DefaultValue=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2" name="Rectangle 9"/>
          <p:cNvGrpSpPr/>
          <p:nvPr/>
        </p:nvGrpSpPr>
        <p:grpSpPr>
          <a:xfrm>
            <a:off x="781200" y="3071880"/>
            <a:ext cx="6441840" cy="2469960"/>
            <a:chOff x="781200" y="3071880"/>
            <a:chExt cx="6441840" cy="2469960"/>
          </a:xfrm>
        </p:grpSpPr>
        <p:pic>
          <p:nvPicPr>
            <p:cNvPr id="373" name="Rectangle 9" descr=""/>
            <p:cNvPicPr/>
            <p:nvPr/>
          </p:nvPicPr>
          <p:blipFill>
            <a:blip r:embed="rId1"/>
            <a:stretch/>
          </p:blipFill>
          <p:spPr>
            <a:xfrm>
              <a:off x="781200" y="3071880"/>
              <a:ext cx="6441840" cy="246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4" name=""/>
            <p:cNvSpPr/>
            <p:nvPr/>
          </p:nvSpPr>
          <p:spPr>
            <a:xfrm>
              <a:off x="785880" y="3075120"/>
              <a:ext cx="6429240" cy="24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ffffff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class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imeTest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{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DateTime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lastLoadTime;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[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Storable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(Name=</a:t>
              </a:r>
              <a:r>
                <a:rPr b="0" lang="de-AT" sz="1400" spc="-1" strike="noStrike">
                  <a:solidFill>
                    <a:srgbClr val="ff0000"/>
                  </a:solidFill>
                  <a:latin typeface="Courier New"/>
                  <a:ea typeface="Courier New"/>
                </a:rPr>
                <a:t>"Time"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, DefaultValue=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DateTime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.Now)]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rivate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DateTime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lastLoadTimePersistence {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 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get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{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return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lastLoadTime; }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   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set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{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lastLoadTime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=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DateTime.Now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; }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Hacking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ZIP Fil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data.xml</a:t>
            </a:r>
            <a:r>
              <a:rPr b="0" lang="de-AT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contains serial object graph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4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Tags: 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PRIMITIVE</a:t>
            </a: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REFERENCE</a:t>
            </a: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NU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4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Attributes: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name</a:t>
            </a: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id</a:t>
            </a: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typeId</a:t>
            </a: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re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typecache.xml</a:t>
            </a:r>
            <a:r>
              <a:rPr b="0" lang="de-AT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contains mapping of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100000"/>
              </a:lnSpc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ypeId</a:t>
            </a: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  t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AssemblyQualified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serializ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Extension &amp; Customization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more efficient serialization through new custom serializers (e.g. compact array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introduce new format by replacing generator and parse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e.g. </a:t>
            </a:r>
            <a:r>
              <a:rPr b="0" lang="de-AT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DebugStr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replace </a:t>
            </a:r>
            <a:r>
              <a:rPr b="0" lang="de-AT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[Storable]</a:t>
            </a: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 mechainsm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disable </a:t>
            </a:r>
            <a:r>
              <a:rPr b="0" lang="de-AT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StorableSerializ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ffff"/>
                </a:solidFill>
                <a:latin typeface="Arial"/>
              </a:rPr>
              <a:t>add new generic composite serializ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IPrimitiveSerializer Exampl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380" name="Rectangle 3"/>
          <p:cNvGrpSpPr/>
          <p:nvPr/>
        </p:nvGrpSpPr>
        <p:grpSpPr>
          <a:xfrm>
            <a:off x="1994040" y="2567160"/>
            <a:ext cx="5510160" cy="2900160"/>
            <a:chOff x="1994040" y="2567160"/>
            <a:chExt cx="5510160" cy="2900160"/>
          </a:xfrm>
        </p:grpSpPr>
        <p:pic>
          <p:nvPicPr>
            <p:cNvPr id="381" name="Rectangle 3" descr=""/>
            <p:cNvPicPr/>
            <p:nvPr/>
          </p:nvPicPr>
          <p:blipFill>
            <a:blip r:embed="rId1"/>
            <a:stretch/>
          </p:blipFill>
          <p:spPr>
            <a:xfrm>
              <a:off x="1994040" y="2567160"/>
              <a:ext cx="5510160" cy="290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"/>
            <p:cNvSpPr/>
            <p:nvPr/>
          </p:nvSpPr>
          <p:spPr>
            <a:xfrm>
              <a:off x="2000160" y="2571840"/>
              <a:ext cx="5500800" cy="28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[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mptyStorableClass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]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class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String2XmlFormatter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: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PrimitiveSerializerBase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string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,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XmlString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gt; {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override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XmlString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ormat(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string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) {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new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XmlString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(s);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override string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Parse(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XmlString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) {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new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.Data;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ICompositeSerializer Exampl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384" name="Rectangle 4"/>
          <p:cNvGrpSpPr/>
          <p:nvPr/>
        </p:nvGrpSpPr>
        <p:grpSpPr>
          <a:xfrm>
            <a:off x="493560" y="1414440"/>
            <a:ext cx="7796520" cy="5089680"/>
            <a:chOff x="493560" y="1414440"/>
            <a:chExt cx="7796520" cy="5089680"/>
          </a:xfrm>
        </p:grpSpPr>
        <p:pic>
          <p:nvPicPr>
            <p:cNvPr id="385" name="Rectangle 4" descr=""/>
            <p:cNvPicPr/>
            <p:nvPr/>
          </p:nvPicPr>
          <p:blipFill>
            <a:blip r:embed="rId1"/>
            <a:stretch/>
          </p:blipFill>
          <p:spPr>
            <a:xfrm>
              <a:off x="493560" y="1414440"/>
              <a:ext cx="7796520" cy="508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6" name=""/>
            <p:cNvSpPr/>
            <p:nvPr/>
          </p:nvSpPr>
          <p:spPr>
            <a:xfrm>
              <a:off x="500040" y="1422360"/>
              <a:ext cx="7786800" cy="48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[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mptyStorableClass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]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class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numerableDecomposer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: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ICompositeSerializer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{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int Priority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{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get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{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00; } 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bool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anSerialize(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ype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ype) {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ype.GetInterface(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typeof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(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ble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).FullName) !=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null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</a:t>
              </a: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ble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&gt;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reateMetaInfo(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object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o) {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new </a:t>
              </a: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[] { }; 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ble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&gt;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ecompose(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object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obj) {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foreach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(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object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in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(</a:t>
              </a: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ble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)obj) {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yield return new </a:t>
              </a: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(o)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object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reateInstance(</a:t>
              </a: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ype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ype,</a:t>
              </a: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IEnumerable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gt; metaInfo) {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Activator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.CreateInstance(type,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true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)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void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Populate(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object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nstance,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ble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gt; tags,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ype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ype) {   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sv-SE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foreach </a:t>
              </a:r>
              <a:r>
                <a:rPr b="0" lang="sv-SE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(</a:t>
              </a:r>
              <a:r>
                <a:rPr b="0" lang="sv-SE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var </a:t>
              </a:r>
              <a:r>
                <a:rPr b="0" lang="sv-SE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ag</a:t>
              </a:r>
              <a:r>
                <a:rPr b="0" lang="sv-SE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in </a:t>
              </a:r>
              <a:r>
                <a:rPr b="0" lang="sv-SE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ags</a:t>
              </a:r>
              <a:r>
                <a:rPr b="0" lang="sv-SE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</a:t>
              </a:r>
              <a:r>
                <a:rPr b="0" lang="sv-SE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ype.GetMethod(</a:t>
              </a:r>
              <a:r>
                <a:rPr b="0" lang="en-US" sz="1200" spc="-1" strike="noStrike">
                  <a:solidFill>
                    <a:srgbClr val="a31515"/>
                  </a:solidFill>
                  <a:latin typeface="Courier New"/>
                  <a:ea typeface="Courier New"/>
                </a:rPr>
                <a:t>"Add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").Invoke(instance,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new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[] { tag.Value })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ICompositeSerializer Exampl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388" name="Rectangle 2"/>
          <p:cNvGrpSpPr/>
          <p:nvPr/>
        </p:nvGrpSpPr>
        <p:grpSpPr>
          <a:xfrm>
            <a:off x="566640" y="1725480"/>
            <a:ext cx="7510680" cy="4351320"/>
            <a:chOff x="566640" y="1725480"/>
            <a:chExt cx="7510680" cy="4351320"/>
          </a:xfrm>
        </p:grpSpPr>
        <p:pic>
          <p:nvPicPr>
            <p:cNvPr id="389" name="Rectangle 2" descr=""/>
            <p:cNvPicPr/>
            <p:nvPr/>
          </p:nvPicPr>
          <p:blipFill>
            <a:blip r:embed="rId1"/>
            <a:stretch/>
          </p:blipFill>
          <p:spPr>
            <a:xfrm>
              <a:off x="566640" y="1725480"/>
              <a:ext cx="7510680" cy="435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"/>
            <p:cNvSpPr/>
            <p:nvPr/>
          </p:nvSpPr>
          <p:spPr>
            <a:xfrm>
              <a:off x="571680" y="1731960"/>
              <a:ext cx="7500600" cy="429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[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mptyStorableClass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]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class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numDecomposer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: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ICompositeSerializer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{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int Priority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{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get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{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00; } 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bool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anSerialize(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ype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ype) {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ype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as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num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!=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null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ble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gt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reateMetaInfo(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object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bj) {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yield return new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ag(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num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.Format(obj.GetType(), obj, </a:t>
              </a:r>
              <a:r>
                <a:rPr b="0" lang="en-US" sz="1200" spc="-1" strike="noStrike">
                  <a:solidFill>
                    <a:srgbClr val="a31515"/>
                  </a:solidFill>
                  <a:latin typeface="Courier New"/>
                  <a:ea typeface="Courier New"/>
                </a:rPr>
                <a:t>"G"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))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a31515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ble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gt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ecompose(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object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bj) {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new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[] { }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object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reateInstance(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ype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,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ble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gt; metaInfo) {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tor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gt; it = metaInfo.GetEnumerator();   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t.MoveNext()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num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.Parse(t, (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string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)it.Current.Value)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void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Populate(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object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nstance,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ble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gt; elements, Type t) {} 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Versioning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full version information is store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fall back to compatible vers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same major &amp; minor version numb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newer build &amp; revis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possibility of independent archiv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contain all required assembli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ffff"/>
                </a:solidFill>
                <a:latin typeface="Arial"/>
              </a:rPr>
              <a:t>serialized typ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ffff"/>
                </a:solidFill>
                <a:latin typeface="Arial"/>
              </a:rPr>
              <a:t>used serializ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Next Step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convers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49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replace </a:t>
            </a:r>
            <a:r>
              <a:rPr b="0" lang="de-AT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Populate/GetXML()</a:t>
            </a: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AT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AT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[Storable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rebuild</a:t>
            </a:r>
            <a:r>
              <a:rPr b="0" lang="de-A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engin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tes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Motivation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14720" indent="-37872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less memory pressur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-27000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no DO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-27000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single pas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-27000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linear proces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less developer effor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-27000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no interfaces to implemen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modularity &amp; flexibilit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-27000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not specific to XM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-27000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not specific to any interface (i.e. </a:t>
            </a:r>
            <a:r>
              <a:rPr b="0" lang="de-AT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[Storable]</a:t>
            </a: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Component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6840" y="1546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driver: serializer (deserializer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traversal of object graph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object graph </a:t>
            </a:r>
            <a:r>
              <a:rPr b="0" lang="de-AT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 tree/strea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object analysi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composite serializ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back end: generator (parser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primitive serializ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serial object information </a:t>
            </a:r>
            <a:r>
              <a:rPr b="0" lang="de-AT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 file/db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Overview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261" name="Down Arrow 11"/>
          <p:cNvGrpSpPr/>
          <p:nvPr/>
        </p:nvGrpSpPr>
        <p:grpSpPr>
          <a:xfrm>
            <a:off x="974880" y="2189160"/>
            <a:ext cx="688680" cy="3254400"/>
            <a:chOff x="974880" y="2189160"/>
            <a:chExt cx="688680" cy="3254400"/>
          </a:xfrm>
        </p:grpSpPr>
        <p:pic>
          <p:nvPicPr>
            <p:cNvPr id="262" name="Down Arrow 11" descr=""/>
            <p:cNvPicPr/>
            <p:nvPr/>
          </p:nvPicPr>
          <p:blipFill>
            <a:blip r:embed="rId1"/>
            <a:stretch/>
          </p:blipFill>
          <p:spPr>
            <a:xfrm>
              <a:off x="974880" y="2189160"/>
              <a:ext cx="688680" cy="325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>
              <a:off x="1197000" y="2286000"/>
              <a:ext cx="249120" cy="29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             </a:t>
              </a: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serializatio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4" name="Down Arrow 13"/>
          <p:cNvGrpSpPr/>
          <p:nvPr/>
        </p:nvGrpSpPr>
        <p:grpSpPr>
          <a:xfrm>
            <a:off x="7047000" y="2189160"/>
            <a:ext cx="682560" cy="3254400"/>
            <a:chOff x="7047000" y="2189160"/>
            <a:chExt cx="682560" cy="3254400"/>
          </a:xfrm>
        </p:grpSpPr>
        <p:pic>
          <p:nvPicPr>
            <p:cNvPr id="265" name="Down Arrow 13" descr=""/>
            <p:cNvPicPr/>
            <p:nvPr/>
          </p:nvPicPr>
          <p:blipFill>
            <a:blip r:embed="rId2"/>
            <a:stretch/>
          </p:blipFill>
          <p:spPr>
            <a:xfrm>
              <a:off x="7047000" y="2189160"/>
              <a:ext cx="682560" cy="325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 rot="10800000">
              <a:off x="7269120" y="2410920"/>
              <a:ext cx="249120" cy="294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          </a:t>
              </a: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deserializatio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7" name="Rectangle 5"/>
          <p:cNvGrpSpPr/>
          <p:nvPr/>
        </p:nvGrpSpPr>
        <p:grpSpPr>
          <a:xfrm>
            <a:off x="1616040" y="2189160"/>
            <a:ext cx="5261040" cy="901800"/>
            <a:chOff x="1616040" y="2189160"/>
            <a:chExt cx="5261040" cy="901800"/>
          </a:xfrm>
        </p:grpSpPr>
        <p:pic>
          <p:nvPicPr>
            <p:cNvPr id="268" name="Rectangle 5" descr=""/>
            <p:cNvPicPr/>
            <p:nvPr/>
          </p:nvPicPr>
          <p:blipFill>
            <a:blip r:embed="rId3"/>
            <a:stretch/>
          </p:blipFill>
          <p:spPr>
            <a:xfrm>
              <a:off x="1616040" y="2189160"/>
              <a:ext cx="526104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1714680" y="2286000"/>
              <a:ext cx="5072040" cy="71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live object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0" name="Rectangle 7"/>
          <p:cNvGrpSpPr/>
          <p:nvPr/>
        </p:nvGrpSpPr>
        <p:grpSpPr>
          <a:xfrm>
            <a:off x="4900680" y="2901960"/>
            <a:ext cx="2189160" cy="762120"/>
            <a:chOff x="4900680" y="2901960"/>
            <a:chExt cx="2189160" cy="762120"/>
          </a:xfrm>
        </p:grpSpPr>
        <p:pic>
          <p:nvPicPr>
            <p:cNvPr id="271" name="Rectangle 7" descr=""/>
            <p:cNvPicPr/>
            <p:nvPr/>
          </p:nvPicPr>
          <p:blipFill>
            <a:blip r:embed="rId4"/>
            <a:stretch/>
          </p:blipFill>
          <p:spPr>
            <a:xfrm>
              <a:off x="4900680" y="2901960"/>
              <a:ext cx="2189160" cy="7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"/>
            <p:cNvSpPr/>
            <p:nvPr/>
          </p:nvSpPr>
          <p:spPr>
            <a:xfrm>
              <a:off x="5000760" y="3000240"/>
              <a:ext cx="200016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composit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3" name="Rectangle 6"/>
          <p:cNvGrpSpPr/>
          <p:nvPr/>
        </p:nvGrpSpPr>
        <p:grpSpPr>
          <a:xfrm>
            <a:off x="1616040" y="2901960"/>
            <a:ext cx="3260880" cy="762120"/>
            <a:chOff x="1616040" y="2901960"/>
            <a:chExt cx="3260880" cy="762120"/>
          </a:xfrm>
        </p:grpSpPr>
        <p:pic>
          <p:nvPicPr>
            <p:cNvPr id="274" name="Rectangle 6" descr=""/>
            <p:cNvPicPr/>
            <p:nvPr/>
          </p:nvPicPr>
          <p:blipFill>
            <a:blip r:embed="rId5"/>
            <a:stretch/>
          </p:blipFill>
          <p:spPr>
            <a:xfrm>
              <a:off x="1616040" y="2901960"/>
              <a:ext cx="3260880" cy="7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1714680" y="3000240"/>
              <a:ext cx="307152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serializer / deserialize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6" name="Rectangle 15"/>
          <p:cNvGrpSpPr/>
          <p:nvPr/>
        </p:nvGrpSpPr>
        <p:grpSpPr>
          <a:xfrm>
            <a:off x="1616040" y="3475080"/>
            <a:ext cx="5261040" cy="689040"/>
            <a:chOff x="1616040" y="3475080"/>
            <a:chExt cx="5261040" cy="689040"/>
          </a:xfrm>
        </p:grpSpPr>
        <p:pic>
          <p:nvPicPr>
            <p:cNvPr id="277" name="Rectangle 15" descr=""/>
            <p:cNvPicPr/>
            <p:nvPr/>
          </p:nvPicPr>
          <p:blipFill>
            <a:blip r:embed="rId6"/>
            <a:stretch/>
          </p:blipFill>
          <p:spPr>
            <a:xfrm>
              <a:off x="1616040" y="3475080"/>
              <a:ext cx="5261040" cy="6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"/>
            <p:cNvSpPr/>
            <p:nvPr/>
          </p:nvSpPr>
          <p:spPr>
            <a:xfrm>
              <a:off x="1714680" y="3571920"/>
              <a:ext cx="507204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serialization toke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9" name="Rectangle 9"/>
          <p:cNvGrpSpPr/>
          <p:nvPr/>
        </p:nvGrpSpPr>
        <p:grpSpPr>
          <a:xfrm>
            <a:off x="4900680" y="3975120"/>
            <a:ext cx="2189160" cy="762120"/>
            <a:chOff x="4900680" y="3975120"/>
            <a:chExt cx="2189160" cy="762120"/>
          </a:xfrm>
        </p:grpSpPr>
        <p:pic>
          <p:nvPicPr>
            <p:cNvPr id="280" name="Rectangle 9" descr=""/>
            <p:cNvPicPr/>
            <p:nvPr/>
          </p:nvPicPr>
          <p:blipFill>
            <a:blip r:embed="rId7"/>
            <a:stretch/>
          </p:blipFill>
          <p:spPr>
            <a:xfrm>
              <a:off x="4900680" y="3975120"/>
              <a:ext cx="2189160" cy="7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"/>
            <p:cNvSpPr/>
            <p:nvPr/>
          </p:nvSpPr>
          <p:spPr>
            <a:xfrm>
              <a:off x="5000760" y="4071960"/>
              <a:ext cx="200016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primitiv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2" name="Rectangle 8"/>
          <p:cNvGrpSpPr/>
          <p:nvPr/>
        </p:nvGrpSpPr>
        <p:grpSpPr>
          <a:xfrm>
            <a:off x="1616040" y="3975120"/>
            <a:ext cx="3260880" cy="762120"/>
            <a:chOff x="1616040" y="3975120"/>
            <a:chExt cx="3260880" cy="762120"/>
          </a:xfrm>
        </p:grpSpPr>
        <p:pic>
          <p:nvPicPr>
            <p:cNvPr id="283" name="Rectangle 8" descr=""/>
            <p:cNvPicPr/>
            <p:nvPr/>
          </p:nvPicPr>
          <p:blipFill>
            <a:blip r:embed="rId8"/>
            <a:stretch/>
          </p:blipFill>
          <p:spPr>
            <a:xfrm>
              <a:off x="1616040" y="3975120"/>
              <a:ext cx="3260880" cy="7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1714680" y="4071960"/>
              <a:ext cx="307152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generator / parse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5" name="Rectangle 10"/>
          <p:cNvGrpSpPr/>
          <p:nvPr/>
        </p:nvGrpSpPr>
        <p:grpSpPr>
          <a:xfrm>
            <a:off x="1616040" y="4548240"/>
            <a:ext cx="5261040" cy="895320"/>
            <a:chOff x="1616040" y="4548240"/>
            <a:chExt cx="5261040" cy="895320"/>
          </a:xfrm>
        </p:grpSpPr>
        <p:pic>
          <p:nvPicPr>
            <p:cNvPr id="286" name="Rectangle 10" descr=""/>
            <p:cNvPicPr/>
            <p:nvPr/>
          </p:nvPicPr>
          <p:blipFill>
            <a:blip r:embed="rId9"/>
            <a:stretch/>
          </p:blipFill>
          <p:spPr>
            <a:xfrm>
              <a:off x="1616040" y="4548240"/>
              <a:ext cx="5261040" cy="89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"/>
            <p:cNvSpPr/>
            <p:nvPr/>
          </p:nvSpPr>
          <p:spPr>
            <a:xfrm>
              <a:off x="1714680" y="4643280"/>
              <a:ext cx="5072040" cy="7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persisted object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Exampl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9" name="Oval 3"/>
          <p:cNvSpPr/>
          <p:nvPr/>
        </p:nvSpPr>
        <p:spPr>
          <a:xfrm>
            <a:off x="785880" y="1728720"/>
            <a:ext cx="642960" cy="642960"/>
          </a:xfrm>
          <a:prstGeom prst="ellipse">
            <a:avLst/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Oval 4"/>
          <p:cNvSpPr/>
          <p:nvPr/>
        </p:nvSpPr>
        <p:spPr>
          <a:xfrm>
            <a:off x="785880" y="2657520"/>
            <a:ext cx="642960" cy="642960"/>
          </a:xfrm>
          <a:prstGeom prst="ellipse">
            <a:avLst/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Oval 5"/>
          <p:cNvSpPr/>
          <p:nvPr/>
        </p:nvSpPr>
        <p:spPr>
          <a:xfrm>
            <a:off x="785880" y="3586320"/>
            <a:ext cx="642960" cy="642960"/>
          </a:xfrm>
          <a:prstGeom prst="ellipse">
            <a:avLst/>
          </a:prstGeom>
          <a:solidFill>
            <a:srgbClr val="8d89a4"/>
          </a:solidFill>
          <a:ln w="19080">
            <a:solidFill>
              <a:srgbClr val="6663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Oval 6"/>
          <p:cNvSpPr/>
          <p:nvPr/>
        </p:nvSpPr>
        <p:spPr>
          <a:xfrm>
            <a:off x="1643040" y="4514760"/>
            <a:ext cx="642960" cy="642960"/>
          </a:xfrm>
          <a:prstGeom prst="ellipse">
            <a:avLst/>
          </a:prstGeom>
          <a:solidFill>
            <a:srgbClr val="8d89a4"/>
          </a:solidFill>
          <a:ln w="19080">
            <a:solidFill>
              <a:srgbClr val="6663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Oval 7"/>
          <p:cNvSpPr/>
          <p:nvPr/>
        </p:nvSpPr>
        <p:spPr>
          <a:xfrm>
            <a:off x="2500200" y="4514760"/>
            <a:ext cx="642960" cy="642960"/>
          </a:xfrm>
          <a:prstGeom prst="ellipse">
            <a:avLst/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Oval 8"/>
          <p:cNvSpPr/>
          <p:nvPr/>
        </p:nvSpPr>
        <p:spPr>
          <a:xfrm>
            <a:off x="1643040" y="3657600"/>
            <a:ext cx="642960" cy="642960"/>
          </a:xfrm>
          <a:prstGeom prst="ellipse">
            <a:avLst/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Oval 9"/>
          <p:cNvSpPr/>
          <p:nvPr/>
        </p:nvSpPr>
        <p:spPr>
          <a:xfrm>
            <a:off x="2500200" y="5372280"/>
            <a:ext cx="642960" cy="642600"/>
          </a:xfrm>
          <a:prstGeom prst="ellipse">
            <a:avLst/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96" name="Curved Connector 11"/>
          <p:cNvCxnSpPr>
            <a:stCxn id="289" idx="4"/>
            <a:endCxn id="290" idx="0"/>
          </p:cNvCxnSpPr>
          <p:nvPr/>
        </p:nvCxnSpPr>
        <p:spPr>
          <a:xfrm rot="5400000">
            <a:off x="964080" y="2515320"/>
            <a:ext cx="286200" cy="2160"/>
          </a:xfrm>
          <a:prstGeom prst="curvedConnector5">
            <a:avLst>
              <a:gd name="adj1" fmla="val 50000"/>
              <a:gd name="adj2" fmla="val 40000"/>
              <a:gd name="adj3" fmla="val 50000"/>
            </a:avLst>
          </a:prstGeom>
          <a:ln w="9360">
            <a:solidFill>
              <a:srgbClr val="219ac1"/>
            </a:solidFill>
            <a:miter/>
            <a:tailEnd len="med" type="arrow" w="med"/>
          </a:ln>
        </p:spPr>
      </p:cxnSp>
      <p:cxnSp>
        <p:nvCxnSpPr>
          <p:cNvPr id="297" name="Curved Connector 13"/>
          <p:cNvCxnSpPr>
            <a:stCxn id="290" idx="4"/>
            <a:endCxn id="291" idx="0"/>
          </p:cNvCxnSpPr>
          <p:nvPr/>
        </p:nvCxnSpPr>
        <p:spPr>
          <a:xfrm rot="5400000">
            <a:off x="963720" y="3444120"/>
            <a:ext cx="286560" cy="2160"/>
          </a:xfrm>
          <a:prstGeom prst="curvedConnector5">
            <a:avLst>
              <a:gd name="adj1" fmla="val 49937"/>
              <a:gd name="adj2" fmla="val 40000"/>
              <a:gd name="adj3" fmla="val 49937"/>
            </a:avLst>
          </a:prstGeom>
          <a:ln w="9360">
            <a:solidFill>
              <a:srgbClr val="219ac1"/>
            </a:solidFill>
            <a:miter/>
            <a:tailEnd len="med" type="arrow" w="med"/>
          </a:ln>
        </p:spPr>
      </p:cxnSp>
      <p:cxnSp>
        <p:nvCxnSpPr>
          <p:cNvPr id="298" name="Shape 15"/>
          <p:cNvCxnSpPr>
            <a:stCxn id="290" idx="6"/>
            <a:endCxn id="294" idx="0"/>
          </p:cNvCxnSpPr>
          <p:nvPr/>
        </p:nvCxnSpPr>
        <p:spPr>
          <a:xfrm>
            <a:off x="1428840" y="2979360"/>
            <a:ext cx="535680" cy="678600"/>
          </a:xfrm>
          <a:prstGeom prst="curvedConnector2">
            <a:avLst/>
          </a:prstGeom>
          <a:ln w="9360">
            <a:solidFill>
              <a:srgbClr val="219ac1"/>
            </a:solidFill>
            <a:miter/>
            <a:tailEnd len="med" type="arrow" w="med"/>
          </a:ln>
        </p:spPr>
      </p:cxnSp>
      <p:cxnSp>
        <p:nvCxnSpPr>
          <p:cNvPr id="299" name="Curved Connector 17"/>
          <p:cNvCxnSpPr>
            <a:stCxn id="294" idx="4"/>
            <a:endCxn id="292" idx="0"/>
          </p:cNvCxnSpPr>
          <p:nvPr/>
        </p:nvCxnSpPr>
        <p:spPr>
          <a:xfrm rot="5400000">
            <a:off x="1856520" y="4408560"/>
            <a:ext cx="215280" cy="2160"/>
          </a:xfrm>
          <a:prstGeom prst="curvedConnector5">
            <a:avLst>
              <a:gd name="adj1" fmla="val 49916"/>
              <a:gd name="adj2" fmla="val 40000"/>
              <a:gd name="adj3" fmla="val 49916"/>
            </a:avLst>
          </a:prstGeom>
          <a:ln w="9360">
            <a:solidFill>
              <a:srgbClr val="219ac1"/>
            </a:solidFill>
            <a:miter/>
            <a:tailEnd len="med" type="arrow" w="med"/>
          </a:ln>
        </p:spPr>
      </p:cxnSp>
      <p:cxnSp>
        <p:nvCxnSpPr>
          <p:cNvPr id="300" name="Curved Connector 19"/>
          <p:cNvCxnSpPr>
            <a:stCxn id="294" idx="4"/>
            <a:endCxn id="291" idx="4"/>
          </p:cNvCxnSpPr>
          <p:nvPr/>
        </p:nvCxnSpPr>
        <p:spPr>
          <a:xfrm flipV="1" rot="16200000">
            <a:off x="1499040" y="3835800"/>
            <a:ext cx="72000" cy="857880"/>
          </a:xfrm>
          <a:prstGeom prst="curvedConnector5">
            <a:avLst>
              <a:gd name="adj1" fmla="val -319597"/>
              <a:gd name="adj2" fmla="val 50000"/>
              <a:gd name="adj3" fmla="val -319597"/>
            </a:avLst>
          </a:prstGeom>
          <a:ln w="9360">
            <a:solidFill>
              <a:srgbClr val="5d872d"/>
            </a:solidFill>
            <a:miter/>
            <a:tailEnd len="med" type="arrow" w="med"/>
          </a:ln>
        </p:spPr>
      </p:cxnSp>
      <p:cxnSp>
        <p:nvCxnSpPr>
          <p:cNvPr id="301" name="Shape 22"/>
          <p:cNvCxnSpPr>
            <a:stCxn id="294" idx="6"/>
            <a:endCxn id="293" idx="0"/>
          </p:cNvCxnSpPr>
          <p:nvPr/>
        </p:nvCxnSpPr>
        <p:spPr>
          <a:xfrm>
            <a:off x="2286000" y="3979800"/>
            <a:ext cx="535680" cy="535680"/>
          </a:xfrm>
          <a:prstGeom prst="curvedConnector2">
            <a:avLst/>
          </a:prstGeom>
          <a:ln w="9360">
            <a:solidFill>
              <a:srgbClr val="219ac1"/>
            </a:solidFill>
            <a:miter/>
            <a:tailEnd len="med" type="arrow" w="med"/>
          </a:ln>
        </p:spPr>
      </p:cxnSp>
      <p:cxnSp>
        <p:nvCxnSpPr>
          <p:cNvPr id="302" name="Curved Connector 24"/>
          <p:cNvCxnSpPr>
            <a:stCxn id="293" idx="4"/>
            <a:endCxn id="295" idx="0"/>
          </p:cNvCxnSpPr>
          <p:nvPr/>
        </p:nvCxnSpPr>
        <p:spPr>
          <a:xfrm rot="5400000">
            <a:off x="2714040" y="5265720"/>
            <a:ext cx="214920" cy="2160"/>
          </a:xfrm>
          <a:prstGeom prst="curvedConnector5">
            <a:avLst>
              <a:gd name="adj1" fmla="val 50000"/>
              <a:gd name="adj2" fmla="val 40000"/>
              <a:gd name="adj3" fmla="val 50000"/>
            </a:avLst>
          </a:prstGeom>
          <a:ln w="9360">
            <a:solidFill>
              <a:srgbClr val="219ac1"/>
            </a:solidFill>
            <a:miter/>
            <a:tailEnd len="med" type="arrow" w="med"/>
          </a:ln>
        </p:spPr>
      </p:cxnSp>
      <p:cxnSp>
        <p:nvCxnSpPr>
          <p:cNvPr id="303" name="Shape 26"/>
          <p:cNvCxnSpPr>
            <a:stCxn id="295" idx="2"/>
            <a:endCxn id="292" idx="4"/>
          </p:cNvCxnSpPr>
          <p:nvPr/>
        </p:nvCxnSpPr>
        <p:spPr>
          <a:xfrm rot="10800000">
            <a:off x="1963800" y="5157000"/>
            <a:ext cx="536760" cy="537480"/>
          </a:xfrm>
          <a:prstGeom prst="curvedConnector2">
            <a:avLst/>
          </a:prstGeom>
          <a:ln w="9360">
            <a:solidFill>
              <a:srgbClr val="5d872d"/>
            </a:solidFill>
            <a:miter/>
            <a:tailEnd len="med" type="arrow" w="med"/>
          </a:ln>
        </p:spPr>
      </p:cxnSp>
      <p:cxnSp>
        <p:nvCxnSpPr>
          <p:cNvPr id="304" name="Curved Connector 28"/>
          <p:cNvCxnSpPr>
            <a:stCxn id="295" idx="6"/>
            <a:endCxn id="294" idx="6"/>
          </p:cNvCxnSpPr>
          <p:nvPr/>
        </p:nvCxnSpPr>
        <p:spPr>
          <a:xfrm flipH="1" flipV="1">
            <a:off x="2285280" y="3979080"/>
            <a:ext cx="857880" cy="1715400"/>
          </a:xfrm>
          <a:prstGeom prst="curvedConnector5">
            <a:avLst>
              <a:gd name="adj1" fmla="val -26658"/>
              <a:gd name="adj2" fmla="val 50000"/>
              <a:gd name="adj3" fmla="val -26658"/>
            </a:avLst>
          </a:prstGeom>
          <a:ln w="9360">
            <a:solidFill>
              <a:srgbClr val="5d872d"/>
            </a:solidFill>
            <a:miter/>
            <a:tailEnd len="med" type="arrow" w="med"/>
          </a:ln>
        </p:spPr>
      </p:cxnSp>
      <p:cxnSp>
        <p:nvCxnSpPr>
          <p:cNvPr id="305" name="Curved Connector 30"/>
          <p:cNvCxnSpPr>
            <a:stCxn id="293" idx="6"/>
            <a:endCxn id="289" idx="6"/>
          </p:cNvCxnSpPr>
          <p:nvPr/>
        </p:nvCxnSpPr>
        <p:spPr>
          <a:xfrm flipH="1" flipV="1">
            <a:off x="1428480" y="2050200"/>
            <a:ext cx="1715040" cy="2786760"/>
          </a:xfrm>
          <a:prstGeom prst="curvedConnector5">
            <a:avLst>
              <a:gd name="adj1" fmla="val -13331"/>
              <a:gd name="adj2" fmla="val 50000"/>
              <a:gd name="adj3" fmla="val -13331"/>
            </a:avLst>
          </a:prstGeom>
          <a:ln w="9360">
            <a:solidFill>
              <a:srgbClr val="5d872d"/>
            </a:solidFill>
            <a:miter/>
            <a:tailEnd len="med" type="arrow" w="med"/>
          </a:ln>
        </p:spPr>
      </p:cxnSp>
      <p:cxnSp>
        <p:nvCxnSpPr>
          <p:cNvPr id="306" name="Curved Connector 35"/>
          <p:cNvCxnSpPr>
            <a:stCxn id="293" idx="6"/>
            <a:endCxn id="294" idx="6"/>
          </p:cNvCxnSpPr>
          <p:nvPr/>
        </p:nvCxnSpPr>
        <p:spPr>
          <a:xfrm flipH="1" flipV="1">
            <a:off x="2285280" y="3979080"/>
            <a:ext cx="857880" cy="857880"/>
          </a:xfrm>
          <a:prstGeom prst="curvedConnector5">
            <a:avLst>
              <a:gd name="adj1" fmla="val -54408"/>
              <a:gd name="adj2" fmla="val 50000"/>
              <a:gd name="adj3" fmla="val -54408"/>
            </a:avLst>
          </a:prstGeom>
          <a:ln w="9360">
            <a:solidFill>
              <a:srgbClr val="5d872d"/>
            </a:solidFill>
            <a:miter/>
            <a:tailEnd len="med" type="arrow" w="med"/>
          </a:ln>
        </p:spPr>
      </p:cxnSp>
      <p:sp>
        <p:nvSpPr>
          <p:cNvPr id="307" name="Rectangle 38"/>
          <p:cNvSpPr/>
          <p:nvPr/>
        </p:nvSpPr>
        <p:spPr>
          <a:xfrm>
            <a:off x="5072040" y="1500120"/>
            <a:ext cx="35006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1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2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d76fd0"/>
                </a:solidFill>
                <a:latin typeface="Courier New"/>
                <a:ea typeface="Courier New"/>
              </a:rPr>
              <a:t>primitiv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3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/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4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92d050"/>
                </a:solidFill>
                <a:latin typeface="Courier New"/>
                <a:ea typeface="Courier New"/>
              </a:rPr>
              <a:t>referenc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3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/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d76fd0"/>
                </a:solidFill>
                <a:latin typeface="Courier New"/>
                <a:ea typeface="Courier New"/>
              </a:rPr>
              <a:t>primitiv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5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/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6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  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92d050"/>
                </a:solidFill>
                <a:latin typeface="Courier New"/>
                <a:ea typeface="Courier New"/>
              </a:rPr>
              <a:t>referenc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1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/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92d050"/>
                </a:solidFill>
                <a:latin typeface="Courier New"/>
                <a:ea typeface="Courier New"/>
              </a:rPr>
              <a:t>referenc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4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/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7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92d050"/>
                </a:solidFill>
                <a:latin typeface="Courier New"/>
                <a:ea typeface="Courier New"/>
              </a:rPr>
              <a:t>referenc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4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/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92d050"/>
                </a:solidFill>
                <a:latin typeface="Courier New"/>
                <a:ea typeface="Courier New"/>
              </a:rPr>
              <a:t>referenc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5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/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  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/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/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/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/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/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8" name="Right Arrow 40"/>
          <p:cNvGrpSpPr/>
          <p:nvPr/>
        </p:nvGrpSpPr>
        <p:grpSpPr>
          <a:xfrm>
            <a:off x="3913200" y="3267000"/>
            <a:ext cx="1530360" cy="970200"/>
            <a:chOff x="3913200" y="3267000"/>
            <a:chExt cx="1530360" cy="970200"/>
          </a:xfrm>
        </p:grpSpPr>
        <p:pic>
          <p:nvPicPr>
            <p:cNvPr id="309" name="Right Arrow 40" descr=""/>
            <p:cNvPicPr/>
            <p:nvPr/>
          </p:nvPicPr>
          <p:blipFill>
            <a:blip r:embed="rId1"/>
            <a:stretch/>
          </p:blipFill>
          <p:spPr>
            <a:xfrm>
              <a:off x="3913200" y="3267000"/>
              <a:ext cx="1530360" cy="97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"/>
            <p:cNvSpPr/>
            <p:nvPr/>
          </p:nvSpPr>
          <p:spPr>
            <a:xfrm>
              <a:off x="4000680" y="3554280"/>
              <a:ext cx="1160280" cy="39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Composite Serializer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312" name="Right Arrow 10"/>
          <p:cNvGrpSpPr/>
          <p:nvPr/>
        </p:nvGrpSpPr>
        <p:grpSpPr>
          <a:xfrm>
            <a:off x="3645000" y="2230560"/>
            <a:ext cx="1530360" cy="969840"/>
            <a:chOff x="3645000" y="2230560"/>
            <a:chExt cx="1530360" cy="969840"/>
          </a:xfrm>
        </p:grpSpPr>
        <p:pic>
          <p:nvPicPr>
            <p:cNvPr id="313" name="Right Arrow 10" descr=""/>
            <p:cNvPicPr/>
            <p:nvPr/>
          </p:nvPicPr>
          <p:blipFill>
            <a:blip r:embed="rId1"/>
            <a:stretch/>
          </p:blipFill>
          <p:spPr>
            <a:xfrm>
              <a:off x="3645000" y="2230560"/>
              <a:ext cx="1530360" cy="96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"/>
            <p:cNvSpPr/>
            <p:nvPr/>
          </p:nvSpPr>
          <p:spPr>
            <a:xfrm>
              <a:off x="3732120" y="2517840"/>
              <a:ext cx="116208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5" name="Content Placeholder 2"/>
          <p:cNvSpPr/>
          <p:nvPr/>
        </p:nvSpPr>
        <p:spPr>
          <a:xfrm>
            <a:off x="457200" y="4143240"/>
            <a:ext cx="746748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extract or compose fro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76240" indent="-382680">
              <a:lnSpc>
                <a:spcPct val="10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sub-objec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76240" indent="-382680">
              <a:lnSpc>
                <a:spcPct val="10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meta informa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decide whether they are applicab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6" name="Group 37"/>
          <p:cNvGrpSpPr/>
          <p:nvPr/>
        </p:nvGrpSpPr>
        <p:grpSpPr>
          <a:xfrm>
            <a:off x="5965920" y="1714680"/>
            <a:ext cx="2677680" cy="2043360"/>
            <a:chOff x="5965920" y="1714680"/>
            <a:chExt cx="2677680" cy="2043360"/>
          </a:xfrm>
        </p:grpSpPr>
        <p:sp>
          <p:nvSpPr>
            <p:cNvPr id="317" name="Oval 11"/>
            <p:cNvSpPr/>
            <p:nvPr/>
          </p:nvSpPr>
          <p:spPr>
            <a:xfrm>
              <a:off x="6608520" y="1856520"/>
              <a:ext cx="642600" cy="642960"/>
            </a:xfrm>
            <a:prstGeom prst="ellipse">
              <a:avLst/>
            </a:prstGeom>
            <a:solidFill>
              <a:srgbClr val="7e848d"/>
            </a:solidFill>
            <a:ln w="19080">
              <a:solidFill>
                <a:srgbClr val="5b5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d0d0d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18" name="Oval 12"/>
            <p:cNvGrpSpPr/>
            <p:nvPr/>
          </p:nvGrpSpPr>
          <p:grpSpPr>
            <a:xfrm>
              <a:off x="6510960" y="2761560"/>
              <a:ext cx="822600" cy="829080"/>
              <a:chOff x="6510960" y="2761560"/>
              <a:chExt cx="822600" cy="829080"/>
            </a:xfrm>
          </p:grpSpPr>
          <p:pic>
            <p:nvPicPr>
              <p:cNvPr id="319" name="Oval 12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0960" y="2761560"/>
                <a:ext cx="822600" cy="82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0" name=""/>
              <p:cNvSpPr/>
              <p:nvPr/>
            </p:nvSpPr>
            <p:spPr>
              <a:xfrm>
                <a:off x="6702480" y="2950920"/>
                <a:ext cx="4543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21" name="Oval 13"/>
            <p:cNvGrpSpPr/>
            <p:nvPr/>
          </p:nvGrpSpPr>
          <p:grpSpPr>
            <a:xfrm>
              <a:off x="7370640" y="2761560"/>
              <a:ext cx="828720" cy="829080"/>
              <a:chOff x="7370640" y="2761560"/>
              <a:chExt cx="828720" cy="829080"/>
            </a:xfrm>
          </p:grpSpPr>
          <p:pic>
            <p:nvPicPr>
              <p:cNvPr id="322" name="Oval 13" descr=""/>
              <p:cNvPicPr/>
              <p:nvPr/>
            </p:nvPicPr>
            <p:blipFill>
              <a:blip r:embed="rId3"/>
              <a:stretch/>
            </p:blipFill>
            <p:spPr>
              <a:xfrm>
                <a:off x="7370640" y="2761560"/>
                <a:ext cx="828720" cy="82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3" name=""/>
              <p:cNvSpPr/>
              <p:nvPr/>
            </p:nvSpPr>
            <p:spPr>
              <a:xfrm>
                <a:off x="7559640" y="2950920"/>
                <a:ext cx="4543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324" name="Curved Connector 14" descr=""/>
            <p:cNvPicPr/>
            <p:nvPr/>
          </p:nvPicPr>
          <p:blipFill>
            <a:blip r:embed="rId4"/>
            <a:stretch/>
          </p:blipFill>
          <p:spPr>
            <a:xfrm>
              <a:off x="6761160" y="2426400"/>
              <a:ext cx="347400" cy="60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5" name="Shape 15" descr=""/>
            <p:cNvPicPr/>
            <p:nvPr/>
          </p:nvPicPr>
          <p:blipFill>
            <a:blip r:embed="rId5"/>
            <a:stretch/>
          </p:blipFill>
          <p:spPr>
            <a:xfrm>
              <a:off x="7175520" y="2090880"/>
              <a:ext cx="785880" cy="93888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326" name="Curved Connector 16"/>
            <p:cNvCxnSpPr/>
            <p:nvPr/>
          </p:nvCxnSpPr>
          <p:spPr>
            <a:xfrm rot="5400000">
              <a:off x="7679160" y="3606840"/>
              <a:ext cx="214920" cy="2160"/>
            </a:xfrm>
            <a:prstGeom prst="curvedConnector5">
              <a:avLst>
                <a:gd name="adj1" fmla="val 50000"/>
                <a:gd name="adj2" fmla="val 40000"/>
                <a:gd name="adj3" fmla="val 50000"/>
              </a:avLst>
            </a:prstGeom>
            <a:ln w="9360">
              <a:solidFill>
                <a:srgbClr val="57667b"/>
              </a:solidFill>
              <a:miter/>
              <a:tailEnd len="med" type="arrow" w="med"/>
            </a:ln>
          </p:spPr>
        </p:cxnSp>
        <p:cxnSp>
          <p:nvCxnSpPr>
            <p:cNvPr id="327" name="Curved Connector 17"/>
            <p:cNvCxnSpPr/>
            <p:nvPr/>
          </p:nvCxnSpPr>
          <p:spPr>
            <a:xfrm rot="5400000">
              <a:off x="7357680" y="3071520"/>
              <a:ext cx="2160" cy="857520"/>
            </a:xfrm>
            <a:prstGeom prst="curvedConnector5">
              <a:avLst>
                <a:gd name="adj1" fmla="val 14380000"/>
                <a:gd name="adj2" fmla="val 49979"/>
                <a:gd name="adj3" fmla="val 14380000"/>
              </a:avLst>
            </a:prstGeom>
            <a:ln w="9360">
              <a:solidFill>
                <a:srgbClr val="57667b"/>
              </a:solidFill>
              <a:miter/>
              <a:tailEnd len="med" type="arrow" w="med"/>
            </a:ln>
          </p:spPr>
        </p:cxnSp>
        <p:cxnSp>
          <p:nvCxnSpPr>
            <p:cNvPr id="328" name="Shape 18"/>
            <p:cNvCxnSpPr/>
            <p:nvPr/>
          </p:nvCxnSpPr>
          <p:spPr>
            <a:xfrm>
              <a:off x="8107920" y="3178440"/>
              <a:ext cx="536040" cy="536400"/>
            </a:xfrm>
            <a:prstGeom prst="curvedConnector2">
              <a:avLst/>
            </a:prstGeom>
            <a:ln w="9360">
              <a:solidFill>
                <a:srgbClr val="57667b"/>
              </a:solidFill>
              <a:miter/>
              <a:tailEnd len="med" type="arrow" w="med"/>
            </a:ln>
          </p:spPr>
        </p:cxnSp>
        <p:sp>
          <p:nvSpPr>
            <p:cNvPr id="329" name="TextBox 26"/>
            <p:cNvSpPr/>
            <p:nvPr/>
          </p:nvSpPr>
          <p:spPr>
            <a:xfrm>
              <a:off x="5965920" y="3000600"/>
              <a:ext cx="35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30" name="Down Arrow 27"/>
            <p:cNvGrpSpPr/>
            <p:nvPr/>
          </p:nvGrpSpPr>
          <p:grpSpPr>
            <a:xfrm>
              <a:off x="6157800" y="2444760"/>
              <a:ext cx="481320" cy="524160"/>
              <a:chOff x="6157800" y="2444760"/>
              <a:chExt cx="481320" cy="524160"/>
            </a:xfrm>
          </p:grpSpPr>
          <p:pic>
            <p:nvPicPr>
              <p:cNvPr id="331" name="Down Arrow 27" descr=""/>
              <p:cNvPicPr/>
              <p:nvPr/>
            </p:nvPicPr>
            <p:blipFill>
              <a:blip r:embed="rId6"/>
              <a:stretch/>
            </p:blipFill>
            <p:spPr>
              <a:xfrm>
                <a:off x="6157800" y="2444760"/>
                <a:ext cx="481320" cy="52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2" name=""/>
              <p:cNvSpPr/>
              <p:nvPr/>
            </p:nvSpPr>
            <p:spPr>
              <a:xfrm rot="1862400">
                <a:off x="6341040" y="2553840"/>
                <a:ext cx="142560" cy="28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3" name="Oval 34"/>
            <p:cNvSpPr/>
            <p:nvPr/>
          </p:nvSpPr>
          <p:spPr>
            <a:xfrm>
              <a:off x="6465600" y="1714680"/>
              <a:ext cx="928440" cy="928800"/>
            </a:xfrm>
            <a:prstGeom prst="ellipse">
              <a:avLst/>
            </a:prstGeom>
            <a:solidFill>
              <a:srgbClr val="40404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4" name="Group 36"/>
          <p:cNvGrpSpPr/>
          <p:nvPr/>
        </p:nvGrpSpPr>
        <p:grpSpPr>
          <a:xfrm>
            <a:off x="785880" y="1571400"/>
            <a:ext cx="2071800" cy="2286360"/>
            <a:chOff x="785880" y="1571400"/>
            <a:chExt cx="2071800" cy="2286360"/>
          </a:xfrm>
        </p:grpSpPr>
        <p:grpSp>
          <p:nvGrpSpPr>
            <p:cNvPr id="335" name="Oval 2"/>
            <p:cNvGrpSpPr/>
            <p:nvPr/>
          </p:nvGrpSpPr>
          <p:grpSpPr>
            <a:xfrm>
              <a:off x="902160" y="1761840"/>
              <a:ext cx="835200" cy="829080"/>
              <a:chOff x="902160" y="1761840"/>
              <a:chExt cx="835200" cy="829080"/>
            </a:xfrm>
          </p:grpSpPr>
          <p:pic>
            <p:nvPicPr>
              <p:cNvPr id="336" name="Oval 2" descr=""/>
              <p:cNvPicPr/>
              <p:nvPr/>
            </p:nvPicPr>
            <p:blipFill>
              <a:blip r:embed="rId7"/>
              <a:stretch/>
            </p:blipFill>
            <p:spPr>
              <a:xfrm>
                <a:off x="902160" y="1761840"/>
                <a:ext cx="835200" cy="82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7" name=""/>
              <p:cNvSpPr/>
              <p:nvPr/>
            </p:nvSpPr>
            <p:spPr>
              <a:xfrm>
                <a:off x="1094040" y="1950840"/>
                <a:ext cx="45468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8" name="Oval 3"/>
            <p:cNvSpPr/>
            <p:nvPr/>
          </p:nvSpPr>
          <p:spPr>
            <a:xfrm>
              <a:off x="1000080" y="2856960"/>
              <a:ext cx="642960" cy="642960"/>
            </a:xfrm>
            <a:prstGeom prst="ellipse">
              <a:avLst/>
            </a:prstGeom>
            <a:solidFill>
              <a:srgbClr val="7e848d"/>
            </a:solidFill>
            <a:ln w="19080">
              <a:solidFill>
                <a:srgbClr val="5b5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d0d0d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4"/>
            <p:cNvSpPr/>
            <p:nvPr/>
          </p:nvSpPr>
          <p:spPr>
            <a:xfrm>
              <a:off x="1857600" y="2856240"/>
              <a:ext cx="642960" cy="642960"/>
            </a:xfrm>
            <a:prstGeom prst="ellipse">
              <a:avLst/>
            </a:prstGeom>
            <a:solidFill>
              <a:srgbClr val="7e848d"/>
            </a:solidFill>
            <a:ln w="19080">
              <a:solidFill>
                <a:srgbClr val="5b5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d0d0d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340" name="Curved Connector 5"/>
            <p:cNvCxnSpPr>
              <a:endCxn id="336" idx="0"/>
            </p:cNvCxnSpPr>
            <p:nvPr/>
          </p:nvCxnSpPr>
          <p:spPr>
            <a:xfrm rot="5400000">
              <a:off x="1178280" y="1713600"/>
              <a:ext cx="286200" cy="2160"/>
            </a:xfrm>
            <a:prstGeom prst="curvedConnector5">
              <a:avLst>
                <a:gd name="adj1" fmla="val 50000"/>
                <a:gd name="adj2" fmla="val 40000"/>
                <a:gd name="adj3" fmla="val 50000"/>
              </a:avLst>
            </a:prstGeom>
            <a:ln w="9360">
              <a:solidFill>
                <a:srgbClr val="57667b"/>
              </a:solidFill>
              <a:miter/>
              <a:tailEnd len="med" type="arrow" w="med"/>
            </a:ln>
          </p:spPr>
        </p:cxnSp>
        <p:cxnSp>
          <p:nvCxnSpPr>
            <p:cNvPr id="341" name="Curved Connector 6"/>
            <p:cNvCxnSpPr/>
            <p:nvPr/>
          </p:nvCxnSpPr>
          <p:spPr>
            <a:xfrm rot="5400000">
              <a:off x="1142280" y="2678400"/>
              <a:ext cx="357840" cy="2160"/>
            </a:xfrm>
            <a:prstGeom prst="curvedConnector5">
              <a:avLst>
                <a:gd name="adj1" fmla="val 49949"/>
                <a:gd name="adj2" fmla="val 40000"/>
                <a:gd name="adj3" fmla="val 49949"/>
              </a:avLst>
            </a:prstGeom>
            <a:ln w="9360">
              <a:solidFill>
                <a:srgbClr val="57667b"/>
              </a:solidFill>
              <a:miter/>
              <a:tailEnd len="med" type="arrow" w="med"/>
            </a:ln>
          </p:spPr>
        </p:cxnSp>
        <p:cxnSp>
          <p:nvCxnSpPr>
            <p:cNvPr id="342" name="Shape 7"/>
            <p:cNvCxnSpPr/>
            <p:nvPr/>
          </p:nvCxnSpPr>
          <p:spPr>
            <a:xfrm>
              <a:off x="1643040" y="2177640"/>
              <a:ext cx="536400" cy="678600"/>
            </a:xfrm>
            <a:prstGeom prst="curvedConnector2">
              <a:avLst/>
            </a:prstGeom>
            <a:ln w="9360">
              <a:solidFill>
                <a:srgbClr val="57667b"/>
              </a:solidFill>
              <a:miter/>
              <a:tailEnd len="med" type="arrow" w="med"/>
            </a:ln>
          </p:spPr>
        </p:cxnSp>
        <p:cxnSp>
          <p:nvCxnSpPr>
            <p:cNvPr id="343" name="Curved Connector 8"/>
            <p:cNvCxnSpPr>
              <a:stCxn id="339" idx="4"/>
            </p:cNvCxnSpPr>
            <p:nvPr/>
          </p:nvCxnSpPr>
          <p:spPr>
            <a:xfrm rot="5400000">
              <a:off x="2071440" y="3606120"/>
              <a:ext cx="214920" cy="2160"/>
            </a:xfrm>
            <a:prstGeom prst="curvedConnector5">
              <a:avLst>
                <a:gd name="adj1" fmla="val 50000"/>
                <a:gd name="adj2" fmla="val 40000"/>
                <a:gd name="adj3" fmla="val 50000"/>
              </a:avLst>
            </a:prstGeom>
            <a:ln w="9360">
              <a:solidFill>
                <a:srgbClr val="57667b"/>
              </a:solidFill>
              <a:miter/>
              <a:tailEnd len="med" type="arrow" w="med"/>
            </a:ln>
          </p:spPr>
        </p:cxnSp>
        <p:cxnSp>
          <p:nvCxnSpPr>
            <p:cNvPr id="344" name="Curved Connector 9"/>
            <p:cNvCxnSpPr>
              <a:stCxn id="339" idx="4"/>
              <a:endCxn id="338" idx="4"/>
            </p:cNvCxnSpPr>
            <p:nvPr/>
          </p:nvCxnSpPr>
          <p:spPr>
            <a:xfrm rot="5400000">
              <a:off x="1748880" y="3070800"/>
              <a:ext cx="1440" cy="857880"/>
            </a:xfrm>
            <a:prstGeom prst="curvedConnector5">
              <a:avLst>
                <a:gd name="adj1" fmla="val 28866666"/>
                <a:gd name="adj2" fmla="val 50000"/>
                <a:gd name="adj3" fmla="val 28866666"/>
              </a:avLst>
            </a:prstGeom>
            <a:ln w="9360">
              <a:solidFill>
                <a:srgbClr val="57667b"/>
              </a:solidFill>
              <a:miter/>
              <a:tailEnd len="med" type="arrow" w="med"/>
            </a:ln>
          </p:spPr>
        </p:cxnSp>
        <p:sp>
          <p:nvSpPr>
            <p:cNvPr id="345" name="Oval 35"/>
            <p:cNvSpPr/>
            <p:nvPr/>
          </p:nvSpPr>
          <p:spPr>
            <a:xfrm>
              <a:off x="785880" y="2643480"/>
              <a:ext cx="2071800" cy="1214280"/>
            </a:xfrm>
            <a:prstGeom prst="ellipse">
              <a:avLst/>
            </a:prstGeom>
            <a:solidFill>
              <a:srgbClr val="40404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Primitive Serializer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347" name="Group 7"/>
          <p:cNvGrpSpPr/>
          <p:nvPr/>
        </p:nvGrpSpPr>
        <p:grpSpPr>
          <a:xfrm>
            <a:off x="1143000" y="2058480"/>
            <a:ext cx="642960" cy="929160"/>
            <a:chOff x="1143000" y="2058480"/>
            <a:chExt cx="642960" cy="929160"/>
          </a:xfrm>
        </p:grpSpPr>
        <p:grpSp>
          <p:nvGrpSpPr>
            <p:cNvPr id="348" name="Oval 2"/>
            <p:cNvGrpSpPr/>
            <p:nvPr/>
          </p:nvGrpSpPr>
          <p:grpSpPr>
            <a:xfrm>
              <a:off x="1143000" y="2232000"/>
              <a:ext cx="642960" cy="755640"/>
              <a:chOff x="1143000" y="2232000"/>
              <a:chExt cx="642960" cy="755640"/>
            </a:xfrm>
          </p:grpSpPr>
          <p:pic>
            <p:nvPicPr>
              <p:cNvPr id="349" name="Oval 2" descr=""/>
              <p:cNvPicPr/>
              <p:nvPr/>
            </p:nvPicPr>
            <p:blipFill>
              <a:blip r:embed="rId1"/>
              <a:stretch/>
            </p:blipFill>
            <p:spPr>
              <a:xfrm>
                <a:off x="1143000" y="2232000"/>
                <a:ext cx="642960" cy="755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0" name=""/>
              <p:cNvSpPr/>
              <p:nvPr/>
            </p:nvSpPr>
            <p:spPr>
              <a:xfrm>
                <a:off x="1292760" y="2404080"/>
                <a:ext cx="349920" cy="414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cxnSp>
          <p:nvCxnSpPr>
            <p:cNvPr id="351" name="Curved Connector 3"/>
            <p:cNvCxnSpPr>
              <a:endCxn id="349" idx="0"/>
            </p:cNvCxnSpPr>
            <p:nvPr/>
          </p:nvCxnSpPr>
          <p:spPr>
            <a:xfrm rot="5400000">
              <a:off x="1337040" y="2188080"/>
              <a:ext cx="261000" cy="18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9360">
              <a:solidFill>
                <a:srgbClr val="219ac1"/>
              </a:solidFill>
              <a:miter/>
              <a:tailEnd len="med" type="arrow" w="med"/>
            </a:ln>
          </p:spPr>
        </p:cxnSp>
      </p:grpSp>
      <p:grpSp>
        <p:nvGrpSpPr>
          <p:cNvPr id="352" name="Right Arrow 4"/>
          <p:cNvGrpSpPr/>
          <p:nvPr/>
        </p:nvGrpSpPr>
        <p:grpSpPr>
          <a:xfrm>
            <a:off x="2998800" y="2036880"/>
            <a:ext cx="1530360" cy="968400"/>
            <a:chOff x="2998800" y="2036880"/>
            <a:chExt cx="1530360" cy="968400"/>
          </a:xfrm>
        </p:grpSpPr>
        <p:pic>
          <p:nvPicPr>
            <p:cNvPr id="353" name="Right Arrow 4" descr=""/>
            <p:cNvPicPr/>
            <p:nvPr/>
          </p:nvPicPr>
          <p:blipFill>
            <a:blip r:embed="rId2"/>
            <a:stretch/>
          </p:blipFill>
          <p:spPr>
            <a:xfrm>
              <a:off x="2998800" y="2036880"/>
              <a:ext cx="1530360" cy="96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"/>
            <p:cNvSpPr/>
            <p:nvPr/>
          </p:nvSpPr>
          <p:spPr>
            <a:xfrm>
              <a:off x="3086280" y="2327400"/>
              <a:ext cx="116028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5" name="Rectangle 5"/>
          <p:cNvSpPr/>
          <p:nvPr/>
        </p:nvSpPr>
        <p:spPr>
          <a:xfrm>
            <a:off x="5749560" y="2046240"/>
            <a:ext cx="19638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d76fd0"/>
                </a:solidFill>
                <a:latin typeface="Courier New"/>
                <a:ea typeface="Courier New"/>
              </a:rPr>
              <a:t>primitiv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3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  </a:t>
            </a:r>
            <a:r>
              <a:rPr b="1" lang="de-AT" sz="2000" spc="-1" strike="noStrike">
                <a:solidFill>
                  <a:srgbClr val="ffff00"/>
                </a:solidFill>
                <a:latin typeface="Courier New"/>
                <a:ea typeface="Courier New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/</a:t>
            </a:r>
            <a:r>
              <a:rPr b="0" lang="de-AT" sz="1800" spc="-1" strike="noStrike">
                <a:solidFill>
                  <a:srgbClr val="d76fd0"/>
                </a:solidFill>
                <a:latin typeface="Courier New"/>
                <a:ea typeface="Courier New"/>
              </a:rPr>
              <a:t>primitive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Content Placeholder 2"/>
          <p:cNvSpPr/>
          <p:nvPr/>
        </p:nvSpPr>
        <p:spPr>
          <a:xfrm>
            <a:off x="457200" y="4143240"/>
            <a:ext cx="746748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transform betwee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76240" indent="-382680">
              <a:lnSpc>
                <a:spcPct val="10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in-memory obj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76240" indent="-382680">
              <a:lnSpc>
                <a:spcPct val="10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serial format (e.g. XML tex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fixed mapping between formatter </a:t>
            </a:r>
            <a:r>
              <a:rPr b="0" lang="de-AT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</a:t>
            </a: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 typ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76240" indent="-382680">
              <a:lnSpc>
                <a:spcPct val="10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Configuration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specific to output format (e.g. XML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contai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composite serializer (in order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primitive serializ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included in type cach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persistent (</a:t>
            </a:r>
            <a:r>
              <a:rPr b="0" lang="de-AT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ConfigurationService</a:t>
            </a: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default configuration through reflec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Us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6840" y="1600200"/>
            <a:ext cx="8115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std. data types are handle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new classes can use </a:t>
            </a:r>
            <a:r>
              <a:rPr b="0" lang="de-AT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StorableSeriali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add </a:t>
            </a:r>
            <a:r>
              <a:rPr b="0" lang="de-AT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[Storable]</a:t>
            </a:r>
            <a:r>
              <a:rPr b="0" lang="de-A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attribute to fields or properti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1" name="Rectangle 5"/>
          <p:cNvGrpSpPr/>
          <p:nvPr/>
        </p:nvGrpSpPr>
        <p:grpSpPr>
          <a:xfrm>
            <a:off x="706320" y="3456000"/>
            <a:ext cx="3372120" cy="2316240"/>
            <a:chOff x="706320" y="3456000"/>
            <a:chExt cx="3372120" cy="2316240"/>
          </a:xfrm>
        </p:grpSpPr>
        <p:pic>
          <p:nvPicPr>
            <p:cNvPr id="362" name="Rectangle 5" descr=""/>
            <p:cNvPicPr/>
            <p:nvPr/>
          </p:nvPicPr>
          <p:blipFill>
            <a:blip r:embed="rId1"/>
            <a:stretch/>
          </p:blipFill>
          <p:spPr>
            <a:xfrm>
              <a:off x="706320" y="3456000"/>
              <a:ext cx="3372120" cy="231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"/>
            <p:cNvSpPr/>
            <p:nvPr/>
          </p:nvSpPr>
          <p:spPr>
            <a:xfrm>
              <a:off x="714240" y="3460680"/>
              <a:ext cx="33577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class </a:t>
              </a:r>
              <a:r>
                <a:rPr b="0" lang="de-AT" sz="16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ntWrapper 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{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[</a:t>
              </a:r>
              <a:r>
                <a:rPr b="0" lang="de-AT" sz="16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Storable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]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6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rivate int 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Value;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[</a:t>
              </a:r>
              <a:r>
                <a:rPr b="0" lang="de-AT" sz="16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Storable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]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6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</a:t>
              </a:r>
              <a:r>
                <a:rPr b="0" lang="de-AT" sz="1600" spc="-1" strike="noStrike">
                  <a:solidFill>
                    <a:srgbClr val="0070c0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6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string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 Name {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6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get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; </a:t>
              </a:r>
              <a:r>
                <a:rPr b="0" lang="de-AT" sz="16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rivate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6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set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;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}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..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}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4" name="Rectangle 6"/>
          <p:cNvGrpSpPr/>
          <p:nvPr/>
        </p:nvGrpSpPr>
        <p:grpSpPr>
          <a:xfrm>
            <a:off x="4705200" y="3444840"/>
            <a:ext cx="3372120" cy="1182600"/>
            <a:chOff x="4705200" y="3444840"/>
            <a:chExt cx="3372120" cy="1182600"/>
          </a:xfrm>
        </p:grpSpPr>
        <p:pic>
          <p:nvPicPr>
            <p:cNvPr id="365" name="Rectangle 6" descr=""/>
            <p:cNvPicPr/>
            <p:nvPr/>
          </p:nvPicPr>
          <p:blipFill>
            <a:blip r:embed="rId2"/>
            <a:stretch/>
          </p:blipFill>
          <p:spPr>
            <a:xfrm>
              <a:off x="4705200" y="3444840"/>
              <a:ext cx="3372120" cy="118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6" name=""/>
            <p:cNvSpPr/>
            <p:nvPr/>
          </p:nvSpPr>
          <p:spPr>
            <a:xfrm>
              <a:off x="4714920" y="3451320"/>
              <a:ext cx="33573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[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mptyStorableClass</a:t>
              </a:r>
              <a:r>
                <a:rPr b="0" lang="de-AT" sz="14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]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class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NonSerialized </a:t>
              </a:r>
              <a:r>
                <a:rPr b="0" lang="de-AT" sz="14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{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rivate int </a:t>
              </a:r>
              <a:r>
                <a:rPr b="0" lang="de-AT" sz="14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TransientValue;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4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..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7" name="Rectangle 7"/>
          <p:cNvGrpSpPr/>
          <p:nvPr/>
        </p:nvGrpSpPr>
        <p:grpSpPr>
          <a:xfrm>
            <a:off x="4705200" y="5400720"/>
            <a:ext cx="3372120" cy="323640"/>
            <a:chOff x="4705200" y="5400720"/>
            <a:chExt cx="3372120" cy="323640"/>
          </a:xfrm>
        </p:grpSpPr>
        <p:pic>
          <p:nvPicPr>
            <p:cNvPr id="368" name="Rectangle 7" descr=""/>
            <p:cNvPicPr/>
            <p:nvPr/>
          </p:nvPicPr>
          <p:blipFill>
            <a:blip r:embed="rId3"/>
            <a:stretch/>
          </p:blipFill>
          <p:spPr>
            <a:xfrm>
              <a:off x="4705200" y="5400720"/>
              <a:ext cx="3372120" cy="32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9" name=""/>
            <p:cNvSpPr/>
            <p:nvPr/>
          </p:nvSpPr>
          <p:spPr>
            <a:xfrm>
              <a:off x="4714920" y="5407200"/>
              <a:ext cx="335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class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mpty </a:t>
              </a:r>
              <a:r>
                <a:rPr b="0" lang="de-AT" sz="14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{ }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3T07:51:22Z</dcterms:created>
  <dc:creator>Pitzer Erik</dc:creator>
  <dc:description/>
  <dc:language>en-US</dc:language>
  <cp:lastModifiedBy>erik</cp:lastModifiedBy>
  <dcterms:modified xsi:type="dcterms:W3CDTF">2009-05-19T09:22:09Z</dcterms:modified>
  <cp:revision>164</cp:revision>
  <dc:subject/>
  <dc:title>Persistcence 3.3</dc:title>
</cp:coreProperties>
</file>