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89C6-C875-45C6-AA67-F62F9D73C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B119-1BF9-4A36-950B-8EB779C84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8AB7-3FE4-44FE-A755-66E65D178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1440-A9C7-43E9-BF5C-93F68F6D8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88CA-733A-425F-B8C2-C086257D7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0C7A-B07D-422F-B248-33C58C7D4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66E7-6B48-4396-8256-A1411AD91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8E6D-9F31-47B9-A22B-455CCE3EB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5108-E134-4FB8-9901-0C60662AA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B9D5-9360-4AE1-8DC9-C472AC930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E764-358D-489B-9090-22B7C02B6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90E3-F8AF-4584-89FB-081B2D3B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DB1CF-E3C8-4642-9983-2945527B4D4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1B38A-7D04-45AC-A553-526596C9783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762120" y="1500120"/>
            <a:ext cx="7619760" cy="4829400"/>
          </a:xfrm>
          <a:prstGeom prst="rect">
            <a:avLst/>
          </a:prstGeom>
          <a:ln w="0">
            <a:noFill/>
          </a:ln>
        </p:spPr>
      </p:pic>
      <p:sp>
        <p:nvSpPr>
          <p:cNvPr id="79" name="Rechteck 5"/>
          <p:cNvSpPr/>
          <p:nvPr/>
        </p:nvSpPr>
        <p:spPr>
          <a:xfrm>
            <a:off x="857160" y="2571840"/>
            <a:ext cx="6000840" cy="328608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7200" spc="-1" strike="noStrike">
                <a:solidFill>
                  <a:srgbClr val="fac090"/>
                </a:solidFill>
                <a:latin typeface="Calibri"/>
              </a:rPr>
              <a:t>Engin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hteck 6"/>
          <p:cNvSpPr/>
          <p:nvPr/>
        </p:nvSpPr>
        <p:spPr>
          <a:xfrm>
            <a:off x="928800" y="2643120"/>
            <a:ext cx="257148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Operat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Grap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hteck 7"/>
          <p:cNvSpPr/>
          <p:nvPr/>
        </p:nvSpPr>
        <p:spPr>
          <a:xfrm>
            <a:off x="3571920" y="2643120"/>
            <a:ext cx="321480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hteck 9"/>
          <p:cNvSpPr/>
          <p:nvPr/>
        </p:nvSpPr>
        <p:spPr>
          <a:xfrm>
            <a:off x="4572000" y="3357720"/>
            <a:ext cx="3643200" cy="17859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hteck 10"/>
          <p:cNvSpPr/>
          <p:nvPr/>
        </p:nvSpPr>
        <p:spPr>
          <a:xfrm>
            <a:off x="6357960" y="3429000"/>
            <a:ext cx="1785960" cy="1357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ac090"/>
                </a:solidFill>
                <a:latin typeface="Calibri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hteck 11"/>
          <p:cNvSpPr/>
          <p:nvPr/>
        </p:nvSpPr>
        <p:spPr>
          <a:xfrm>
            <a:off x="6429240" y="4214880"/>
            <a:ext cx="1643040" cy="214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fac090"/>
                </a:solidFill>
                <a:latin typeface="Calibri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oliennummernplatzhalt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21D6C-FDF3-42B4-A8FC-9EDC3F875D3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08FCB-A431-404D-8FB7-3EE9F9D14C2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is represented as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objects have to implement IItem (are storable and viewabl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sistence methods have to be impleme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 views can b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spac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euristicLab.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tains several ready to use data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r objects for system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Data, IntArrayData, IntMatrixData, DoubleData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e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temLi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09840" y="4357800"/>
            <a:ext cx="6124320" cy="2286000"/>
          </a:xfrm>
          <a:prstGeom prst="rect">
            <a:avLst/>
          </a:prstGeom>
          <a:ln w="0">
            <a:noFill/>
          </a:ln>
        </p:spPr>
      </p:pic>
      <p:sp>
        <p:nvSpPr>
          <p:cNvPr id="9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E8B05-4650-4386-AA10-EF50FDA1E38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perators manipulate da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ata objects need names to be accessi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Vari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ains name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and data object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ines generic metho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et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o access val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ous events to signal changes (MV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Variable implements IIt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ables themselves can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lues of vari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d for meta-program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e on that later 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57880" y="4286160"/>
            <a:ext cx="3610080" cy="2333880"/>
          </a:xfrm>
          <a:prstGeom prst="rect">
            <a:avLst/>
          </a:prstGeom>
          <a:ln w="0">
            <a:noFill/>
          </a:ln>
        </p:spPr>
      </p:pic>
      <p:sp>
        <p:nvSpPr>
          <p:cNvPr id="9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F9946-967F-4DAA-A76E-86EA5EF388D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s are organized i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Sc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erarchical container of variabl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scop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Scop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several methods to get/add/remove variables and sub-scop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perform recursive variable lookup towards the root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variables with identical names hide variables of parent 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 (MVC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s build an n-ary tre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work o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et variables, manipulate, write bac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619520" y="1428840"/>
            <a:ext cx="4524480" cy="4743360"/>
          </a:xfrm>
          <a:prstGeom prst="rect">
            <a:avLst/>
          </a:prstGeom>
          <a:ln w="0">
            <a:noFill/>
          </a:ln>
        </p:spPr>
      </p:pic>
      <p:sp>
        <p:nvSpPr>
          <p:cNvPr id="10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97C27-B226-4EFA-AFD5-480B13C68E7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represent basic instructions of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manipulate scopes (modify variables and/or sub-scop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decide which operators are executed n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operator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Operator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local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meta-information about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fo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s to manipulate its da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xecut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execute the operator on a specific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methods for conveniant variable lookup (either in the local variables or in the scope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Operator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store references to their successor operators (sub-operato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uild a graph structure (execution graph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84C97-F28E-40D5-AC62-50541D0A810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000160" y="1571760"/>
            <a:ext cx="5667480" cy="4438440"/>
          </a:xfrm>
          <a:prstGeom prst="rect">
            <a:avLst/>
          </a:prstGeom>
          <a:ln w="0">
            <a:noFill/>
          </a:ln>
        </p:spPr>
      </p:pic>
      <p:sp>
        <p:nvSpPr>
          <p:cNvPr id="10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98CB0-9AD7-49A8-B2DA-FD14B6E5518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 Inf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have to be independent of concrete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, functionality of a counter operato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t variable from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crease the variable's value by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rite new variable value back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echanism needed to translate formal variable name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o actual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rmal variable name is used by the operator to identify a variab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ctual variable name is the real name of the variable in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VariableInf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ores meta-information about variabl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ctual name, formal name, data type, description, kind, 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ed by operators to define which variables are requir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operator has to define a variable info object for each variable it requir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ually done in the operator's constructo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ctual names can be set by the user when assembling an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mal/actual name translation is automatically performed when using an operators GetVariableValue metho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357960" y="1500120"/>
            <a:ext cx="2467080" cy="2438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7286760" y="3929040"/>
            <a:ext cx="1552320" cy="1486080"/>
          </a:xfrm>
          <a:prstGeom prst="rect">
            <a:avLst/>
          </a:prstGeom>
          <a:ln w="0">
            <a:noFill/>
          </a:ln>
        </p:spPr>
      </p:pic>
      <p:sp>
        <p:nvSpPr>
          <p:cNvPr id="112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84888-344D-4EF2-A32E-BCF28B3B258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hteck 3"/>
          <p:cNvSpPr/>
          <p:nvPr/>
        </p:nvSpPr>
        <p:spPr>
          <a:xfrm>
            <a:off x="874800" y="2071800"/>
            <a:ext cx="7394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unte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er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ormal n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Counter 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escri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ata ty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 |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)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k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perform formal/actual name trans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.Data++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07B99-5BF0-4905-A043-441B9895EED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store references to their sub-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fter execution operators have to decide which operators are executed nex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o enable step-wise execution and parallelism operators should not directly execute their successor 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that should be executed next and the corresponding scopes are represented as operations and returned to the 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arker interface inherited from IItem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n't contain any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(composite patter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 single oper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on which the operator should be execut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operation consisting of several other operation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 collection of sub-operations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ion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flag to indicate if sub-operations can be executed in parallel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ExecuteInParallel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7134120" y="2643120"/>
            <a:ext cx="2009880" cy="1924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6448320" y="4643280"/>
            <a:ext cx="2695680" cy="1924200"/>
          </a:xfrm>
          <a:prstGeom prst="rect">
            <a:avLst/>
          </a:prstGeom>
          <a:ln w="0">
            <a:noFill/>
          </a:ln>
        </p:spPr>
      </p:pic>
      <p:sp>
        <p:nvSpPr>
          <p:cNvPr id="120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60FE6-4577-4106-A0B2-FF6E02DC93C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ri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o focus on any particular heuristic optimization paradig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problem and solution represent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ug-i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ensive use of graphical user interfaces (WinForm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ep-wise algorithm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active algorithm engineer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lel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gration of parallel algorithm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paration of algorithms and parallelization concep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4C96A-508B-47E2-BB7E-E53A6B23EE8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nditionalBran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hteck 3"/>
          <p:cNvSpPr/>
          <p:nvPr/>
        </p:nvSpPr>
        <p:spPr>
          <a:xfrm>
            <a:off x="581040" y="2071800"/>
            <a:ext cx="79819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nditionalBranch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itionalBranch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Condition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A boolean variable that decides the branch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Data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"Condition"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bool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resultData.Dat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resul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tru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1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als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1C392-6178-4B2C-A4E9-21E1E71F4B2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: SequentialProcessor, UniformParallelSubScopesProcess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hteck 4"/>
          <p:cNvSpPr/>
          <p:nvPr/>
        </p:nvSpPr>
        <p:spPr>
          <a:xfrm>
            <a:off x="581040" y="1989000"/>
            <a:ext cx="798192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SequentialProcessor</a:t>
            </a:r>
            <a:r>
              <a:rPr b="0" lang="de-AT" sz="1200" spc="-1" strike="noStrike">
                <a:solidFill>
                  <a:srgbClr val="4f81b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i = 0; i &lt; SubOperator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SubOperators[i], scope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UniformParallelSubScopesProcesso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ExecuteInParallel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0; i &lt; scope.SubScope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.SubScopes[i]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1C8AC-480D-4C36-BFB8-4835CD1B3F4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g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must not call their successor operators di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 is responsible for operator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s are able to deal with parallelis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or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algorithm (a graph of operator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initial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Initial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list of all operators 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ndles execution of operator graph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graph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global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Global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to start, stop or abort execu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equentialEngin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ThreadParallelEngin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execution start with an empty global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643720" y="3143160"/>
            <a:ext cx="3381120" cy="3533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5643720" y="1428840"/>
            <a:ext cx="3381120" cy="1733400"/>
          </a:xfrm>
          <a:prstGeom prst="rect">
            <a:avLst/>
          </a:prstGeom>
          <a:ln w="0">
            <a:noFill/>
          </a:ln>
        </p:spPr>
      </p:pic>
      <p:sp>
        <p:nvSpPr>
          <p:cNvPr id="131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5CBC4-CE4A-4876-B049-942A3C554D3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uppieren 20"/>
          <p:cNvGrpSpPr/>
          <p:nvPr/>
        </p:nvGrpSpPr>
        <p:grpSpPr>
          <a:xfrm>
            <a:off x="714240" y="2143080"/>
            <a:ext cx="7715520" cy="3571920"/>
            <a:chOff x="714240" y="2143080"/>
            <a:chExt cx="7715520" cy="3571920"/>
          </a:xfrm>
        </p:grpSpPr>
        <p:sp>
          <p:nvSpPr>
            <p:cNvPr id="134" name="Rechteck 22"/>
            <p:cNvSpPr/>
            <p:nvPr/>
          </p:nvSpPr>
          <p:spPr>
            <a:xfrm>
              <a:off x="714240" y="5357880"/>
              <a:ext cx="7715520" cy="357120"/>
            </a:xfrm>
            <a:prstGeom prst="rect">
              <a:avLst/>
            </a:prstGeom>
            <a:solidFill>
              <a:srgbClr val="7f7f7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.NET 2.0 / 3.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hteck 23"/>
            <p:cNvSpPr/>
            <p:nvPr/>
          </p:nvSpPr>
          <p:spPr>
            <a:xfrm>
              <a:off x="714240" y="5000760"/>
              <a:ext cx="7715520" cy="357120"/>
            </a:xfrm>
            <a:prstGeom prst="rect">
              <a:avLst/>
            </a:prstGeom>
            <a:solidFill>
              <a:srgbClr val="254061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lugin Infrastructu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hteck 24"/>
            <p:cNvSpPr/>
            <p:nvPr/>
          </p:nvSpPr>
          <p:spPr>
            <a:xfrm>
              <a:off x="714240" y="4643640"/>
              <a:ext cx="771552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hteck 25"/>
            <p:cNvSpPr/>
            <p:nvPr/>
          </p:nvSpPr>
          <p:spPr>
            <a:xfrm>
              <a:off x="714240" y="428616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hteck 26"/>
            <p:cNvSpPr/>
            <p:nvPr/>
          </p:nvSpPr>
          <p:spPr>
            <a:xfrm>
              <a:off x="714240" y="392904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nstrain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hteck 27"/>
            <p:cNvSpPr/>
            <p:nvPr/>
          </p:nvSpPr>
          <p:spPr>
            <a:xfrm>
              <a:off x="714240" y="357192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Operator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Rechteck 28"/>
            <p:cNvSpPr/>
            <p:nvPr/>
          </p:nvSpPr>
          <p:spPr>
            <a:xfrm>
              <a:off x="528660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quentia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hteck 29"/>
            <p:cNvSpPr/>
            <p:nvPr/>
          </p:nvSpPr>
          <p:spPr>
            <a:xfrm>
              <a:off x="685836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hreadParalle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hteck 30"/>
            <p:cNvSpPr/>
            <p:nvPr/>
          </p:nvSpPr>
          <p:spPr>
            <a:xfrm>
              <a:off x="207144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Rechteck 31"/>
            <p:cNvSpPr/>
            <p:nvPr/>
          </p:nvSpPr>
          <p:spPr>
            <a:xfrm>
              <a:off x="421488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Loggi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Rechteck 32"/>
            <p:cNvSpPr/>
            <p:nvPr/>
          </p:nvSpPr>
          <p:spPr>
            <a:xfrm>
              <a:off x="714240" y="321444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volutionar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hteck 33"/>
            <p:cNvSpPr/>
            <p:nvPr/>
          </p:nvSpPr>
          <p:spPr>
            <a:xfrm>
              <a:off x="714240" y="285732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echteck 34"/>
            <p:cNvSpPr/>
            <p:nvPr/>
          </p:nvSpPr>
          <p:spPr>
            <a:xfrm>
              <a:off x="314316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Random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hteck 35"/>
            <p:cNvSpPr/>
            <p:nvPr/>
          </p:nvSpPr>
          <p:spPr>
            <a:xfrm>
              <a:off x="714240" y="250020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S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hteck 36"/>
            <p:cNvSpPr/>
            <p:nvPr/>
          </p:nvSpPr>
          <p:spPr>
            <a:xfrm>
              <a:off x="2071440" y="2143080"/>
              <a:ext cx="4786560" cy="357120"/>
            </a:xfrm>
            <a:prstGeom prst="rect">
              <a:avLst/>
            </a:prstGeom>
            <a:solidFill>
              <a:srgbClr val="dce6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G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Foliennummernplatzhalter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12049-82CE-4F5C-BB77-DBEF1CC1A30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714840"/>
            <a:ext cx="822960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plugin can contain multiple files (assemblies, data files, images, icons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s may depend on each oth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eta-data (descriptions, dependencies, etc.) are stored in the code files (attribut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XML description file like in HeuristicLab 2.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infrastructure enables drop-in installation (similar to eclips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hteck 3"/>
          <p:cNvSpPr/>
          <p:nvPr/>
        </p:nvSpPr>
        <p:spPr>
          <a:xfrm>
            <a:off x="820800" y="1285920"/>
            <a:ext cx="750240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using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HeuristicLab.PluginInfrastructure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namespac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MyProject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ClassInfo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 Project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Vers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0.99.0.0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Descript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Just an example plugin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Project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ZipLibrary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Database.db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Data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Data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Random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public class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MyProjectPlugin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: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Bas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CF75B-F58E-40F4-98A6-CB0E9B66CF5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pired by Debian package managem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are deployed as ZIP arch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 manager minds depend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quired plugins are automatically install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ependent plugins are automatically remov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-based updating of plug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can be installed and removed at run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ach application has its own application domai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072040" y="1571760"/>
            <a:ext cx="3838680" cy="4647960"/>
          </a:xfrm>
          <a:prstGeom prst="rect">
            <a:avLst/>
          </a:prstGeom>
          <a:ln w="0">
            <a:noFill/>
          </a:ln>
        </p:spPr>
      </p:pic>
      <p:sp>
        <p:nvSpPr>
          <p:cNvPr id="5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4D000-D1F6-487A-B0C1-E7370A0319F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ic 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Stor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unique identifier (GUID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u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ui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{ get; }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clon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IDictionary&lt;Guid, object&gt; clon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persisting to and restoring from XM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mlNode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etXmlNod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string name, XMLDocument document, IDictionary&lt;Guid, IStorable&gt; persistedObjects&gt;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o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opulat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XmlNode node, IDictionary&lt;Guid, IStorable&gt; restor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torableBas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ultiple references to a single object are handled cor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yclical object graphs can be cloned or persisted automatic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ep cloning is used by defaul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509840" y="4857840"/>
            <a:ext cx="6124320" cy="1876320"/>
          </a:xfrm>
          <a:prstGeom prst="rect">
            <a:avLst/>
          </a:prstGeom>
          <a:ln w="0">
            <a:noFill/>
          </a:ln>
        </p:spPr>
      </p:pic>
      <p:sp>
        <p:nvSpPr>
          <p:cNvPr id="5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B5436-369E-4FD5-8E77-9E7D5CD911D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ersistenceMana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auxiliary methods for persist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a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write IStorable to or to restore it from d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si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to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tart persisting or restoring of single IStor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default type names are used as XML ta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ist offers parameter (name) to specify some other name as XML t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1281240" y="4714920"/>
            <a:ext cx="6581520" cy="1828800"/>
          </a:xfrm>
          <a:prstGeom prst="rect">
            <a:avLst/>
          </a:prstGeom>
          <a:ln w="0">
            <a:noFill/>
          </a:ln>
        </p:spPr>
      </p:pic>
      <p:sp>
        <p:nvSpPr>
          <p:cNvPr id="6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0DAD6-DA5C-4F47-885A-3BF8ECF6F70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uxili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uxiliary method for clo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to start cloning of a single IStorab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ecks if cloning is necessary or if object has already been clo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several other methods for showing error mess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hods of PersistenceManager and Auxiliary have to be used to enable correct persisting / cloning of cyclical object grap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738440" y="4429080"/>
            <a:ext cx="5667120" cy="1981080"/>
          </a:xfrm>
          <a:prstGeom prst="rect">
            <a:avLst/>
          </a:prstGeom>
          <a:ln w="0">
            <a:noFill/>
          </a:ln>
        </p:spPr>
      </p:pic>
      <p:sp>
        <p:nvSpPr>
          <p:cNvPr id="6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A4190-9D0C-43DF-A96C-E15C6DD7EFC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rsistence code in class TSPTou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ample XML snipp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hteck 5"/>
          <p:cNvSpPr/>
          <p:nvPr/>
        </p:nvSpPr>
        <p:spPr>
          <a:xfrm>
            <a:off x="285840" y="250020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Node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et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string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Document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ersist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 =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XmlNode(name, document, persist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Coordinates", Coordinates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Tour", Tour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Populat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restor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opulate(node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Coordinates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DoubleMatrixData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Coordinates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Tour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mutatio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Tour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hteck 7"/>
          <p:cNvSpPr/>
          <p:nvPr/>
        </p:nvSpPr>
        <p:spPr>
          <a:xfrm>
            <a:off x="142920" y="5000760"/>
            <a:ext cx="8858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jector Type="HeuristicLab.Operators.VariableInjector, HeuristicLab.Operators" GUID="65e6153d-18a6-4a9a-9b04-77732e8612b6"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                                                 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="VariableInjector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ubOperator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fo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d971503d-2ed0-43b2-bc6b-1bce4676dc51" Name="PopulationSize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0f36459e-1910-4852-91a6-ec37a9767df7"&gt;10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cb899fcb-76c3-4f86-9699-91cb6ee62420" Name="EvaluatedSolutions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4bd5b9ae-4ee2-4063-8e17-37972eae50b7"&gt;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Injector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6072120" y="1000080"/>
            <a:ext cx="2924280" cy="1495440"/>
          </a:xfrm>
          <a:prstGeom prst="rect">
            <a:avLst/>
          </a:prstGeom>
          <a:ln w="0">
            <a:noFill/>
          </a:ln>
        </p:spPr>
      </p:pic>
      <p:sp>
        <p:nvSpPr>
          <p:cNvPr id="71" name="Foliennummernplatzhalt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0EFD5-911F-40CD-BDA0-7DB6DD50A7D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s IStorable and IView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e class for (almost) every HeuristicLab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ta, variables, operators, engines, 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ev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Fire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fire Changed event manu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s to be called if contained complex objects are changed and don't provide an event-based notification (arrays, e.g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tem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View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reateView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for creating a view for an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usually a view is a Windows Forms contro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iew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objects implementing IItem can be shown on the user interface (GU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ews of complex objects can be assembled using views of their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ict use of MVC patter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7000920" y="1143000"/>
            <a:ext cx="1781280" cy="1647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7000920" y="3571920"/>
            <a:ext cx="1781280" cy="1076400"/>
          </a:xfrm>
          <a:prstGeom prst="rect">
            <a:avLst/>
          </a:prstGeom>
          <a:ln w="0">
            <a:noFill/>
          </a:ln>
        </p:spPr>
      </p:pic>
      <p:sp>
        <p:nvSpPr>
          <p:cNvPr id="76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971C0-D4D1-48E7-ABA8-F34A3D93B4A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8T19:57:49Z</dcterms:modified>
  <cp:revision>62</cp:revision>
  <dc:subject/>
  <dc:title>HeuristicLab 3.0</dc:title>
</cp:coreProperties>
</file>