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0AA52-7B72-4B9C-8FAB-168FD3C70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17576-1C6B-44E6-AFCE-95E29B086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82FB0-B6ED-44C3-8FB6-5C4CF3AF4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26B9F-4FAF-4A6A-A28B-1D7630817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3E571-D652-40CD-9CFD-927D4579E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AC5F5-ED5F-4A18-9E44-12AE477B3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CD4A4-01AA-4D14-A26E-E26D34E1F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CE399-BE1A-43BF-9970-FA2F3F9B5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39D69-B3BA-4741-9F91-FEB43E8FB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7B55F-07EE-447C-9509-3CE2265FC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6E9D7-959B-4CEB-85A8-960F2A270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FD68F-124D-401C-95DB-5FFD21372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A091B-5FAE-4C67-BD21-20287C5441D3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7C3F1-F7A6-4DFE-AE3C-782DF2C479FB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HeuristicLab 3.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898989"/>
                </a:solidFill>
                <a:latin typeface="Calibri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3" descr=""/>
          <p:cNvPicPr/>
          <p:nvPr/>
        </p:nvPicPr>
        <p:blipFill>
          <a:blip r:embed="rId1"/>
          <a:stretch/>
        </p:blipFill>
        <p:spPr>
          <a:xfrm>
            <a:off x="762120" y="1500120"/>
            <a:ext cx="7619760" cy="4829400"/>
          </a:xfrm>
          <a:prstGeom prst="rect">
            <a:avLst/>
          </a:prstGeom>
          <a:ln w="0">
            <a:noFill/>
          </a:ln>
        </p:spPr>
      </p:pic>
      <p:sp>
        <p:nvSpPr>
          <p:cNvPr id="79" name="Rechteck 5"/>
          <p:cNvSpPr/>
          <p:nvPr/>
        </p:nvSpPr>
        <p:spPr>
          <a:xfrm>
            <a:off x="857160" y="2571840"/>
            <a:ext cx="6000840" cy="328608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7200" spc="-1" strike="noStrike">
                <a:solidFill>
                  <a:srgbClr val="fac090"/>
                </a:solidFill>
                <a:latin typeface="Calibri"/>
              </a:rPr>
              <a:t>Engine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Rechteck 6"/>
          <p:cNvSpPr/>
          <p:nvPr/>
        </p:nvSpPr>
        <p:spPr>
          <a:xfrm>
            <a:off x="928800" y="2643120"/>
            <a:ext cx="2571480" cy="271476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800" spc="-1" strike="noStrike">
                <a:solidFill>
                  <a:srgbClr val="fac090"/>
                </a:solidFill>
                <a:latin typeface="Calibri"/>
              </a:rPr>
              <a:t>Operator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800" spc="-1" strike="noStrike">
                <a:solidFill>
                  <a:srgbClr val="fac090"/>
                </a:solidFill>
                <a:latin typeface="Calibri"/>
              </a:rPr>
              <a:t>Graph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Rechteck 7"/>
          <p:cNvSpPr/>
          <p:nvPr/>
        </p:nvSpPr>
        <p:spPr>
          <a:xfrm>
            <a:off x="3571920" y="2643120"/>
            <a:ext cx="3214800" cy="271476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800" spc="-1" strike="noStrike">
                <a:solidFill>
                  <a:srgbClr val="fac090"/>
                </a:solidFill>
                <a:latin typeface="Calibri"/>
              </a:rPr>
              <a:t>Scop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Rechteck 9"/>
          <p:cNvSpPr/>
          <p:nvPr/>
        </p:nvSpPr>
        <p:spPr>
          <a:xfrm>
            <a:off x="4572000" y="3357720"/>
            <a:ext cx="3643200" cy="178596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800" spc="-1" strike="noStrike">
                <a:solidFill>
                  <a:srgbClr val="fac090"/>
                </a:solidFill>
                <a:latin typeface="Calibri"/>
              </a:rPr>
              <a:t>Scop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Rechteck 10"/>
          <p:cNvSpPr/>
          <p:nvPr/>
        </p:nvSpPr>
        <p:spPr>
          <a:xfrm>
            <a:off x="6357960" y="3429000"/>
            <a:ext cx="1785960" cy="135720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200" spc="-1" strike="noStrike">
                <a:solidFill>
                  <a:srgbClr val="fac090"/>
                </a:solidFill>
                <a:latin typeface="Calibri"/>
              </a:rPr>
              <a:t>Vari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Rechteck 11"/>
          <p:cNvSpPr/>
          <p:nvPr/>
        </p:nvSpPr>
        <p:spPr>
          <a:xfrm>
            <a:off x="6429240" y="4214880"/>
            <a:ext cx="1643040" cy="21420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600" spc="-1" strike="noStrike">
                <a:solidFill>
                  <a:srgbClr val="fac090"/>
                </a:solidFill>
                <a:latin typeface="Calibri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Foliennummernplatzhalter 1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5FD5A-54B8-44A0-A4E9-0B263C04ADB2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ing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hat is an algorithm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3 main aspec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truc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quence of exec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ul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e have to mod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perators modifying da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raphs of operators representing the sequence of exec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hteck 3"/>
          <p:cNvSpPr/>
          <p:nvPr/>
        </p:nvSpPr>
        <p:spPr>
          <a:xfrm>
            <a:off x="392040" y="2071800"/>
            <a:ext cx="835992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"A finite set of unambiguous instructions performed in a prescribed sequence to achieve a goal, especially a mathematical rule or procedure used to compute a desired result. Algorithms are the basis for most computer programming."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© The American Heritage Dictionary of the English Languag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97D51-BC88-4532-B0A4-11C7E94555DF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a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31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ata is represented as obje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ata objects have to implement IItem (are storable and viewable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ersistence methods have to be implement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ustom views can be provid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amespac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HeuristicLab.Data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contains several ready to use data obje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rapper objects for system ty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Data, IntArrayData, IntMatrixData, DoubleData, …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llec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temLi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1509840" y="4357800"/>
            <a:ext cx="6124320" cy="2286000"/>
          </a:xfrm>
          <a:prstGeom prst="rect">
            <a:avLst/>
          </a:prstGeom>
          <a:ln w="0">
            <a:noFill/>
          </a:ln>
        </p:spPr>
      </p:pic>
      <p:sp>
        <p:nvSpPr>
          <p:cNvPr id="93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AD241-2182-4765-A013-78E47DEA5C9D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ariab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operators manipulate data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data objects need names to be accessibl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3" marL="1584000" indent="-226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IVariabl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ntains name (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 and data object (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Valu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fines generic method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GetValu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to access valu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arious events to signal changes (MVC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Variabl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584000" indent="-226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IVariable implements IItem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ariables themselves can be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alues of variabl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quired for meta-programm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ore on that later …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5357880" y="4286160"/>
            <a:ext cx="3610080" cy="2333880"/>
          </a:xfrm>
          <a:prstGeom prst="rect">
            <a:avLst/>
          </a:prstGeom>
          <a:ln w="0">
            <a:noFill/>
          </a:ln>
        </p:spPr>
      </p:pic>
      <p:sp>
        <p:nvSpPr>
          <p:cNvPr id="97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A4286-B5D9-4355-943D-0ED2A16BA65B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op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6840" y="1600200"/>
            <a:ext cx="4257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s are organized in sco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Scop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ierarchical container of variabl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variable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ariable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sub-scope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ubScope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several methods to get/add/remove variables and sub-scop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GetVariableValue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to perform recursive variable lookup towards the root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variables with identical names hide variables of parent scope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vents to signal changes (MVC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copes build an n-ary tree structu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work on sco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get variables, manipulate, write back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4619520" y="1428840"/>
            <a:ext cx="4524480" cy="4743360"/>
          </a:xfrm>
          <a:prstGeom prst="rect">
            <a:avLst/>
          </a:prstGeom>
          <a:ln w="0">
            <a:noFill/>
          </a:ln>
        </p:spPr>
      </p:pic>
      <p:sp>
        <p:nvSpPr>
          <p:cNvPr id="101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F3D14-AD88-4467-B690-07A4007C58E7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era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represent basic instructions of algorithm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manipulate scopes (modify variables and/or sub-scope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decide which operators are executed n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Operat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sub-operator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ubOperator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local variable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ariable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meta-information about variable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ariableInfo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s to manipulate its data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vents to signal chang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Execute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to execute the operator on a specific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GetVariableValue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methods for conveniant variable lookup (either in the local variables or in the scope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ed by abstract base 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OperatorBas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store references to their successor operators (sub-operator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build a graph structure (execution graph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5F57B-A0CA-4545-9361-9D136FED13FA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era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2000160" y="1571760"/>
            <a:ext cx="5667480" cy="4438440"/>
          </a:xfrm>
          <a:prstGeom prst="rect">
            <a:avLst/>
          </a:prstGeom>
          <a:ln w="0">
            <a:noFill/>
          </a:ln>
        </p:spPr>
      </p:pic>
      <p:sp>
        <p:nvSpPr>
          <p:cNvPr id="107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E3BBB-9C3E-4416-AE28-A9673A2A80DD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ariable Inf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perators have to be independent of concrete variable nam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for example, functionality of a counter operator: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get variable from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ncrease the variable's value by 1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write new variable value back into the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mechanism needed to translate formal variable names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o actual variable nam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rmal variable name is used by the operator to identify a variabl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actual variable name is the real name of the variable in the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VariableInfo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tores meta-information about variable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actual name, formal name, data type, description, kind, …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used by operators to define which variables are required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ach operator has to define a variable info object for each variable it requir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usually done in the operator's constructor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actual names can be set by the user when assembling an algorith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formal/actual name translation is automatically performed when using an operators GetVariableValue method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6357960" y="1500120"/>
            <a:ext cx="2467080" cy="24386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3" descr=""/>
          <p:cNvPicPr/>
          <p:nvPr/>
        </p:nvPicPr>
        <p:blipFill>
          <a:blip r:embed="rId2"/>
          <a:stretch/>
        </p:blipFill>
        <p:spPr>
          <a:xfrm>
            <a:off x="7286760" y="3929040"/>
            <a:ext cx="1552320" cy="1486080"/>
          </a:xfrm>
          <a:prstGeom prst="rect">
            <a:avLst/>
          </a:prstGeom>
          <a:ln w="0">
            <a:noFill/>
          </a:ln>
        </p:spPr>
      </p:pic>
      <p:sp>
        <p:nvSpPr>
          <p:cNvPr id="112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9014D-CEE5-4C47-B997-B9E88B7541F1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: Coun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Rechteck 3"/>
          <p:cNvSpPr/>
          <p:nvPr/>
        </p:nvSpPr>
        <p:spPr>
          <a:xfrm>
            <a:off x="874800" y="2071800"/>
            <a:ext cx="739440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class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unter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: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OperatorBas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ounter(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VariableInfo(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Info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f79646"/>
                </a:solidFill>
                <a:latin typeface="Courier New"/>
                <a:ea typeface="Courier New"/>
              </a:rPr>
              <a:t>"Value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                     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formal na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</a:t>
            </a:r>
            <a:r>
              <a:rPr b="0" lang="de-AT" sz="1200" spc="-1" strike="noStrike">
                <a:solidFill>
                  <a:srgbClr val="f79646"/>
                </a:solidFill>
                <a:latin typeface="Courier New"/>
                <a:ea typeface="Courier New"/>
              </a:rPr>
              <a:t>"Counter value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             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descrip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ypeof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ntData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,                   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data typ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Kind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In |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Kind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Out)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ki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pply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Scop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cope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perform formal/actual name transl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ntData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 = GetVariableValue&lt;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ntData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(</a:t>
            </a:r>
            <a:r>
              <a:rPr b="0" lang="de-AT" sz="1200" spc="-1" strike="noStrike">
                <a:solidFill>
                  <a:srgbClr val="f79646"/>
                </a:solidFill>
                <a:latin typeface="Courier New"/>
                <a:ea typeface="Courier New"/>
              </a:rPr>
              <a:t>"Value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scope,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ru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.Data++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 null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6203C-850A-41A7-BF3F-C3A3E3B30E79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er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6840" y="1600200"/>
            <a:ext cx="6543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perators store references to their sub-operator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after execution operators have to decide which operators are executed nex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o enable step-wise execution and parallelism operators should not directly execute their successor operator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perators that should be executed next and the corresponding scopes are represented as operations and returned to the engin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Oper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marker interface inherited from IItem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oesn't contain anything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AtomicOperation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CompositeOperation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(composite pattern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AtomicOper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represents a single operation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an operator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or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 and a scope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Scope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 on which the operator should be executed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CompositeOper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represents an operation consisting of several other operation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a collection of sub-operations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ions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flag to indicate if sub-operations can be executed in parallel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ExecuteInParallel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7" descr=""/>
          <p:cNvPicPr/>
          <p:nvPr/>
        </p:nvPicPr>
        <p:blipFill>
          <a:blip r:embed="rId1"/>
          <a:stretch/>
        </p:blipFill>
        <p:spPr>
          <a:xfrm>
            <a:off x="7134120" y="2643120"/>
            <a:ext cx="2009880" cy="19242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9" descr=""/>
          <p:cNvPicPr/>
          <p:nvPr/>
        </p:nvPicPr>
        <p:blipFill>
          <a:blip r:embed="rId2"/>
          <a:stretch/>
        </p:blipFill>
        <p:spPr>
          <a:xfrm>
            <a:off x="6448320" y="4643280"/>
            <a:ext cx="2695680" cy="1924200"/>
          </a:xfrm>
          <a:prstGeom prst="rect">
            <a:avLst/>
          </a:prstGeom>
          <a:ln w="0">
            <a:noFill/>
          </a:ln>
        </p:spPr>
      </p:pic>
      <p:sp>
        <p:nvSpPr>
          <p:cNvPr id="120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01FA9-1DFE-4170-A739-9ABEB8807828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eneric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no focus on any particular heuristic optimization paradig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uitable for any kind of algorith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uitable for any kind of problem and solution represent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dular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lug-in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abil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xtensive use of graphical user interfaces (WinForms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tep-wise algorithm execu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active algorithm engineering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rallelis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gration of parallel algorithm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eparation of algorithms and parallelization concep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48B81-34EB-47A2-A6F3-4EE863322D56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: ConditionalBranc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Rechteck 3"/>
          <p:cNvSpPr/>
          <p:nvPr/>
        </p:nvSpPr>
        <p:spPr>
          <a:xfrm>
            <a:off x="581040" y="2071800"/>
            <a:ext cx="79819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class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nditionalBranch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OperatorBase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onditionalBranch(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VariableInfo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Info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c0504d"/>
                </a:solidFill>
                <a:latin typeface="Courier New"/>
                <a:ea typeface="Courier New"/>
              </a:rPr>
              <a:t>"Condition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</a:t>
            </a:r>
            <a:r>
              <a:rPr b="0" lang="de-AT" sz="1200" spc="-1" strike="noStrike">
                <a:solidFill>
                  <a:srgbClr val="c0504d"/>
                </a:solidFill>
                <a:latin typeface="Courier New"/>
                <a:ea typeface="Courier New"/>
              </a:rPr>
              <a:t>"A boolean variable that decides the branch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ypeof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BoolData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Kind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In)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Operation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pply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Scop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cope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BoolData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Data = GetVariableValue&lt;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BoolData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("Condition", scope,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ru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bool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 = resultData.Data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if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resul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Atomic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SubOperators[0], scope);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true bran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el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Atomic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SubOperators[1], scope);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false bran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 null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E7E5A-0EE6-4BA8-A742-0C6287AFE9DB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ample: SequentialProcessor, UniformParallelSubScopesProcesso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Rechteck 4"/>
          <p:cNvSpPr/>
          <p:nvPr/>
        </p:nvSpPr>
        <p:spPr>
          <a:xfrm>
            <a:off x="581040" y="1989000"/>
            <a:ext cx="798192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class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SequentialProcessor</a:t>
            </a:r>
            <a:r>
              <a:rPr b="0" lang="de-AT" sz="1200" spc="-1" strike="noStrike">
                <a:solidFill>
                  <a:srgbClr val="4f81b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: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OperatorBas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Apply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Scop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scope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mposite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next =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mposite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for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int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i = 0; i &lt; SubOperators.Count; i++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next.AddOperation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Atomic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(SubOperators[i], scope)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nex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class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UniformParallelSubScopesProcessor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: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OperatorBase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Operation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pply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Scop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cope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mposite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xt =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mposite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xt.ExecuteInParallel =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ru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for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int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 = 0; i &lt; scope.SubScopes.Count; i++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xt.AddOperation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Atomic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SubOperators[0], scope.SubScopes[i])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x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6B493-0ECA-40B5-9F1E-1E49927A3A77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ngin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5400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perators must not call their successor operators directl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ngine is responsible for operator execu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ngines are able to deal with parallelis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OperatorGrap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represents an algorithm (a graph of operators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an initial operator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InitialOperator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 and a list of all operators 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ors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orGraph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Engin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handles execution of operator graph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an operator graph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orGraph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 and a global scope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GlobalScope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fines methods to start, stop or abort execution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SequentialEngine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ThreadParallelEngin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ach execution start with an empty global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5643720" y="3143160"/>
            <a:ext cx="3381120" cy="35337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4" descr=""/>
          <p:cNvPicPr/>
          <p:nvPr/>
        </p:nvPicPr>
        <p:blipFill>
          <a:blip r:embed="rId2"/>
          <a:stretch/>
        </p:blipFill>
        <p:spPr>
          <a:xfrm>
            <a:off x="5643720" y="1428840"/>
            <a:ext cx="3381120" cy="1733400"/>
          </a:xfrm>
          <a:prstGeom prst="rect">
            <a:avLst/>
          </a:prstGeom>
          <a:ln w="0">
            <a:noFill/>
          </a:ln>
        </p:spPr>
      </p:pic>
      <p:sp>
        <p:nvSpPr>
          <p:cNvPr id="131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52DD2-D139-4A99-9220-B760ADD29C73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3" name="Gruppieren 20"/>
          <p:cNvGrpSpPr/>
          <p:nvPr/>
        </p:nvGrpSpPr>
        <p:grpSpPr>
          <a:xfrm>
            <a:off x="714240" y="2143080"/>
            <a:ext cx="7715520" cy="3571920"/>
            <a:chOff x="714240" y="2143080"/>
            <a:chExt cx="7715520" cy="3571920"/>
          </a:xfrm>
        </p:grpSpPr>
        <p:sp>
          <p:nvSpPr>
            <p:cNvPr id="134" name="Rechteck 22"/>
            <p:cNvSpPr/>
            <p:nvPr/>
          </p:nvSpPr>
          <p:spPr>
            <a:xfrm>
              <a:off x="714240" y="5357880"/>
              <a:ext cx="7715520" cy="357120"/>
            </a:xfrm>
            <a:prstGeom prst="rect">
              <a:avLst/>
            </a:prstGeom>
            <a:solidFill>
              <a:srgbClr val="7f7f7f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.NET 2.0 / 3.5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Rechteck 23"/>
            <p:cNvSpPr/>
            <p:nvPr/>
          </p:nvSpPr>
          <p:spPr>
            <a:xfrm>
              <a:off x="714240" y="5000760"/>
              <a:ext cx="7715520" cy="357120"/>
            </a:xfrm>
            <a:prstGeom prst="rect">
              <a:avLst/>
            </a:prstGeom>
            <a:solidFill>
              <a:srgbClr val="254061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Plugin Infrastructur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Rechteck 24"/>
            <p:cNvSpPr/>
            <p:nvPr/>
          </p:nvSpPr>
          <p:spPr>
            <a:xfrm>
              <a:off x="714240" y="4643640"/>
              <a:ext cx="7715520" cy="357120"/>
            </a:xfrm>
            <a:prstGeom prst="rect">
              <a:avLst/>
            </a:prstGeom>
            <a:solidFill>
              <a:srgbClr val="37609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Cor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Rechteck 25"/>
            <p:cNvSpPr/>
            <p:nvPr/>
          </p:nvSpPr>
          <p:spPr>
            <a:xfrm>
              <a:off x="714240" y="4286160"/>
              <a:ext cx="4572360" cy="357120"/>
            </a:xfrm>
            <a:prstGeom prst="rect">
              <a:avLst/>
            </a:prstGeom>
            <a:solidFill>
              <a:srgbClr val="37609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Data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Rechteck 26"/>
            <p:cNvSpPr/>
            <p:nvPr/>
          </p:nvSpPr>
          <p:spPr>
            <a:xfrm>
              <a:off x="714240" y="3929040"/>
              <a:ext cx="4572360" cy="357120"/>
            </a:xfrm>
            <a:prstGeom prst="rect">
              <a:avLst/>
            </a:prstGeom>
            <a:solidFill>
              <a:srgbClr val="37609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Constraint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Rechteck 27"/>
            <p:cNvSpPr/>
            <p:nvPr/>
          </p:nvSpPr>
          <p:spPr>
            <a:xfrm>
              <a:off x="714240" y="3571920"/>
              <a:ext cx="4572360" cy="357120"/>
            </a:xfrm>
            <a:prstGeom prst="rect">
              <a:avLst/>
            </a:prstGeom>
            <a:solidFill>
              <a:srgbClr val="37609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Operator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Rechteck 28"/>
            <p:cNvSpPr/>
            <p:nvPr/>
          </p:nvSpPr>
          <p:spPr>
            <a:xfrm>
              <a:off x="5286600" y="2500200"/>
              <a:ext cx="1571400" cy="2143080"/>
            </a:xfrm>
            <a:prstGeom prst="rect">
              <a:avLst/>
            </a:prstGeom>
            <a:solidFill>
              <a:srgbClr val="31859c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Sequential</a:t>
              </a:r>
              <a:br>
                <a:rPr sz="1600"/>
              </a:b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Engin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Rechteck 29"/>
            <p:cNvSpPr/>
            <p:nvPr/>
          </p:nvSpPr>
          <p:spPr>
            <a:xfrm>
              <a:off x="6858360" y="2500200"/>
              <a:ext cx="1571400" cy="2143080"/>
            </a:xfrm>
            <a:prstGeom prst="rect">
              <a:avLst/>
            </a:prstGeom>
            <a:solidFill>
              <a:srgbClr val="31859c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ThreadParallel</a:t>
              </a:r>
              <a:br>
                <a:rPr sz="1600"/>
              </a:b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Engin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Rechteck 30"/>
            <p:cNvSpPr/>
            <p:nvPr/>
          </p:nvSpPr>
          <p:spPr>
            <a:xfrm>
              <a:off x="2071440" y="2500200"/>
              <a:ext cx="1071360" cy="107136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Selection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Rechteck 31"/>
            <p:cNvSpPr/>
            <p:nvPr/>
          </p:nvSpPr>
          <p:spPr>
            <a:xfrm>
              <a:off x="4214880" y="2500200"/>
              <a:ext cx="1071360" cy="107136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Logging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Rechteck 32"/>
            <p:cNvSpPr/>
            <p:nvPr/>
          </p:nvSpPr>
          <p:spPr>
            <a:xfrm>
              <a:off x="714240" y="3214440"/>
              <a:ext cx="1357200" cy="35712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Evolutionary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" name="Rechteck 33"/>
            <p:cNvSpPr/>
            <p:nvPr/>
          </p:nvSpPr>
          <p:spPr>
            <a:xfrm>
              <a:off x="714240" y="2857320"/>
              <a:ext cx="1357200" cy="35712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Rechteck 34"/>
            <p:cNvSpPr/>
            <p:nvPr/>
          </p:nvSpPr>
          <p:spPr>
            <a:xfrm>
              <a:off x="3143160" y="2500200"/>
              <a:ext cx="1071360" cy="107136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Random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Rechteck 35"/>
            <p:cNvSpPr/>
            <p:nvPr/>
          </p:nvSpPr>
          <p:spPr>
            <a:xfrm>
              <a:off x="714240" y="2500200"/>
              <a:ext cx="1357200" cy="35712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TSP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Rechteck 36"/>
            <p:cNvSpPr/>
            <p:nvPr/>
          </p:nvSpPr>
          <p:spPr>
            <a:xfrm>
              <a:off x="2071440" y="2143080"/>
              <a:ext cx="4786560" cy="357120"/>
            </a:xfrm>
            <a:prstGeom prst="rect">
              <a:avLst/>
            </a:prstGeom>
            <a:solidFill>
              <a:srgbClr val="dce6f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SGA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9" name="Foliennummernplatzhalter 1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8F6B9-E8B2-43B7-84ED-73977549EB40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Demonst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Plugin Infrastru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3714840"/>
            <a:ext cx="8229600" cy="24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 plugin can contain multiple files (assemblies, data files, images, icons, …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ugins may depend on each oth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ugin meta-data (descriptions, dependencies, etc.) are stored in the code files (attribut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o XML description file like in HeuristicLab 2.0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ugin infrastructure enables drop-in installation (similar to eclipse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hteck 3"/>
          <p:cNvSpPr/>
          <p:nvPr/>
        </p:nvSpPr>
        <p:spPr>
          <a:xfrm>
            <a:off x="820800" y="1285920"/>
            <a:ext cx="7502400" cy="22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ProFontWindows"/>
              </a:rPr>
              <a:t>using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HeuristicLab.PluginInfrastructure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ProFontWindows"/>
              </a:rPr>
              <a:t>namespac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MyProject {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ClassInfo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Name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My Project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Version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0.99.0.0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Description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Just an example plugin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Filename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MyProject.dll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Filetype =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Typ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.Assembly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Filename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ZipLibrary.dll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Filetype =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Typ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.Assembly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Filename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Database.db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Filetype =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Typ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.Data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Dependency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Dependency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HeuristicLab.Data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Dependency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Dependency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HeuristicLab.Random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1f497d"/>
                </a:solidFill>
                <a:latin typeface="ProFontWindows"/>
              </a:rPr>
              <a:t>public class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MyProjectPlugin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: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Bas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97580-A7D9-4776-B974-0F774B3F060F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Plugin Infrastru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4471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ugin manag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pired by Debian package management syst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ugins are deployed as ZIP archiv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ugin manager minds dependenc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required plugins are automatically installed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dependent plugins are automatically removed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TTP-based updating of plugi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ugins can be installed and removed at runtim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each application has its own application domain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5072040" y="1571760"/>
            <a:ext cx="3838680" cy="4647960"/>
          </a:xfrm>
          <a:prstGeom prst="rect">
            <a:avLst/>
          </a:prstGeom>
          <a:ln w="0">
            <a:noFill/>
          </a:ln>
        </p:spPr>
      </p:pic>
      <p:sp>
        <p:nvSpPr>
          <p:cNvPr id="53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6AF22-7924-47CA-AA96-E0A196AA884D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599840"/>
            <a:ext cx="8229600" cy="33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basic 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Storabl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fines unique identifier (GUID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Guid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Gui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{ get; }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fines methods for cloning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object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Clo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object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Clo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IDictionary&lt;Guid, object&gt; clonedObjects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fines methods for persisting to and restoring from XM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XmlNode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GetXmlNod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string name, XMLDocument document, IDictionary&lt;Guid, IStorable&gt; persistedObjects&gt;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void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Populat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XmlNode node, IDictionary&lt;Guid, IStorable&gt; restoredObjects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mplemented by abstract base class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StorableBas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multiple references to a single object are handled correctl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yclical object graphs can be cloned or persisted automaticall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ep cloning is used by defaul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3" descr=""/>
          <p:cNvPicPr/>
          <p:nvPr/>
        </p:nvPicPr>
        <p:blipFill>
          <a:blip r:embed="rId1"/>
          <a:stretch/>
        </p:blipFill>
        <p:spPr>
          <a:xfrm>
            <a:off x="1509840" y="4857840"/>
            <a:ext cx="6124320" cy="1876320"/>
          </a:xfrm>
          <a:prstGeom prst="rect">
            <a:avLst/>
          </a:prstGeom>
          <a:ln w="0">
            <a:noFill/>
          </a:ln>
        </p:spPr>
      </p:pic>
      <p:sp>
        <p:nvSpPr>
          <p:cNvPr id="57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8107C-3492-4017-BEC5-4440D5A9D9D1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457200" y="1600200"/>
            <a:ext cx="8229600" cy="27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tatic class </a:t>
            </a: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PersistenceManager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vides auxiliary methods for persiste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Load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av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to write IStorable to or to restore it from dis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ersis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Restor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to start persisting or restoring of single IStor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y default type names are used as XML tag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ersist offers parameter (name) to specify some other name as XML ta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5" descr=""/>
          <p:cNvPicPr/>
          <p:nvPr/>
        </p:nvPicPr>
        <p:blipFill>
          <a:blip r:embed="rId1"/>
          <a:stretch/>
        </p:blipFill>
        <p:spPr>
          <a:xfrm>
            <a:off x="1281240" y="4714920"/>
            <a:ext cx="6581520" cy="1828800"/>
          </a:xfrm>
          <a:prstGeom prst="rect">
            <a:avLst/>
          </a:prstGeom>
          <a:ln w="0">
            <a:noFill/>
          </a:ln>
        </p:spPr>
      </p:pic>
      <p:sp>
        <p:nvSpPr>
          <p:cNvPr id="61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1EA9C-1AD3-41B8-8AAD-A9C94FB19C6A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457200" y="1600200"/>
            <a:ext cx="8229600" cy="31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tatic class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Auxiliar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vides auxiliary method for clon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Clone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 to start cloning of a single IStorable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hecks if cloning is necessary or if object has already been clon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vides several other methods for showing error messag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ethods of PersistenceManager and Auxiliary have to be used to enable correct persisting / cloning of cyclical object graph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6" descr=""/>
          <p:cNvPicPr/>
          <p:nvPr/>
        </p:nvPicPr>
        <p:blipFill>
          <a:blip r:embed="rId1"/>
          <a:stretch/>
        </p:blipFill>
        <p:spPr>
          <a:xfrm>
            <a:off x="1738440" y="4429080"/>
            <a:ext cx="5667120" cy="1981080"/>
          </a:xfrm>
          <a:prstGeom prst="rect">
            <a:avLst/>
          </a:prstGeom>
          <a:ln w="0">
            <a:noFill/>
          </a:ln>
        </p:spPr>
      </p:pic>
      <p:sp>
        <p:nvSpPr>
          <p:cNvPr id="65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B05DC-5C5D-4C31-B49E-8362A12F1A42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34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persistence code in class TSPTour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example XML snippe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Rechteck 5"/>
          <p:cNvSpPr/>
          <p:nvPr/>
        </p:nvSpPr>
        <p:spPr>
          <a:xfrm>
            <a:off x="285840" y="2500200"/>
            <a:ext cx="8572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XmlNode </a:t>
            </a:r>
            <a:r>
              <a:rPr b="1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GetXmlNod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string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name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XmlDocument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document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IDictionary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Guid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IStorabl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 persistedObjects) {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XmlNod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node = </a:t>
            </a: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bas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GetXmlNode(name, document, persistedObjects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node.AppendChild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sistenceManager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Persist("Coordinates", Coordinates, document, persistedObjects)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node.AppendChild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sistenceManager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Persist("Tour", Tour, document, persistedObjects)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node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</a:t>
            </a:r>
            <a:r>
              <a:rPr b="1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Populat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XmlNod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node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IDictionary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Guid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IStorabl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 restoredObjects) {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bas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Populate(node, restoredObjects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myCoordinates = 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DoubleMatrixData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sistenceManager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Restore(node.SelectSingleNode(</a:t>
            </a:r>
            <a:r>
              <a:rPr b="0" lang="de-AT" sz="900" spc="-1" strike="noStrike">
                <a:solidFill>
                  <a:srgbClr val="c0504d"/>
                </a:solidFill>
                <a:latin typeface="Courier New"/>
                <a:ea typeface="Courier New"/>
              </a:rPr>
              <a:t>"Coordinates"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), restoredObjects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myTour = 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mutation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sistenceManager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Restore(node.SelectSingleNode(</a:t>
            </a:r>
            <a:r>
              <a:rPr b="0" lang="de-AT" sz="900" spc="-1" strike="noStrike">
                <a:solidFill>
                  <a:srgbClr val="c0504d"/>
                </a:solidFill>
                <a:latin typeface="Courier New"/>
                <a:ea typeface="Courier New"/>
              </a:rPr>
              <a:t>"Tour"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), restoredObjects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Rechteck 7"/>
          <p:cNvSpPr/>
          <p:nvPr/>
        </p:nvSpPr>
        <p:spPr>
          <a:xfrm>
            <a:off x="142920" y="5000760"/>
            <a:ext cx="88581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Injector Type="HeuristicLab.Operators.VariableInjector, HeuristicLab.Operators" GUID="65e6153d-18a6-4a9a-9b04-77732e8612b6"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                                                         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Name="VariableInjector"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SubOperators /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Infos /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s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 Type="HeuristicLab.Core.Variable, HeuristicLab.Core" GUID="d971503d-2ed0-43b2-bc6b-1bce4676dc51" Name="PopulationSize"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lue Type="HeuristicLab.Data.IntData, HeuristicLab.Data" GUID="0f36459e-1910-4852-91a6-ec37a9767df7"&gt;100&lt;/Value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Variable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 Type="HeuristicLab.Core.Variable, HeuristicLab.Core" GUID="cb899fcb-76c3-4f86-9699-91cb6ee62420" Name="EvaluatedSolutions"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lue Type="HeuristicLab.Data.IntData, HeuristicLab.Data" GUID="4bd5b9ae-4ee2-4063-8e17-37972eae50b7"&gt;0&lt;/Value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Variable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Variables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VariableInjector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3" descr=""/>
          <p:cNvPicPr/>
          <p:nvPr/>
        </p:nvPicPr>
        <p:blipFill>
          <a:blip r:embed="rId1"/>
          <a:stretch/>
        </p:blipFill>
        <p:spPr>
          <a:xfrm>
            <a:off x="6072120" y="1000080"/>
            <a:ext cx="2924280" cy="1495440"/>
          </a:xfrm>
          <a:prstGeom prst="rect">
            <a:avLst/>
          </a:prstGeom>
          <a:ln w="0">
            <a:noFill/>
          </a:ln>
        </p:spPr>
      </p:pic>
      <p:sp>
        <p:nvSpPr>
          <p:cNvPr id="71" name="Foliennummernplatzhalt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06510-8F3E-4F81-8A9B-49E2EBEC84A4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te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Ite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s IStorable and IViewabl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base class for (almost) every HeuristicLab objec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ata, variables, operators, engines, …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Changed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even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FireChanged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to fire Changed event manuall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has to be called if contained complex objects are changed and don't provide an event-based notification (arrays, e.g.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ed by abstract base 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temBas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Viewab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CreateView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for creating a view for an objec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usually a view is a Windows Forms control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ed by base 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iewBas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ll objects implementing IItem can be shown on the user interface (GUI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iews of complex objects can be assembled using views of their par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rict use of MVC patter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7000920" y="1143000"/>
            <a:ext cx="1781280" cy="16477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"/>
          <p:cNvPicPr/>
          <p:nvPr/>
        </p:nvPicPr>
        <p:blipFill>
          <a:blip r:embed="rId2"/>
          <a:stretch/>
        </p:blipFill>
        <p:spPr>
          <a:xfrm>
            <a:off x="7000920" y="3571920"/>
            <a:ext cx="1781280" cy="1076400"/>
          </a:xfrm>
          <a:prstGeom prst="rect">
            <a:avLst/>
          </a:prstGeom>
          <a:ln w="0">
            <a:noFill/>
          </a:ln>
        </p:spPr>
      </p:pic>
      <p:sp>
        <p:nvSpPr>
          <p:cNvPr id="76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5581E-A67D-449D-8F5A-4414BCECF988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6T21:54:07Z</dcterms:created>
  <dc:creator>SW</dc:creator>
  <dc:description/>
  <dc:language>en-US</dc:language>
  <cp:lastModifiedBy>SW</cp:lastModifiedBy>
  <dcterms:modified xsi:type="dcterms:W3CDTF">2008-01-28T19:57:49Z</dcterms:modified>
  <cp:revision>62</cp:revision>
  <dc:subject/>
  <dc:title>HeuristicLab 3.0</dc:title>
</cp:coreProperties>
</file>