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BDC5-4DE9-4C69-A096-6BF8A7766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11CD-E42C-4E78-B2E5-F16033495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6310-ECDC-447A-9803-7FADEC0AF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D665-7F8E-40ED-BD0B-DF0F92ACF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F025-7456-479F-8345-148CB0F6B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75D8-2303-4F36-BCF4-7635CE84C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E018-F650-419F-9456-91A39D395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74EA-1805-43BE-A852-6A700D9E5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5A74-1F85-42D5-B90C-AECF99CFF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B9CD-96AB-41E6-97D2-5E9B71DA1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4967-A6C2-4714-89AC-17598990F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272E-1527-48B5-A275-6F8877A3A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731BE-D794-4C2D-9B49-6D7E8FF3107C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A1620-37AA-4D04-BC86-9CD5D73DBFE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HeuristicLab 3.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898989"/>
                </a:solidFill>
                <a:latin typeface="Calibri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1"/>
          <a:stretch/>
        </p:blipFill>
        <p:spPr>
          <a:xfrm>
            <a:off x="762120" y="1500120"/>
            <a:ext cx="7619760" cy="4829400"/>
          </a:xfrm>
          <a:prstGeom prst="rect">
            <a:avLst/>
          </a:prstGeom>
          <a:ln w="0">
            <a:noFill/>
          </a:ln>
        </p:spPr>
      </p:pic>
      <p:sp>
        <p:nvSpPr>
          <p:cNvPr id="79" name="Rechteck 5"/>
          <p:cNvSpPr/>
          <p:nvPr/>
        </p:nvSpPr>
        <p:spPr>
          <a:xfrm>
            <a:off x="857160" y="2571840"/>
            <a:ext cx="6000840" cy="328608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7200" spc="-1" strike="noStrike">
                <a:solidFill>
                  <a:srgbClr val="fac090"/>
                </a:solidFill>
                <a:latin typeface="Calibri"/>
              </a:rPr>
              <a:t>Engine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echteck 6"/>
          <p:cNvSpPr/>
          <p:nvPr/>
        </p:nvSpPr>
        <p:spPr>
          <a:xfrm>
            <a:off x="928800" y="2643120"/>
            <a:ext cx="2571480" cy="27147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Operato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Graph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hteck 7"/>
          <p:cNvSpPr/>
          <p:nvPr/>
        </p:nvSpPr>
        <p:spPr>
          <a:xfrm>
            <a:off x="3571920" y="2643120"/>
            <a:ext cx="3214800" cy="27147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Scop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hteck 9"/>
          <p:cNvSpPr/>
          <p:nvPr/>
        </p:nvSpPr>
        <p:spPr>
          <a:xfrm>
            <a:off x="4572000" y="3357720"/>
            <a:ext cx="3643200" cy="17859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Scop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hteck 10"/>
          <p:cNvSpPr/>
          <p:nvPr/>
        </p:nvSpPr>
        <p:spPr>
          <a:xfrm>
            <a:off x="6357960" y="3429000"/>
            <a:ext cx="1785960" cy="135720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200" spc="-1" strike="noStrike">
                <a:solidFill>
                  <a:srgbClr val="fac090"/>
                </a:solidFill>
                <a:latin typeface="Calibri"/>
              </a:rPr>
              <a:t>Vari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hteck 11"/>
          <p:cNvSpPr/>
          <p:nvPr/>
        </p:nvSpPr>
        <p:spPr>
          <a:xfrm>
            <a:off x="6429240" y="4214880"/>
            <a:ext cx="1643040" cy="21420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fac090"/>
                </a:solidFill>
                <a:latin typeface="Calibri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Foliennummernplatzhalter 1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DC67F-3DF7-4193-B5DB-1A1424E9076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is an algorithm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 main aspe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tru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ul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e have to mod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rators modifying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aphs of operators representing the 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hteck 3"/>
          <p:cNvSpPr/>
          <p:nvPr/>
        </p:nvSpPr>
        <p:spPr>
          <a:xfrm>
            <a:off x="392040" y="2071800"/>
            <a:ext cx="83599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"A finite set of unambiguous instructions performed in a prescribed sequence to achieve a goal, especially a mathematical rule or procedure used to compute a desired result. Algorithms are the basis for most computer programming.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© The American Heritage Dictionary of the English Languag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7A560-F0F4-401A-9C24-361AABF6DCD4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 is represented as ob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ta objects have to implement IItem (are storable and viewabl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rsistence methods have to be implement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ustom views can be provid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amespac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HeuristicLab.Dat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contains several ready to use data ob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rapper objects for system ty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Data, IntArrayData, IntMatrixData, DoubleData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llec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temLi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1509840" y="4357800"/>
            <a:ext cx="6124320" cy="2286000"/>
          </a:xfrm>
          <a:prstGeom prst="rect">
            <a:avLst/>
          </a:prstGeom>
          <a:ln w="0">
            <a:noFill/>
          </a:ln>
        </p:spPr>
      </p:pic>
      <p:sp>
        <p:nvSpPr>
          <p:cNvPr id="9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0AF47-D68B-40BD-B77E-F289373D2E3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riab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operators manipulate dat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data objects need names to be accessi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IVaria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tains name (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 and data object (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fines generic method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GetValu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to access valu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rious events to signal changes (MVC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Variab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Variable implements IIte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riables themselves can b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lues of variabl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quired for meta-programm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ore on that later …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5357880" y="4286160"/>
            <a:ext cx="3610080" cy="2333880"/>
          </a:xfrm>
          <a:prstGeom prst="rect">
            <a:avLst/>
          </a:prstGeom>
          <a:ln w="0">
            <a:noFill/>
          </a:ln>
        </p:spPr>
      </p:pic>
      <p:sp>
        <p:nvSpPr>
          <p:cNvPr id="9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E68E0-3C7A-4CD5-80FC-BBF6E6B2D4D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o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6840" y="1600200"/>
            <a:ext cx="4257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s are organized in 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Scop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ierarchical container of variabl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sub-scop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ubScop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several methods to get/add/remove variables and sub-scop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GetVariableValu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perform recursive variable lookup towards the root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variables with identical names hide variables of parent 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vents to signal changes (MVC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copes build an n-ary tree struc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work on 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get variables, manipulate, write back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4619520" y="1428840"/>
            <a:ext cx="4524480" cy="4743360"/>
          </a:xfrm>
          <a:prstGeom prst="rect">
            <a:avLst/>
          </a:prstGeom>
          <a:ln w="0">
            <a:noFill/>
          </a:ln>
        </p:spPr>
      </p:pic>
      <p:sp>
        <p:nvSpPr>
          <p:cNvPr id="101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D18C3-C885-4D91-801E-4A30D94B1DF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represent basic instructions of algorith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manipulate scopes (modify variables and/or sub-scope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decide which operators are executed n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Opera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sub-operator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ubOperator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local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meta-information about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Info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s to manipulate its data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vents to signal chang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Execut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execute the operator on a specific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GetVariableValu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methods for conveniant variable lookup (either in the local variables or in the scope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Operator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store references to their successor operators (sub-operator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uild a graph structure (execution graph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ADCCD-5DF1-48C6-AFBC-65989C2EF286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2000160" y="1571760"/>
            <a:ext cx="5667480" cy="4438440"/>
          </a:xfrm>
          <a:prstGeom prst="rect">
            <a:avLst/>
          </a:prstGeom>
          <a:ln w="0">
            <a:noFill/>
          </a:ln>
        </p:spPr>
      </p:pic>
      <p:sp>
        <p:nvSpPr>
          <p:cNvPr id="10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16FF5-4A0B-4080-9D08-0301402B0D7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riable Inf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have to be independent of concrete variable nam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 example, functionality of a counter operator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t variable from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ncrease the variable's value by 1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write new variable value back into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echanism needed to translate formal variable names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o actual variable nam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rmal variable name is used by the operator to identify a variabl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actual variable name is the real name of the variable in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VariableInfo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tores meta-information about variabl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ctual name, formal name, data type, description, kind, …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used by operators to define which variables are required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ach operator has to define a variable info object for each variable it requir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usually done in the operator's constructo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ctual names can be set by the user when assembling an algorith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mal/actual name translation is automatically performed when using an operators GetVariableValue metho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6357960" y="1500120"/>
            <a:ext cx="2467080" cy="2438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"/>
          <p:cNvPicPr/>
          <p:nvPr/>
        </p:nvPicPr>
        <p:blipFill>
          <a:blip r:embed="rId2"/>
          <a:stretch/>
        </p:blipFill>
        <p:spPr>
          <a:xfrm>
            <a:off x="7286760" y="3929040"/>
            <a:ext cx="1552320" cy="1486080"/>
          </a:xfrm>
          <a:prstGeom prst="rect">
            <a:avLst/>
          </a:prstGeom>
          <a:ln w="0">
            <a:noFill/>
          </a:ln>
        </p:spPr>
      </p:pic>
      <p:sp>
        <p:nvSpPr>
          <p:cNvPr id="112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F0EAB-B59C-4584-9D69-ECCF801CE591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: Coun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hteck 3"/>
          <p:cNvSpPr/>
          <p:nvPr/>
        </p:nvSpPr>
        <p:spPr>
          <a:xfrm>
            <a:off x="874800" y="2071800"/>
            <a:ext cx="73944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unter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unter(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VariableInfo(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Info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formal n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Counter 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descrip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ypeo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,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data ty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In |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Out)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ki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perform formal/actual name trans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 = GetVariableValue&lt;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scope,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.Data++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null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D579C-0BC2-4AB2-B099-5A4F7B24F2C4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6840" y="1600200"/>
            <a:ext cx="6543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store references to their sub-operator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fter execution operators have to decide which operators are executed nex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o enable step-wise execution and parallelism operators should not directly execute their successor operator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that should be executed next and the corresponding scopes are represented as operations and returned to the engin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marker interface inherited from IItem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oesn't contain anyth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AtomicOperation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CompositeOperation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(composite pattern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Atomic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 single opera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operator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scope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cop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on which the operator should be executed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omposite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n operation consisting of several other operation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 collection of sub-operations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ions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flag to indicate if sub-operations can be executed in parallel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ExecuteInParallel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7" descr=""/>
          <p:cNvPicPr/>
          <p:nvPr/>
        </p:nvPicPr>
        <p:blipFill>
          <a:blip r:embed="rId1"/>
          <a:stretch/>
        </p:blipFill>
        <p:spPr>
          <a:xfrm>
            <a:off x="7134120" y="2643120"/>
            <a:ext cx="2009880" cy="19242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"/>
          <p:cNvPicPr/>
          <p:nvPr/>
        </p:nvPicPr>
        <p:blipFill>
          <a:blip r:embed="rId2"/>
          <a:stretch/>
        </p:blipFill>
        <p:spPr>
          <a:xfrm>
            <a:off x="6448320" y="4643280"/>
            <a:ext cx="2695680" cy="1924200"/>
          </a:xfrm>
          <a:prstGeom prst="rect">
            <a:avLst/>
          </a:prstGeom>
          <a:ln w="0">
            <a:noFill/>
          </a:ln>
        </p:spPr>
      </p:pic>
      <p:sp>
        <p:nvSpPr>
          <p:cNvPr id="120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01BF7-02C2-472A-9508-461998DE52C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eneric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no focus on any particular heuristic optimization paradig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uitable for any kind of algorith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uitable for any kind of problem and solution represent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dular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lug-in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abil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tensive use of graphical user interfaces (WinForms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tep-wise algorithm execu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active algorithm engineering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allelis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gration of parallel algorithm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paration of algorithms and parallelization concep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1C663-1567-4E17-8BEA-53D752135844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: ConditionalBran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hteck 3"/>
          <p:cNvSpPr/>
          <p:nvPr/>
        </p:nvSpPr>
        <p:spPr>
          <a:xfrm>
            <a:off x="581040" y="2071800"/>
            <a:ext cx="79819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nditionalBranch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nditionalBranch(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VariableInfo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Info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c0504d"/>
                </a:solidFill>
                <a:latin typeface="Courier New"/>
                <a:ea typeface="Courier New"/>
              </a:rPr>
              <a:t>"Condition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c0504d"/>
                </a:solidFill>
                <a:latin typeface="Courier New"/>
                <a:ea typeface="Courier New"/>
              </a:rPr>
              <a:t>"A boolean variable that decides the branch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ypeo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In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Data = GetVariableValue&lt;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"Condition", scope,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bool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 = resultData.Data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resul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0], scope);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true 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1], scope);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false 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null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82885-F924-4BE5-B580-75A77139FAD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: SequentialProcessor, UniformParallelSubScopesProcesso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hteck 4"/>
          <p:cNvSpPr/>
          <p:nvPr/>
        </p:nvSpPr>
        <p:spPr>
          <a:xfrm>
            <a:off x="581040" y="1989000"/>
            <a:ext cx="798192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SequentialProcessor</a:t>
            </a:r>
            <a:r>
              <a:rPr b="0" lang="de-AT" sz="1200" spc="-1" strike="noStrike">
                <a:solidFill>
                  <a:srgbClr val="4f81b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next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for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nt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i = 0; i &lt; SubOperators.Count; i++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next.AddOperation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SubOperators[i], scope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nex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UniformParallelSubScopesProcessor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xt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xt.ExecuteInParallel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for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nt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 = 0; i &lt; scope.SubScopes.Count; i++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xt.AddOperation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0], scope.SubScopes[i]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x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5E77E-B03E-42C6-8840-9851043BA57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gi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540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must not call their successor operators direct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ngine is responsible for operator execu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ngines are able to deal with parallelis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OperatorGrap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n algorithm (a graph of operators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initial operator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InitialOperator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list of all operators 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s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Graph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Engin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handles execution of operator graph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operator graph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Graph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global scope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GlobalScop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to start, stop or abort execu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equentialEngin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ThreadParallelEngin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ach execution start with an empty global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5643720" y="3143160"/>
            <a:ext cx="3381120" cy="35337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"/>
          <p:cNvPicPr/>
          <p:nvPr/>
        </p:nvPicPr>
        <p:blipFill>
          <a:blip r:embed="rId2"/>
          <a:stretch/>
        </p:blipFill>
        <p:spPr>
          <a:xfrm>
            <a:off x="5643720" y="1428840"/>
            <a:ext cx="3381120" cy="1733400"/>
          </a:xfrm>
          <a:prstGeom prst="rect">
            <a:avLst/>
          </a:prstGeom>
          <a:ln w="0">
            <a:noFill/>
          </a:ln>
        </p:spPr>
      </p:pic>
      <p:sp>
        <p:nvSpPr>
          <p:cNvPr id="131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E7BC0-EDDF-48B2-9A8B-14D8873E634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3" name="Gruppieren 20"/>
          <p:cNvGrpSpPr/>
          <p:nvPr/>
        </p:nvGrpSpPr>
        <p:grpSpPr>
          <a:xfrm>
            <a:off x="714240" y="2143080"/>
            <a:ext cx="7715520" cy="3571920"/>
            <a:chOff x="714240" y="2143080"/>
            <a:chExt cx="7715520" cy="3571920"/>
          </a:xfrm>
        </p:grpSpPr>
        <p:sp>
          <p:nvSpPr>
            <p:cNvPr id="134" name="Rechteck 22"/>
            <p:cNvSpPr/>
            <p:nvPr/>
          </p:nvSpPr>
          <p:spPr>
            <a:xfrm>
              <a:off x="714240" y="5357880"/>
              <a:ext cx="7715520" cy="357120"/>
            </a:xfrm>
            <a:prstGeom prst="rect">
              <a:avLst/>
            </a:prstGeom>
            <a:solidFill>
              <a:srgbClr val="7f7f7f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.NET 2.0 / 3.5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Rechteck 23"/>
            <p:cNvSpPr/>
            <p:nvPr/>
          </p:nvSpPr>
          <p:spPr>
            <a:xfrm>
              <a:off x="714240" y="5000760"/>
              <a:ext cx="7715520" cy="357120"/>
            </a:xfrm>
            <a:prstGeom prst="rect">
              <a:avLst/>
            </a:prstGeom>
            <a:solidFill>
              <a:srgbClr val="254061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Plugin Infrastructu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Rechteck 24"/>
            <p:cNvSpPr/>
            <p:nvPr/>
          </p:nvSpPr>
          <p:spPr>
            <a:xfrm>
              <a:off x="714240" y="4643640"/>
              <a:ext cx="771552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Co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Rechteck 25"/>
            <p:cNvSpPr/>
            <p:nvPr/>
          </p:nvSpPr>
          <p:spPr>
            <a:xfrm>
              <a:off x="714240" y="428616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Dat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Rechteck 26"/>
            <p:cNvSpPr/>
            <p:nvPr/>
          </p:nvSpPr>
          <p:spPr>
            <a:xfrm>
              <a:off x="714240" y="392904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Constraint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Rechteck 27"/>
            <p:cNvSpPr/>
            <p:nvPr/>
          </p:nvSpPr>
          <p:spPr>
            <a:xfrm>
              <a:off x="714240" y="357192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Operator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Rechteck 28"/>
            <p:cNvSpPr/>
            <p:nvPr/>
          </p:nvSpPr>
          <p:spPr>
            <a:xfrm>
              <a:off x="5286600" y="2500200"/>
              <a:ext cx="1571400" cy="2143080"/>
            </a:xfrm>
            <a:prstGeom prst="rect">
              <a:avLst/>
            </a:prstGeom>
            <a:solidFill>
              <a:srgbClr val="31859c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equential</a:t>
              </a:r>
              <a:br>
                <a:rPr sz="1600"/>
              </a:b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ngin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Rechteck 29"/>
            <p:cNvSpPr/>
            <p:nvPr/>
          </p:nvSpPr>
          <p:spPr>
            <a:xfrm>
              <a:off x="6858360" y="2500200"/>
              <a:ext cx="1571400" cy="2143080"/>
            </a:xfrm>
            <a:prstGeom prst="rect">
              <a:avLst/>
            </a:prstGeom>
            <a:solidFill>
              <a:srgbClr val="31859c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ThreadParallel</a:t>
              </a:r>
              <a:br>
                <a:rPr sz="1600"/>
              </a:b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ngin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Rechteck 30"/>
            <p:cNvSpPr/>
            <p:nvPr/>
          </p:nvSpPr>
          <p:spPr>
            <a:xfrm>
              <a:off x="207144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electi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Rechteck 31"/>
            <p:cNvSpPr/>
            <p:nvPr/>
          </p:nvSpPr>
          <p:spPr>
            <a:xfrm>
              <a:off x="421488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Logging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Rechteck 32"/>
            <p:cNvSpPr/>
            <p:nvPr/>
          </p:nvSpPr>
          <p:spPr>
            <a:xfrm>
              <a:off x="714240" y="321444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volutionary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Rechteck 33"/>
            <p:cNvSpPr/>
            <p:nvPr/>
          </p:nvSpPr>
          <p:spPr>
            <a:xfrm>
              <a:off x="714240" y="285732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Rechteck 34"/>
            <p:cNvSpPr/>
            <p:nvPr/>
          </p:nvSpPr>
          <p:spPr>
            <a:xfrm>
              <a:off x="314316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Random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Rechteck 35"/>
            <p:cNvSpPr/>
            <p:nvPr/>
          </p:nvSpPr>
          <p:spPr>
            <a:xfrm>
              <a:off x="714240" y="250020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TSP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Rechteck 36"/>
            <p:cNvSpPr/>
            <p:nvPr/>
          </p:nvSpPr>
          <p:spPr>
            <a:xfrm>
              <a:off x="2071440" y="2143080"/>
              <a:ext cx="4786560" cy="357120"/>
            </a:xfrm>
            <a:prstGeom prst="rect">
              <a:avLst/>
            </a:prstGeom>
            <a:solidFill>
              <a:srgbClr val="dce6f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G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9" name="Foliennummernplatzhalter 1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5A445-7467-4A67-998C-907E87AD1A8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Demon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Plugin Infra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3714840"/>
            <a:ext cx="8229600" cy="24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 plugin can contain multiple files (assemblies, data files, images, icons, 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s may depend on each oth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meta-data (descriptions, dependencies, etc.) are stored in the code files (attribut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o XML description file like in HeuristicLab 2.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infrastructure enables drop-in installation (similar to eclipse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hteck 3"/>
          <p:cNvSpPr/>
          <p:nvPr/>
        </p:nvSpPr>
        <p:spPr>
          <a:xfrm>
            <a:off x="820800" y="1285920"/>
            <a:ext cx="7502400" cy="22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using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HeuristicLab.PluginInfrastructure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namespac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MyProject {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ClassInfo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My Project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Version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0.99.0.0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Description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Just an example plugin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MyProject.dll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Assembly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ZipLibrary.dll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Assembly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Database.db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Data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Dependency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Dependency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HeuristicLab.Data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Dependency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Dependency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HeuristicLab.Random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public class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MyProjectPlugin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: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Bas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CB0DB-CA05-4D62-8420-A69B3A3E99B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Plugin Infra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4471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manag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pired by Debian package management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s are deployed as ZIP archiv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 manager minds dependenc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quired plugins are automatically installe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ependent plugins are automatically remove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-based updating of plugi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s can be installed and removed at runti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each application has its own application domain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5072040" y="1571760"/>
            <a:ext cx="3838680" cy="4647960"/>
          </a:xfrm>
          <a:prstGeom prst="rect">
            <a:avLst/>
          </a:prstGeom>
          <a:ln w="0">
            <a:noFill/>
          </a:ln>
        </p:spPr>
      </p:pic>
      <p:sp>
        <p:nvSpPr>
          <p:cNvPr id="5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2A7CF-EA86-4CEE-9E1D-7F6B485C9B9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599840"/>
            <a:ext cx="8229600" cy="33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asic 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Storabl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unique identifier (GUID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Guid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Gui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{ get; }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for clon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bject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bject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IDictionary&lt;Guid, object&gt; clonedObjects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for persisting to and restoring from XM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XmlNode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GetXmlNod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string name, XMLDocument document, IDictionary&lt;Guid, IStorable&gt; persistedObjects&gt;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void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Populat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XmlNode node, IDictionary&lt;Guid, IStorable&gt; restoredObjects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torableBas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ultiple references to a single object are handled correct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yclical object graphs can be cloned or persisted automatical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ep cloning is used by defaul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1509840" y="4857840"/>
            <a:ext cx="6124320" cy="1876320"/>
          </a:xfrm>
          <a:prstGeom prst="rect">
            <a:avLst/>
          </a:prstGeom>
          <a:ln w="0">
            <a:noFill/>
          </a:ln>
        </p:spPr>
      </p:pic>
      <p:sp>
        <p:nvSpPr>
          <p:cNvPr id="5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02E12-1DE0-40ED-90D4-B35642AEEC4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1600200"/>
            <a:ext cx="8229600" cy="27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tatic class 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PersistenceManager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vides auxiliary methods for persist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oa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av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write IStorable to or to restore it from dis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ersis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stor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start persisting or restoring of single IStor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default type names are used as XML ta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rsist offers parameter (name) to specify some other name as XML ta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1"/>
          <a:stretch/>
        </p:blipFill>
        <p:spPr>
          <a:xfrm>
            <a:off x="1281240" y="4714920"/>
            <a:ext cx="6581520" cy="1828800"/>
          </a:xfrm>
          <a:prstGeom prst="rect">
            <a:avLst/>
          </a:prstGeom>
          <a:ln w="0">
            <a:noFill/>
          </a:ln>
        </p:spPr>
      </p:pic>
      <p:sp>
        <p:nvSpPr>
          <p:cNvPr id="61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F2FB8-29CA-4E78-A125-CDB35B3FACBA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7200" y="1600200"/>
            <a:ext cx="82296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atic class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Auxiliar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auxiliary method for clo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to start cloning of a single IStorabl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ecks if cloning is necessary or if object has already been clon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several other methods for showing error messag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ethods of PersistenceManager and Auxiliary have to be used to enable correct persisting / cloning of cyclical object graph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6" descr=""/>
          <p:cNvPicPr/>
          <p:nvPr/>
        </p:nvPicPr>
        <p:blipFill>
          <a:blip r:embed="rId1"/>
          <a:stretch/>
        </p:blipFill>
        <p:spPr>
          <a:xfrm>
            <a:off x="1738440" y="4429080"/>
            <a:ext cx="5667120" cy="1981080"/>
          </a:xfrm>
          <a:prstGeom prst="rect">
            <a:avLst/>
          </a:prstGeom>
          <a:ln w="0">
            <a:noFill/>
          </a:ln>
        </p:spPr>
      </p:pic>
      <p:sp>
        <p:nvSpPr>
          <p:cNvPr id="65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6874E-7B45-4FF8-A078-233BDCEF673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34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persistence code in class TSPTou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xample XML snippe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hteck 5"/>
          <p:cNvSpPr/>
          <p:nvPr/>
        </p:nvSpPr>
        <p:spPr>
          <a:xfrm>
            <a:off x="285840" y="2500200"/>
            <a:ext cx="8572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XmlNode </a:t>
            </a:r>
            <a:r>
              <a:rPr b="1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Get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string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ame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Document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document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Dictionary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Guid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Storabl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persistedObjects) {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 =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bas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GetXmlNode(name, document, persist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node.AppendChild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ersist("Coordinates", Coordinates, document, persistedObjects)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node.AppendChild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ersist("Tour", Tour, document, persistedObjects)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</a:t>
            </a:r>
            <a:r>
              <a:rPr b="1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Populat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Dictionary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Guid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Storabl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restoredObjects) {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bas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opulate(node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myCoordinates = 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DoubleMatrixData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Restore(node.SelectSingleNode(</a:t>
            </a:r>
            <a:r>
              <a:rPr b="0" lang="de-AT" sz="900" spc="-1" strike="noStrike">
                <a:solidFill>
                  <a:srgbClr val="c0504d"/>
                </a:solidFill>
                <a:latin typeface="Courier New"/>
                <a:ea typeface="Courier New"/>
              </a:rPr>
              <a:t>"Coordinates"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myTour = 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mutation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Restore(node.SelectSingleNode(</a:t>
            </a:r>
            <a:r>
              <a:rPr b="0" lang="de-AT" sz="900" spc="-1" strike="noStrike">
                <a:solidFill>
                  <a:srgbClr val="c0504d"/>
                </a:solidFill>
                <a:latin typeface="Courier New"/>
                <a:ea typeface="Courier New"/>
              </a:rPr>
              <a:t>"Tour"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hteck 7"/>
          <p:cNvSpPr/>
          <p:nvPr/>
        </p:nvSpPr>
        <p:spPr>
          <a:xfrm>
            <a:off x="142920" y="5000760"/>
            <a:ext cx="88581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Injector Type="HeuristicLab.Operators.VariableInjector, HeuristicLab.Operators" GUID="65e6153d-18a6-4a9a-9b04-77732e8612b6"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                                                    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="VariableInjector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SubOperators /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Infos /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s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 Type="HeuristicLab.Core.Variable, HeuristicLab.Core" GUID="d971503d-2ed0-43b2-bc6b-1bce4676dc51" Name="PopulationSize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lue Type="HeuristicLab.Data.IntData, HeuristicLab.Data" GUID="0f36459e-1910-4852-91a6-ec37a9767df7"&gt;100&lt;/Valu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 Type="HeuristicLab.Core.Variable, HeuristicLab.Core" GUID="cb899fcb-76c3-4f86-9699-91cb6ee62420" Name="EvaluatedSolutions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lue Type="HeuristicLab.Data.IntData, HeuristicLab.Data" GUID="4bd5b9ae-4ee2-4063-8e17-37972eae50b7"&gt;0&lt;/Valu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s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Injector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6072120" y="1000080"/>
            <a:ext cx="2924280" cy="1495440"/>
          </a:xfrm>
          <a:prstGeom prst="rect">
            <a:avLst/>
          </a:prstGeom>
          <a:ln w="0">
            <a:noFill/>
          </a:ln>
        </p:spPr>
      </p:pic>
      <p:sp>
        <p:nvSpPr>
          <p:cNvPr id="71" name="Foliennummernplatzhalt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D910C-D1BF-45A2-A025-4D1FF9614334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te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It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s IStorable and IViewabl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ase class for (almost) every HeuristicLab objec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ata, variables, operators, engines, …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hanged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even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FireChanged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fire Changed event manual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has to be called if contained complex objects are changed and don't provide an event-based notification (arrays, e.g.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tem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Viewab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reateView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for creating a view for an objec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usually a view is a Windows Forms contro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iew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l objects implementing IItem can be shown on the user interface (GU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iews of complex objects can be assembled using views of their pa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rict use of MVC patter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7000920" y="1143000"/>
            <a:ext cx="1781280" cy="1647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7000920" y="3571920"/>
            <a:ext cx="1781280" cy="1076400"/>
          </a:xfrm>
          <a:prstGeom prst="rect">
            <a:avLst/>
          </a:prstGeom>
          <a:ln w="0">
            <a:noFill/>
          </a:ln>
        </p:spPr>
      </p:pic>
      <p:sp>
        <p:nvSpPr>
          <p:cNvPr id="76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997DA-E29F-4E22-9870-AE91B576E9B9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21:54:07Z</dcterms:created>
  <dc:creator>SW</dc:creator>
  <dc:description/>
  <dc:language>en-US</dc:language>
  <cp:lastModifiedBy>SW</cp:lastModifiedBy>
  <dcterms:modified xsi:type="dcterms:W3CDTF">2008-01-28T19:57:49Z</dcterms:modified>
  <cp:revision>62</cp:revision>
  <dc:subject/>
  <dc:title>HeuristicLab 3.0</dc:title>
</cp:coreProperties>
</file>