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B3FC-AE4A-496F-914E-F47B8DF67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9975-B909-48FC-9ECE-24100DAA3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57B1-64E7-4B84-B8A1-986BCD179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1781-409A-47D2-A417-27F832668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9982-2661-4BD3-AA89-F75F6ACBD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DEE3-C148-4D13-AB3C-F9665387A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9014-CAAD-46A5-8343-25D9B0F90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B10B-A8D0-46AB-ADA3-053635FAB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CCCB-052E-4D9D-9494-CE8A14780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E1EF-2592-46E4-8BE6-421401450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4305-03EA-4367-8557-0D6D410B6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421B-EFB6-4175-BB71-ABDFF1D42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7DC3B-0577-42F8-A0EE-AACD9C6F8B6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D15D3-79AA-4C62-A9C0-B7E7F910652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762120" y="1500120"/>
            <a:ext cx="7619760" cy="4829400"/>
          </a:xfrm>
          <a:prstGeom prst="rect">
            <a:avLst/>
          </a:prstGeom>
          <a:ln w="0">
            <a:noFill/>
          </a:ln>
        </p:spPr>
      </p:pic>
      <p:sp>
        <p:nvSpPr>
          <p:cNvPr id="79" name="Rechteck 5"/>
          <p:cNvSpPr/>
          <p:nvPr/>
        </p:nvSpPr>
        <p:spPr>
          <a:xfrm>
            <a:off x="857160" y="2571840"/>
            <a:ext cx="6000840" cy="328608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7200" spc="-1" strike="noStrike">
                <a:solidFill>
                  <a:srgbClr val="fac090"/>
                </a:solidFill>
                <a:latin typeface="Calibri"/>
              </a:rPr>
              <a:t>Engin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hteck 6"/>
          <p:cNvSpPr/>
          <p:nvPr/>
        </p:nvSpPr>
        <p:spPr>
          <a:xfrm>
            <a:off x="928800" y="2643120"/>
            <a:ext cx="257148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Operato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Grap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hteck 7"/>
          <p:cNvSpPr/>
          <p:nvPr/>
        </p:nvSpPr>
        <p:spPr>
          <a:xfrm>
            <a:off x="3571920" y="2643120"/>
            <a:ext cx="321480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hteck 9"/>
          <p:cNvSpPr/>
          <p:nvPr/>
        </p:nvSpPr>
        <p:spPr>
          <a:xfrm>
            <a:off x="4572000" y="3357720"/>
            <a:ext cx="3643200" cy="17859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hteck 10"/>
          <p:cNvSpPr/>
          <p:nvPr/>
        </p:nvSpPr>
        <p:spPr>
          <a:xfrm>
            <a:off x="6357960" y="3429000"/>
            <a:ext cx="1785960" cy="1357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ac090"/>
                </a:solidFill>
                <a:latin typeface="Calibri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hteck 11"/>
          <p:cNvSpPr/>
          <p:nvPr/>
        </p:nvSpPr>
        <p:spPr>
          <a:xfrm>
            <a:off x="6429240" y="4214880"/>
            <a:ext cx="1643040" cy="214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fac090"/>
                </a:solidFill>
                <a:latin typeface="Calibri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oliennummernplatzhalt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9B854-9956-40E5-94E0-14CA5A6BFC3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CC784-FB99-4D4A-BE42-AEDB7684C1A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is represented as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objects have to implement IItem (are storable and viewabl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sistence methods have to be implemen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stom views can be provi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mespac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euristicLab.Dat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ntains several ready to use data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r objects for system ty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Data, IntArrayData, IntMatrixData, DoubleData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le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temLi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509840" y="4357800"/>
            <a:ext cx="6124320" cy="2286000"/>
          </a:xfrm>
          <a:prstGeom prst="rect">
            <a:avLst/>
          </a:prstGeom>
          <a:ln w="0">
            <a:noFill/>
          </a:ln>
        </p:spPr>
      </p:pic>
      <p:sp>
        <p:nvSpPr>
          <p:cNvPr id="9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A6D1B-A388-4769-A07D-6D5B9034AFF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perators manipulate dat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ata objects need names to be accessi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IVari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ains name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and data object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ines generic metho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et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to access val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ous events to signal changes (MV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ri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Variable implements IIt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ables themselves can b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lues of variab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quired for meta-programm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re on that later 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357880" y="4286160"/>
            <a:ext cx="3610080" cy="2333880"/>
          </a:xfrm>
          <a:prstGeom prst="rect">
            <a:avLst/>
          </a:prstGeom>
          <a:ln w="0">
            <a:noFill/>
          </a:ln>
        </p:spPr>
      </p:pic>
      <p:sp>
        <p:nvSpPr>
          <p:cNvPr id="9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81B2A-13BA-4666-A8C2-400EEAC8573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s are organized i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Sco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ierarchical container of variabl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scop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Scop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several methods to get/add/remove variables and sub-scop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perform recursive variable lookup towards the root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variables with identical names hide variables of parent 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 (MVC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pes build an n-ary tree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work o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et variables, manipulate, write bac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619520" y="1428840"/>
            <a:ext cx="4524480" cy="4743360"/>
          </a:xfrm>
          <a:prstGeom prst="rect">
            <a:avLst/>
          </a:prstGeom>
          <a:ln w="0">
            <a:noFill/>
          </a:ln>
        </p:spPr>
      </p:pic>
      <p:sp>
        <p:nvSpPr>
          <p:cNvPr id="10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46B64-F8F4-4AAF-9A64-09E0DA2CABE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represent basic instructions of algorith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manipulate scopes (modify variables and/or sub-scop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decide which operators are executed n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operator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Operator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local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meta-information about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fo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s to manipulate its dat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xecut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execute the operator on a specific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methods for conveniant variable lookup (either in the local variables or in the scope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Operator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store references to their successor operators (sub-operato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uild a graph structure (execution graph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21F87-58B0-4C40-BE3E-4BF076B996B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2000160" y="1571760"/>
            <a:ext cx="5667480" cy="4438440"/>
          </a:xfrm>
          <a:prstGeom prst="rect">
            <a:avLst/>
          </a:prstGeom>
          <a:ln w="0">
            <a:noFill/>
          </a:ln>
        </p:spPr>
      </p:pic>
      <p:sp>
        <p:nvSpPr>
          <p:cNvPr id="10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342DB-478E-46D7-A88E-B50C56A8657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 Inf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have to be independent of concrete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, functionality of a counter operator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t variable from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crease the variable's value by 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rite new variable value back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echanism needed to translate formal variable names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o actual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rmal variable name is used by the operator to identify a variabl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ctual variable name is the real name of the variable in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VariableInf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tores meta-information about variabl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ctual name, formal name, data type, description, kind, …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ed by operators to define which variables are requir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operator has to define a variable info object for each variable it requir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ually done in the operator's constructo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ctual names can be set by the user when assembling an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mal/actual name translation is automatically performed when using an operators GetVariableValue metho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357960" y="1500120"/>
            <a:ext cx="2467080" cy="2438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7286760" y="3929040"/>
            <a:ext cx="1552320" cy="1486080"/>
          </a:xfrm>
          <a:prstGeom prst="rect">
            <a:avLst/>
          </a:prstGeom>
          <a:ln w="0">
            <a:noFill/>
          </a:ln>
        </p:spPr>
      </p:pic>
      <p:sp>
        <p:nvSpPr>
          <p:cNvPr id="112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76C80-02D7-42B3-97B9-38DDE6F7879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un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hteck 3"/>
          <p:cNvSpPr/>
          <p:nvPr/>
        </p:nvSpPr>
        <p:spPr>
          <a:xfrm>
            <a:off x="874800" y="2071800"/>
            <a:ext cx="73944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unte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er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ormal n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Counter 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escri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ata ty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 |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)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k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perform formal/actual name trans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.Data++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73A6F-DABC-4C97-A4D9-9E7177AA335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60020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store references to their sub-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fter execution operators have to decide which operators are executed nex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o enable step-wise execution and parallelism operators should not directly execute their successor 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that should be executed next and the corresponding scopes are represented as operations and returned to the 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arker interface inherited from IItem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n't contain any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(composite pattern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 single oper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on which the operator should be execut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operation consisting of several other operation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 collection of sub-operations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ion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flag to indicate if sub-operations can be executed in parallel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ExecuteInParallel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7134120" y="2643120"/>
            <a:ext cx="2009880" cy="1924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"/>
          <p:cNvPicPr/>
          <p:nvPr/>
        </p:nvPicPr>
        <p:blipFill>
          <a:blip r:embed="rId2"/>
          <a:stretch/>
        </p:blipFill>
        <p:spPr>
          <a:xfrm>
            <a:off x="6448320" y="4643280"/>
            <a:ext cx="2695680" cy="1924200"/>
          </a:xfrm>
          <a:prstGeom prst="rect">
            <a:avLst/>
          </a:prstGeom>
          <a:ln w="0">
            <a:noFill/>
          </a:ln>
        </p:spPr>
      </p:pic>
      <p:sp>
        <p:nvSpPr>
          <p:cNvPr id="120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A4CF0-38B7-48A5-9330-B6781B8F5AE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neric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o focus on any particular heuristic optimization paradig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problem and solution represent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ug-i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ensive use of graphical user interfaces (WinForms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ep-wise algorithm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active algorithm engineer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lelis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gration of parallel algorithm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paration of algorithms and parallelization concep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179F0-CD45-4481-9B24-48B2BDC9BD4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nditionalBran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hteck 3"/>
          <p:cNvSpPr/>
          <p:nvPr/>
        </p:nvSpPr>
        <p:spPr>
          <a:xfrm>
            <a:off x="581040" y="2071800"/>
            <a:ext cx="79819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nditionalBranch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itionalBranch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Condition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A boolean variable that decides the branch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Data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"Condition"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bool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= resultData.Dat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resul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tru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1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als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7C0F6-87EB-403A-A91A-38A7C0C7AD6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: SequentialProcessor, UniformParallelSubScopesProcess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hteck 4"/>
          <p:cNvSpPr/>
          <p:nvPr/>
        </p:nvSpPr>
        <p:spPr>
          <a:xfrm>
            <a:off x="581040" y="1989000"/>
            <a:ext cx="798192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SequentialProcessor</a:t>
            </a:r>
            <a:r>
              <a:rPr b="0" lang="de-AT" sz="1200" spc="-1" strike="noStrike">
                <a:solidFill>
                  <a:srgbClr val="4f81b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i = 0; i &lt; SubOperator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SubOperators[i], scope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UniformParallelSubScopesProcesso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ExecuteInParallel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 = 0; i &lt; scope.SubScope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.SubScopes[i]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45B90-E8BC-4ACF-91F6-1EC4E47285F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g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must not call their successor operators di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 is responsible for operator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s are able to deal with parallelis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or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algorithm (a graph of operator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initial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Initial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list of all operators 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ndles execution of operator graph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graph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global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Global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to start, stop or abort execu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equentialEngin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ThreadParallelEngin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execution start with an empty global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643720" y="3143160"/>
            <a:ext cx="3381120" cy="3533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5643720" y="1428840"/>
            <a:ext cx="3381120" cy="1733400"/>
          </a:xfrm>
          <a:prstGeom prst="rect">
            <a:avLst/>
          </a:prstGeom>
          <a:ln w="0">
            <a:noFill/>
          </a:ln>
        </p:spPr>
      </p:pic>
      <p:sp>
        <p:nvSpPr>
          <p:cNvPr id="131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E23E6-0CB8-4B7F-9646-72DBA4A1E9A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Gruppieren 20"/>
          <p:cNvGrpSpPr/>
          <p:nvPr/>
        </p:nvGrpSpPr>
        <p:grpSpPr>
          <a:xfrm>
            <a:off x="714240" y="2143080"/>
            <a:ext cx="7715520" cy="3571920"/>
            <a:chOff x="714240" y="2143080"/>
            <a:chExt cx="7715520" cy="3571920"/>
          </a:xfrm>
        </p:grpSpPr>
        <p:sp>
          <p:nvSpPr>
            <p:cNvPr id="134" name="Rechteck 22"/>
            <p:cNvSpPr/>
            <p:nvPr/>
          </p:nvSpPr>
          <p:spPr>
            <a:xfrm>
              <a:off x="714240" y="5357880"/>
              <a:ext cx="7715520" cy="357120"/>
            </a:xfrm>
            <a:prstGeom prst="rect">
              <a:avLst/>
            </a:prstGeom>
            <a:solidFill>
              <a:srgbClr val="7f7f7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.NET 2.0 / 3.5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hteck 23"/>
            <p:cNvSpPr/>
            <p:nvPr/>
          </p:nvSpPr>
          <p:spPr>
            <a:xfrm>
              <a:off x="714240" y="5000760"/>
              <a:ext cx="7715520" cy="357120"/>
            </a:xfrm>
            <a:prstGeom prst="rect">
              <a:avLst/>
            </a:prstGeom>
            <a:solidFill>
              <a:srgbClr val="254061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lugin Infrastructu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hteck 24"/>
            <p:cNvSpPr/>
            <p:nvPr/>
          </p:nvSpPr>
          <p:spPr>
            <a:xfrm>
              <a:off x="714240" y="4643640"/>
              <a:ext cx="771552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hteck 25"/>
            <p:cNvSpPr/>
            <p:nvPr/>
          </p:nvSpPr>
          <p:spPr>
            <a:xfrm>
              <a:off x="714240" y="428616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Rechteck 26"/>
            <p:cNvSpPr/>
            <p:nvPr/>
          </p:nvSpPr>
          <p:spPr>
            <a:xfrm>
              <a:off x="714240" y="392904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nstraint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hteck 27"/>
            <p:cNvSpPr/>
            <p:nvPr/>
          </p:nvSpPr>
          <p:spPr>
            <a:xfrm>
              <a:off x="714240" y="357192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Operator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Rechteck 28"/>
            <p:cNvSpPr/>
            <p:nvPr/>
          </p:nvSpPr>
          <p:spPr>
            <a:xfrm>
              <a:off x="528660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quentia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Rechteck 29"/>
            <p:cNvSpPr/>
            <p:nvPr/>
          </p:nvSpPr>
          <p:spPr>
            <a:xfrm>
              <a:off x="685836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hreadParalle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echteck 30"/>
            <p:cNvSpPr/>
            <p:nvPr/>
          </p:nvSpPr>
          <p:spPr>
            <a:xfrm>
              <a:off x="207144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Rechteck 31"/>
            <p:cNvSpPr/>
            <p:nvPr/>
          </p:nvSpPr>
          <p:spPr>
            <a:xfrm>
              <a:off x="421488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Loggin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Rechteck 32"/>
            <p:cNvSpPr/>
            <p:nvPr/>
          </p:nvSpPr>
          <p:spPr>
            <a:xfrm>
              <a:off x="714240" y="321444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volutionary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Rechteck 33"/>
            <p:cNvSpPr/>
            <p:nvPr/>
          </p:nvSpPr>
          <p:spPr>
            <a:xfrm>
              <a:off x="714240" y="285732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Rechteck 34"/>
            <p:cNvSpPr/>
            <p:nvPr/>
          </p:nvSpPr>
          <p:spPr>
            <a:xfrm>
              <a:off x="314316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Random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hteck 35"/>
            <p:cNvSpPr/>
            <p:nvPr/>
          </p:nvSpPr>
          <p:spPr>
            <a:xfrm>
              <a:off x="714240" y="250020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SP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hteck 36"/>
            <p:cNvSpPr/>
            <p:nvPr/>
          </p:nvSpPr>
          <p:spPr>
            <a:xfrm>
              <a:off x="2071440" y="2143080"/>
              <a:ext cx="4786560" cy="357120"/>
            </a:xfrm>
            <a:prstGeom prst="rect">
              <a:avLst/>
            </a:prstGeom>
            <a:solidFill>
              <a:srgbClr val="dce6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G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" name="Foliennummernplatzhalter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79E5F-468A-40EA-B058-A9AE31BE086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3714840"/>
            <a:ext cx="8229600" cy="24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plugin can contain multiple files (assemblies, data files, images, icons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s may depend on each oth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eta-data (descriptions, dependencies, etc.) are stored in the code files (attribut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 XML description file like in HeuristicLab 2.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infrastructure enables drop-in installation (similar to eclipse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hteck 3"/>
          <p:cNvSpPr/>
          <p:nvPr/>
        </p:nvSpPr>
        <p:spPr>
          <a:xfrm>
            <a:off x="820800" y="1285920"/>
            <a:ext cx="750240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using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HeuristicLab.PluginInfrastructure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namespac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MyProject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ClassInfo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 Project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Vers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0.99.0.0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Descript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Just an example plugin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Project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ZipLibrary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Database.db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Data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Data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Random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public class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MyProjectPlugin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: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Bas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9CE0C-DEF2-42F0-8817-80CC747141E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4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anag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pired by Debian package manageme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are deployed as ZIP arch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 manager minds depend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quired plugins are automatically install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ependent plugins are automatically remov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-based updating of plug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can be installed and removed at run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ach application has its own application domai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072040" y="1571760"/>
            <a:ext cx="3838680" cy="4647960"/>
          </a:xfrm>
          <a:prstGeom prst="rect">
            <a:avLst/>
          </a:prstGeom>
          <a:ln w="0">
            <a:noFill/>
          </a:ln>
        </p:spPr>
      </p:pic>
      <p:sp>
        <p:nvSpPr>
          <p:cNvPr id="5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ABD1D-80B1-445F-BA7F-1FF4FFCEEBC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ic 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Stor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unique identifier (GUID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Gu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ui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{ get; }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clon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IDictionary&lt;Guid, object&gt; clon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persisting to and restoring from XM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XmlNode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etXmlNod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string name, XMLDocument document, IDictionary&lt;Guid, IStorable&gt; persistedObjects&gt;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vo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Populat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XmlNode node, IDictionary&lt;Guid, IStorable&gt; restor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torableBas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ultiple references to a single object are handled cor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yclical object graphs can be cloned or persisted automatic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ep cloning is used by defaul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509840" y="4857840"/>
            <a:ext cx="6124320" cy="1876320"/>
          </a:xfrm>
          <a:prstGeom prst="rect">
            <a:avLst/>
          </a:prstGeom>
          <a:ln w="0">
            <a:noFill/>
          </a:ln>
        </p:spPr>
      </p:pic>
      <p:sp>
        <p:nvSpPr>
          <p:cNvPr id="5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7D0D7-2E42-47F4-AAB2-0EB397438CF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600200"/>
            <a:ext cx="82296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ersistenceManag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s auxiliary methods for persist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a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a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write IStorable to or to restore it from di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si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tor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start persisting or restoring of single IStor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default type names are used as XML ta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sist offers parameter (name) to specify some other name as XML t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1281240" y="4714920"/>
            <a:ext cx="6581520" cy="1828800"/>
          </a:xfrm>
          <a:prstGeom prst="rect">
            <a:avLst/>
          </a:prstGeom>
          <a:ln w="0">
            <a:noFill/>
          </a:ln>
        </p:spPr>
      </p:pic>
      <p:sp>
        <p:nvSpPr>
          <p:cNvPr id="6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E62C1-79D6-4B90-A507-4E62AAFB99E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uxilia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auxiliary method for clo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to start cloning of a single IStorab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ecks if cloning is necessary or if object has already been clo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several other methods for showing error mess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thods of PersistenceManager and Auxiliary have to be used to enable correct persisting / cloning of cyclical object grap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1738440" y="4429080"/>
            <a:ext cx="5667120" cy="1981080"/>
          </a:xfrm>
          <a:prstGeom prst="rect">
            <a:avLst/>
          </a:prstGeom>
          <a:ln w="0">
            <a:noFill/>
          </a:ln>
        </p:spPr>
      </p:pic>
      <p:sp>
        <p:nvSpPr>
          <p:cNvPr id="6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354F3-7302-40A0-8F81-F82DE757784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ersistence code in class TSPTou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ample XML snippe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hteck 5"/>
          <p:cNvSpPr/>
          <p:nvPr/>
        </p:nvSpPr>
        <p:spPr>
          <a:xfrm>
            <a:off x="285840" y="2500200"/>
            <a:ext cx="857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XmlNode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Get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string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Document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document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persist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 =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XmlNode(name, document, persist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Coordinates", Coordinates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Tour", Tour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Populat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restor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opulate(node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Coordinates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DoubleMatrixData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Coordinates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Tour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mutatio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Tour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hteck 7"/>
          <p:cNvSpPr/>
          <p:nvPr/>
        </p:nvSpPr>
        <p:spPr>
          <a:xfrm>
            <a:off x="142920" y="5000760"/>
            <a:ext cx="88581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jector Type="HeuristicLab.Operators.VariableInjector, HeuristicLab.Operators" GUID="65e6153d-18a6-4a9a-9b04-77732e8612b6"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                                                 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="VariableInjector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ubOperator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fo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d971503d-2ed0-43b2-bc6b-1bce4676dc51" Name="PopulationSize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0f36459e-1910-4852-91a6-ec37a9767df7"&gt;10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cb899fcb-76c3-4f86-9699-91cb6ee62420" Name="EvaluatedSolutions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4bd5b9ae-4ee2-4063-8e17-37972eae50b7"&gt;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Injector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6072120" y="1000080"/>
            <a:ext cx="2924280" cy="1495440"/>
          </a:xfrm>
          <a:prstGeom prst="rect">
            <a:avLst/>
          </a:prstGeom>
          <a:ln w="0">
            <a:noFill/>
          </a:ln>
        </p:spPr>
      </p:pic>
      <p:sp>
        <p:nvSpPr>
          <p:cNvPr id="71" name="Foliennummernplatzhalt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F8551-49B5-44E1-89AB-C7D08C764B4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I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s IStorable and IView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e class for (almost) every HeuristicLab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ta, variables, operators, engines, …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eve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Fire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fire Changed event manu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s to be called if contained complex objects are changed and don't provide an event-based notification (arrays, e.g.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tem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View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reateView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for creating a view for an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usually a view is a Windows Forms contro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iew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objects implementing IItem can be shown on the user interface (GU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ews of complex objects can be assembled using views of their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ict use of MVC patter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7000920" y="1143000"/>
            <a:ext cx="1781280" cy="1647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7000920" y="3571920"/>
            <a:ext cx="1781280" cy="1076400"/>
          </a:xfrm>
          <a:prstGeom prst="rect">
            <a:avLst/>
          </a:prstGeom>
          <a:ln w="0">
            <a:noFill/>
          </a:ln>
        </p:spPr>
      </p:pic>
      <p:sp>
        <p:nvSpPr>
          <p:cNvPr id="76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E7EEB-B975-42B4-AB45-8D51828BDD6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8T19:57:49Z</dcterms:modified>
  <cp:revision>62</cp:revision>
  <dc:subject/>
  <dc:title>HeuristicLab 3.0</dc:title>
</cp:coreProperties>
</file>