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B4D73-CE57-4EB0-BCD2-1DBCDAD43B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45E3F-EE1E-4C47-86A1-F8763ADBFD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E2E4C-ED82-4B81-837A-757F7EDFE6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72AAE-6EA2-4C7F-B257-AB328CD210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AB8F1-4ADC-439F-891A-CB2C33E3F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085AB-F124-4B87-A4F4-CD74DC201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5CDF-E307-461F-80B0-C8AF5E20D0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9CEC-3CA3-4C2B-9488-A76897FFF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4B97E-1AA1-441F-96F9-2B604A9B0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1694A-AF8B-4393-9EE6-43798E10E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9B5A8-4089-481B-BF4F-C20087C2E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4189-E632-466B-8008-5AC84DC1A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2B6225-DE22-44CF-AD9D-58A8D3188FA6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85698-04F8-4776-B99E-C3639045936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3" descr=""/>
          <p:cNvPicPr/>
          <p:nvPr/>
        </p:nvPicPr>
        <p:blipFill>
          <a:blip r:embed="rId1"/>
          <a:stretch/>
        </p:blipFill>
        <p:spPr>
          <a:xfrm>
            <a:off x="762120" y="1500120"/>
            <a:ext cx="7619760" cy="4829400"/>
          </a:xfrm>
          <a:prstGeom prst="rect">
            <a:avLst/>
          </a:prstGeom>
          <a:ln w="0">
            <a:noFill/>
          </a:ln>
        </p:spPr>
      </p:pic>
      <p:sp>
        <p:nvSpPr>
          <p:cNvPr id="79" name="Rechteck 5"/>
          <p:cNvSpPr/>
          <p:nvPr/>
        </p:nvSpPr>
        <p:spPr>
          <a:xfrm>
            <a:off x="857160" y="2571840"/>
            <a:ext cx="6000840" cy="328608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7200" spc="-1" strike="noStrike">
                <a:solidFill>
                  <a:srgbClr val="fac090"/>
                </a:solidFill>
                <a:latin typeface="Calibri"/>
              </a:rPr>
              <a:t>Engine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Rechteck 6"/>
          <p:cNvSpPr/>
          <p:nvPr/>
        </p:nvSpPr>
        <p:spPr>
          <a:xfrm>
            <a:off x="928800" y="2643120"/>
            <a:ext cx="257148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Operator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Graph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Rechteck 7"/>
          <p:cNvSpPr/>
          <p:nvPr/>
        </p:nvSpPr>
        <p:spPr>
          <a:xfrm>
            <a:off x="3571920" y="2643120"/>
            <a:ext cx="3214800" cy="27147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Rechteck 9"/>
          <p:cNvSpPr/>
          <p:nvPr/>
        </p:nvSpPr>
        <p:spPr>
          <a:xfrm>
            <a:off x="4572000" y="3357720"/>
            <a:ext cx="3643200" cy="178596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4800" spc="-1" strike="noStrike">
                <a:solidFill>
                  <a:srgbClr val="fac090"/>
                </a:solidFill>
                <a:latin typeface="Calibri"/>
              </a:rPr>
              <a:t>Scope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Rechteck 10"/>
          <p:cNvSpPr/>
          <p:nvPr/>
        </p:nvSpPr>
        <p:spPr>
          <a:xfrm>
            <a:off x="6357960" y="3429000"/>
            <a:ext cx="1785960" cy="1357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3200" spc="-1" strike="noStrike">
                <a:solidFill>
                  <a:srgbClr val="fac090"/>
                </a:solidFill>
                <a:latin typeface="Calibri"/>
              </a:rPr>
              <a:t>Variab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hteck 11"/>
          <p:cNvSpPr/>
          <p:nvPr/>
        </p:nvSpPr>
        <p:spPr>
          <a:xfrm>
            <a:off x="6429240" y="4214880"/>
            <a:ext cx="1643040" cy="214200"/>
          </a:xfrm>
          <a:prstGeom prst="rect">
            <a:avLst/>
          </a:prstGeom>
          <a:noFill/>
          <a:ln w="50760">
            <a:solidFill>
              <a:srgbClr val="e46c0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600" spc="-1" strike="noStrike">
                <a:solidFill>
                  <a:srgbClr val="fac090"/>
                </a:solidFill>
                <a:latin typeface="Calibri"/>
              </a:rPr>
              <a:t>Dat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Foliennummernplatzhalter 12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DFD53-96CF-4919-A4F7-F3923C2AFAF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9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1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2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1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2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set>
                                <p:cBhvr>
                                  <p:cTn id="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908E09-E208-425B-9B9A-973EFF5D611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at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data is represented as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ata objects have to implement IItem (are storable and viewable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ersistence methods have to be implement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ustom views can be provide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namespace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HeuristicLab.Data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contains several ready to use data object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rapper objects for system ty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Data, IntArrayData, IntMatrixData, DoubleData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ollec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temLi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2" name="Picture 2" descr=""/>
          <p:cNvPicPr/>
          <p:nvPr/>
        </p:nvPicPr>
        <p:blipFill>
          <a:blip r:embed="rId1"/>
          <a:stretch/>
        </p:blipFill>
        <p:spPr>
          <a:xfrm>
            <a:off x="1509840" y="4357800"/>
            <a:ext cx="6124320" cy="2286000"/>
          </a:xfrm>
          <a:prstGeom prst="rect">
            <a:avLst/>
          </a:prstGeom>
          <a:ln w="0">
            <a:noFill/>
          </a:ln>
        </p:spPr>
      </p:pic>
      <p:sp>
        <p:nvSpPr>
          <p:cNvPr id="9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9A255-A0DD-4B70-85C5-9E4F8C01103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68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operators manipulate data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data objects need names to be accessi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2500" spc="-1" strike="noStrike">
                <a:solidFill>
                  <a:srgbClr val="000000"/>
                </a:solidFill>
                <a:latin typeface="Calibri"/>
              </a:rPr>
              <a:t>IVariabl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contains name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Nam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 and data object (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defines generic method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GetValue</a:t>
            </a: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 to access valu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ous events to signal changes (MVC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Variabl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584000" indent="-226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IVariable implements IItem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riables themselves can be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values of variabl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required for meta-programm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ore on that later …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2" descr=""/>
          <p:cNvPicPr/>
          <p:nvPr/>
        </p:nvPicPr>
        <p:blipFill>
          <a:blip r:embed="rId1"/>
          <a:stretch/>
        </p:blipFill>
        <p:spPr>
          <a:xfrm>
            <a:off x="5357880" y="4286160"/>
            <a:ext cx="3610080" cy="2333880"/>
          </a:xfrm>
          <a:prstGeom prst="rect">
            <a:avLst/>
          </a:prstGeom>
          <a:ln w="0">
            <a:noFill/>
          </a:ln>
        </p:spPr>
      </p:pic>
      <p:sp>
        <p:nvSpPr>
          <p:cNvPr id="9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45BF7-2922-43D6-AD00-8358504136E4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6840" y="1600200"/>
            <a:ext cx="4257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s are organized i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Scop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ierarchical container of variabl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scop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Scop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several methods to get/add/remove variables and sub-scop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perform recursive variable lookup towards the root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variables with identical names hide variables of parent 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 (MVC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copes build an n-ary tree structur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work on 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get variables, manipulate, write back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0" name="Picture 2" descr=""/>
          <p:cNvPicPr/>
          <p:nvPr/>
        </p:nvPicPr>
        <p:blipFill>
          <a:blip r:embed="rId1"/>
          <a:stretch/>
        </p:blipFill>
        <p:spPr>
          <a:xfrm>
            <a:off x="4619520" y="1428840"/>
            <a:ext cx="4524480" cy="4743360"/>
          </a:xfrm>
          <a:prstGeom prst="rect">
            <a:avLst/>
          </a:prstGeom>
          <a:ln w="0">
            <a:noFill/>
          </a:ln>
        </p:spPr>
      </p:pic>
      <p:sp>
        <p:nvSpPr>
          <p:cNvPr id="10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13F0DD-2E6F-4661-AB4D-3358C644253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represent basic instructions of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manipulate scopes (modify variables and/or sub-scope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decide which operators are executed nex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sub-operator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ubOperator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local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meta-information about variables (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fos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s to manipulate its data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vents to signal chang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xecut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execute the operator on a specific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GetVariableValue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methods for conveniant variable lookup (either in the local variables or in the scope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Operator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s store references to their successor operators (sub-operators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uild a graph structure (execution graph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064F5-F9B1-4AE3-BAF6-B5FFD49FD4C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Picture 3" descr=""/>
          <p:cNvPicPr/>
          <p:nvPr/>
        </p:nvPicPr>
        <p:blipFill>
          <a:blip r:embed="rId1"/>
          <a:stretch/>
        </p:blipFill>
        <p:spPr>
          <a:xfrm>
            <a:off x="2000160" y="1571760"/>
            <a:ext cx="5667480" cy="4438440"/>
          </a:xfrm>
          <a:prstGeom prst="rect">
            <a:avLst/>
          </a:prstGeom>
          <a:ln w="0">
            <a:noFill/>
          </a:ln>
        </p:spPr>
      </p:pic>
      <p:sp>
        <p:nvSpPr>
          <p:cNvPr id="10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92871F-1D34-4714-9728-42C0D316F31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ariable Info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have to be independent of concrete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, functionality of a counter operator: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get variable from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crease the variable's value by 1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rite new variable value back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echanism needed to translate formal variable names</a:t>
            </a:r>
            <a:br>
              <a:rPr sz="1500"/>
            </a:b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o actual variable nam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rmal variable name is used by the operator to identify a variabl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actual variable name is the real name of the variable in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VariableInfo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tores meta-information about variabl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actual name, formal name, data type, description, kind, …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ed by operators to define which variables are requir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operator has to define a variable info object for each variable it require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usually done in the operator's constructor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ctual names can be set by the user when assembling an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mal/actual name translation is automatically performed when using an operators GetVariableValue metho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0" name="Picture 2" descr=""/>
          <p:cNvPicPr/>
          <p:nvPr/>
        </p:nvPicPr>
        <p:blipFill>
          <a:blip r:embed="rId1"/>
          <a:stretch/>
        </p:blipFill>
        <p:spPr>
          <a:xfrm>
            <a:off x="6357960" y="1500120"/>
            <a:ext cx="2467080" cy="243864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3" descr=""/>
          <p:cNvPicPr/>
          <p:nvPr/>
        </p:nvPicPr>
        <p:blipFill>
          <a:blip r:embed="rId2"/>
          <a:stretch/>
        </p:blipFill>
        <p:spPr>
          <a:xfrm>
            <a:off x="7286760" y="3929040"/>
            <a:ext cx="1552320" cy="1486080"/>
          </a:xfrm>
          <a:prstGeom prst="rect">
            <a:avLst/>
          </a:prstGeom>
          <a:ln w="0">
            <a:noFill/>
          </a:ln>
        </p:spPr>
      </p:pic>
      <p:sp>
        <p:nvSpPr>
          <p:cNvPr id="112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AAA81-245F-4822-BB47-B6E433F3F5B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unt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Rechteck 3"/>
          <p:cNvSpPr/>
          <p:nvPr/>
        </p:nvSpPr>
        <p:spPr>
          <a:xfrm>
            <a:off x="874800" y="2071800"/>
            <a:ext cx="739440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unte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unter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ormal nam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Counter 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escrip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                 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data typ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 |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Out)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k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perform formal/actual name transl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nt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</a:t>
            </a:r>
            <a:r>
              <a:rPr b="0" lang="de-AT" sz="1200" spc="-1" strike="noStrike">
                <a:solidFill>
                  <a:srgbClr val="f79646"/>
                </a:solidFill>
                <a:latin typeface="Courier New"/>
                <a:ea typeface="Courier New"/>
              </a:rPr>
              <a:t>"Value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value.Data++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6F48D-146E-49C1-B317-6860FE7D35BB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er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456840" y="1600200"/>
            <a:ext cx="6543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store references to their sub-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after execution operators have to decide which operators are executed nex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o enable step-wise execution and parallelism operators should not directly execute their successor operator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that should be executed next and the corresponding scopes are represented as operations and returned to the 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marker interface inherited from IItem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n't contain any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(composite pattern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Atomic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 single opera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on which the operator should be executed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mpositeOper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operation consisting of several other operation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 collection of sub-operations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ion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flag to indicate if sub-operations can be executed in parallel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ExecuteInParallel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8" name="Picture 7" descr=""/>
          <p:cNvPicPr/>
          <p:nvPr/>
        </p:nvPicPr>
        <p:blipFill>
          <a:blip r:embed="rId1"/>
          <a:stretch/>
        </p:blipFill>
        <p:spPr>
          <a:xfrm>
            <a:off x="7134120" y="2643120"/>
            <a:ext cx="2009880" cy="1924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"/>
          <p:cNvPicPr/>
          <p:nvPr/>
        </p:nvPicPr>
        <p:blipFill>
          <a:blip r:embed="rId2"/>
          <a:stretch/>
        </p:blipFill>
        <p:spPr>
          <a:xfrm>
            <a:off x="6448320" y="4643280"/>
            <a:ext cx="2695680" cy="1924200"/>
          </a:xfrm>
          <a:prstGeom prst="rect">
            <a:avLst/>
          </a:prstGeom>
          <a:ln w="0">
            <a:noFill/>
          </a:ln>
        </p:spPr>
      </p:pic>
      <p:sp>
        <p:nvSpPr>
          <p:cNvPr id="120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FDA247-C366-4891-ADE4-1A715A89495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eneric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no focus on any particular heuristic optimization paradig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algorith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uitable for any kind of problem and solution representa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ug-in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abilit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ensive use of graphical user interfaces (WinForms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tep-wise algorithm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active algorithm engineering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arallelis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gration of parallel algorithm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separation of algorithms and parallelization concep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D377A5-BC3E-4D00-897A-09E5663FDCB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xample: ConditionalBranch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Rechteck 3"/>
          <p:cNvSpPr/>
          <p:nvPr/>
        </p:nvSpPr>
        <p:spPr>
          <a:xfrm>
            <a:off x="581040" y="2071800"/>
            <a:ext cx="7981920" cy="392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nditionalBranch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ConditionalBranch(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ddVariableInfo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Info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Condition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c0504d"/>
                </a:solidFill>
                <a:latin typeface="Courier New"/>
                <a:ea typeface="Courier New"/>
              </a:rPr>
              <a:t>"A boolean variable that decides the branch"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ypeo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VariableKind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.In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Data = GetVariableValue&lt;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BoolData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("Condition", scope,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bool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result = resultData.Data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f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(resul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tru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els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1], scope);  </a:t>
            </a:r>
            <a:r>
              <a:rPr b="0" lang="de-AT" sz="1200" spc="-1" strike="noStrike">
                <a:solidFill>
                  <a:srgbClr val="9bbb59"/>
                </a:solidFill>
                <a:latin typeface="Courier New"/>
                <a:ea typeface="Courier New"/>
              </a:rPr>
              <a:t>// false 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 null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50CE6-F555-45E2-A0E5-CE911A0E82D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Example: SequentialProcessor, UniformParallelSubScopesProcessor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Rechteck 4"/>
          <p:cNvSpPr/>
          <p:nvPr/>
        </p:nvSpPr>
        <p:spPr>
          <a:xfrm>
            <a:off x="581040" y="1989000"/>
            <a:ext cx="7981920" cy="410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SequentialProcessor</a:t>
            </a:r>
            <a:r>
              <a:rPr b="0" lang="de-AT" sz="1200" spc="-1" strike="noStrike">
                <a:solidFill>
                  <a:srgbClr val="4f81b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i = 0; i &lt; SubOperator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(SubOperators[i], scope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</a:rPr>
              <a:t>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class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UniformParallelSubScopesProcessor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: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OperatorBase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Operation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Apply(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IScop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scope) {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Composite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ExecuteInParallel =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true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for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int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i = 0; i &lt; scope.SubScopes.Count; i++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next.AddOperation(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new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de-AT" sz="1200" spc="-1" strike="noStrike">
                <a:solidFill>
                  <a:srgbClr val="4bacc6"/>
                </a:solidFill>
                <a:latin typeface="Courier New"/>
                <a:ea typeface="Courier New"/>
              </a:rPr>
              <a:t>AtomicOperatio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(SubOperators[0], scope.SubScopes[i]))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12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nex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C81B4-2D2F-4E27-8EDC-3670D4EF145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ngin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457200" y="1600200"/>
            <a:ext cx="5400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operators must not call their successor operators di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 is responsible for operator executi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ngines are able to deal with parallelism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Operator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represents an algorithm (a graph of operators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initial operator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InitialOperator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list of all operators 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s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Engin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ndles execution of operator graph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ntains an operator graph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OperatorGraph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 and a global scope (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GlobalScop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to start, stop or abort execut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equentialEngine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ThreadParallelEngin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ach execution start with an empty global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Picture 2" descr=""/>
          <p:cNvPicPr/>
          <p:nvPr/>
        </p:nvPicPr>
        <p:blipFill>
          <a:blip r:embed="rId1"/>
          <a:stretch/>
        </p:blipFill>
        <p:spPr>
          <a:xfrm>
            <a:off x="5643720" y="3143160"/>
            <a:ext cx="3381120" cy="3533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4" descr=""/>
          <p:cNvPicPr/>
          <p:nvPr/>
        </p:nvPicPr>
        <p:blipFill>
          <a:blip r:embed="rId2"/>
          <a:stretch/>
        </p:blipFill>
        <p:spPr>
          <a:xfrm>
            <a:off x="5643720" y="1428840"/>
            <a:ext cx="3381120" cy="1733400"/>
          </a:xfrm>
          <a:prstGeom prst="rect">
            <a:avLst/>
          </a:prstGeom>
          <a:ln w="0">
            <a:noFill/>
          </a:ln>
        </p:spPr>
      </p:pic>
      <p:sp>
        <p:nvSpPr>
          <p:cNvPr id="131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FE32B-4356-4FA3-8DFC-55AEE2D316D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33" name="Gruppieren 20"/>
          <p:cNvGrpSpPr/>
          <p:nvPr/>
        </p:nvGrpSpPr>
        <p:grpSpPr>
          <a:xfrm>
            <a:off x="714240" y="2143080"/>
            <a:ext cx="7715520" cy="3571920"/>
            <a:chOff x="714240" y="2143080"/>
            <a:chExt cx="7715520" cy="3571920"/>
          </a:xfrm>
        </p:grpSpPr>
        <p:sp>
          <p:nvSpPr>
            <p:cNvPr id="134" name="Rechteck 22"/>
            <p:cNvSpPr/>
            <p:nvPr/>
          </p:nvSpPr>
          <p:spPr>
            <a:xfrm>
              <a:off x="714240" y="5357880"/>
              <a:ext cx="7715520" cy="357120"/>
            </a:xfrm>
            <a:prstGeom prst="rect">
              <a:avLst/>
            </a:prstGeom>
            <a:solidFill>
              <a:srgbClr val="7f7f7f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.NET 2.0 / 3.5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5" name="Rechteck 23"/>
            <p:cNvSpPr/>
            <p:nvPr/>
          </p:nvSpPr>
          <p:spPr>
            <a:xfrm>
              <a:off x="714240" y="5000760"/>
              <a:ext cx="7715520" cy="357120"/>
            </a:xfrm>
            <a:prstGeom prst="rect">
              <a:avLst/>
            </a:prstGeom>
            <a:solidFill>
              <a:srgbClr val="254061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lugin Infrastructu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6" name="Rechteck 24"/>
            <p:cNvSpPr/>
            <p:nvPr/>
          </p:nvSpPr>
          <p:spPr>
            <a:xfrm>
              <a:off x="714240" y="4643640"/>
              <a:ext cx="771552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r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7" name="Rechteck 25"/>
            <p:cNvSpPr/>
            <p:nvPr/>
          </p:nvSpPr>
          <p:spPr>
            <a:xfrm>
              <a:off x="714240" y="428616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Dat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8" name="Rechteck 26"/>
            <p:cNvSpPr/>
            <p:nvPr/>
          </p:nvSpPr>
          <p:spPr>
            <a:xfrm>
              <a:off x="714240" y="392904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Constraint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Rechteck 27"/>
            <p:cNvSpPr/>
            <p:nvPr/>
          </p:nvSpPr>
          <p:spPr>
            <a:xfrm>
              <a:off x="714240" y="3571920"/>
              <a:ext cx="4572360" cy="357120"/>
            </a:xfrm>
            <a:prstGeom prst="rect">
              <a:avLst/>
            </a:prstGeom>
            <a:solidFill>
              <a:srgbClr val="37609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Operators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0" name="Rechteck 28"/>
            <p:cNvSpPr/>
            <p:nvPr/>
          </p:nvSpPr>
          <p:spPr>
            <a:xfrm>
              <a:off x="528660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quentia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1" name="Rechteck 29"/>
            <p:cNvSpPr/>
            <p:nvPr/>
          </p:nvSpPr>
          <p:spPr>
            <a:xfrm>
              <a:off x="6858360" y="2500200"/>
              <a:ext cx="1571400" cy="2143080"/>
            </a:xfrm>
            <a:prstGeom prst="rect">
              <a:avLst/>
            </a:prstGeom>
            <a:solidFill>
              <a:srgbClr val="31859c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hreadParallel</a:t>
              </a:r>
              <a:br>
                <a:rPr sz="1600"/>
              </a:b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ngine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Rechteck 30"/>
            <p:cNvSpPr/>
            <p:nvPr/>
          </p:nvSpPr>
          <p:spPr>
            <a:xfrm>
              <a:off x="207144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Rechteck 31"/>
            <p:cNvSpPr/>
            <p:nvPr/>
          </p:nvSpPr>
          <p:spPr>
            <a:xfrm>
              <a:off x="421488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Logging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Rechteck 32"/>
            <p:cNvSpPr/>
            <p:nvPr/>
          </p:nvSpPr>
          <p:spPr>
            <a:xfrm>
              <a:off x="714240" y="321444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Evolutionary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Rechteck 33"/>
            <p:cNvSpPr/>
            <p:nvPr/>
          </p:nvSpPr>
          <p:spPr>
            <a:xfrm>
              <a:off x="714240" y="285732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Rechteck 34"/>
            <p:cNvSpPr/>
            <p:nvPr/>
          </p:nvSpPr>
          <p:spPr>
            <a:xfrm>
              <a:off x="3143160" y="2500200"/>
              <a:ext cx="1071360" cy="107136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Random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Rechteck 35"/>
            <p:cNvSpPr/>
            <p:nvPr/>
          </p:nvSpPr>
          <p:spPr>
            <a:xfrm>
              <a:off x="714240" y="2500200"/>
              <a:ext cx="1357200" cy="357120"/>
            </a:xfrm>
            <a:prstGeom prst="rect">
              <a:avLst/>
            </a:prstGeom>
            <a:solidFill>
              <a:srgbClr val="95b3d7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TSP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Rechteck 36"/>
            <p:cNvSpPr/>
            <p:nvPr/>
          </p:nvSpPr>
          <p:spPr>
            <a:xfrm>
              <a:off x="2071440" y="2143080"/>
              <a:ext cx="4786560" cy="357120"/>
            </a:xfrm>
            <a:prstGeom prst="rect">
              <a:avLst/>
            </a:prstGeom>
            <a:solidFill>
              <a:srgbClr val="dce6f2"/>
            </a:solidFill>
            <a:ln w="25560">
              <a:solidFill>
                <a:srgbClr val="bfbfb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600" spc="-1" strike="noStrike">
                  <a:solidFill>
                    <a:srgbClr val="ffffff"/>
                  </a:solidFill>
                  <a:latin typeface="Calibri"/>
                </a:rPr>
                <a:t>SGA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9" name="Foliennummernplatzhalter 1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4D82F-A2CB-45B5-91F3-F9968239327C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3714840"/>
            <a:ext cx="8229600" cy="24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a plugin can contain multiple files (assemblies, data files, images, icons, …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s may depend on each oth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eta-data (descriptions, dependencies, etc.) are stored in the code files (attributes)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no XML description file like in HeuristicLab 2.0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infrastructure enables drop-in installation (similar to eclipse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Rechteck 3"/>
          <p:cNvSpPr/>
          <p:nvPr/>
        </p:nvSpPr>
        <p:spPr>
          <a:xfrm>
            <a:off x="820800" y="1285920"/>
            <a:ext cx="7502400" cy="22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using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HeuristicLab.PluginInfrastructure;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namespac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MyProject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ClassInfo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 Project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Vers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0.99.0.0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Description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Just an example plugin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MyProject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ZipLibrary.dll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Assembly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Filename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Database.db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, Filetype =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FileTyp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.Data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Data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[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Dependency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(Dependency = </a:t>
            </a:r>
            <a:r>
              <a:rPr b="0" lang="en-US" sz="1000" spc="-1" strike="noStrike">
                <a:solidFill>
                  <a:srgbClr val="c0504d"/>
                </a:solidFill>
                <a:latin typeface="ProFontWindows"/>
              </a:rPr>
              <a:t>"HeuristicLab.Random"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)]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1f497d"/>
                </a:solidFill>
                <a:latin typeface="ProFontWindows"/>
              </a:rPr>
              <a:t>public class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MyProjectPlugin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: </a:t>
            </a:r>
            <a:r>
              <a:rPr b="0" lang="en-US" sz="1000" spc="-1" strike="noStrike">
                <a:solidFill>
                  <a:srgbClr val="4bacc6"/>
                </a:solidFill>
                <a:latin typeface="ProFontWindows"/>
              </a:rPr>
              <a:t>PluginBase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{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ProFontWindow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122FDC-BB64-4EC1-B03D-6AB80DBC61D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Plugin Infrastru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4471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plugin manag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pired by Debian package management system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are deployed as ZIP archiv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 manager minds dependenci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required plugins are automatically install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dependent plugins are automatically removed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HTTP-based updating of plugi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lugins can be installed and removed at runtim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each application has its own application domain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5072040" y="1571760"/>
            <a:ext cx="3838680" cy="4647960"/>
          </a:xfrm>
          <a:prstGeom prst="rect">
            <a:avLst/>
          </a:prstGeom>
          <a:ln w="0">
            <a:noFill/>
          </a:ln>
        </p:spPr>
      </p:pic>
      <p:sp>
        <p:nvSpPr>
          <p:cNvPr id="53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00190-FFFC-4165-BA49-E628F8A94AB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599840"/>
            <a:ext cx="8229600" cy="332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ic interface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Stor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unique identifier (GUID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Gu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ui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 { get; }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clon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object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IDictionary&lt;Guid, object&gt; clon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fines methods for persisting to and restoring from XM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XmlNode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GetXmlNod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string name, XMLDocument document, IDictionary&lt;Guid, IStorable&gt; persistedObjects&gt;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void </a:t>
            </a:r>
            <a:r>
              <a:rPr b="1" lang="en-US" sz="1100" spc="-1" strike="noStrike">
                <a:solidFill>
                  <a:srgbClr val="000000"/>
                </a:solidFill>
                <a:latin typeface="Calibri"/>
              </a:rPr>
              <a:t>Populat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</a:rPr>
              <a:t>(XmlNode node, IDictionary&lt;Guid, IStorable&gt; restoredObjects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300" spc="-1" strike="noStrike">
                <a:solidFill>
                  <a:srgbClr val="000000"/>
                </a:solidFill>
                <a:latin typeface="Calibri"/>
              </a:rPr>
              <a:t>StorableBas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ultiple references to a single object are handled correct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yclical object graphs can be cloned or persisted automatic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ep cloning is used by defaul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3" descr=""/>
          <p:cNvPicPr/>
          <p:nvPr/>
        </p:nvPicPr>
        <p:blipFill>
          <a:blip r:embed="rId1"/>
          <a:stretch/>
        </p:blipFill>
        <p:spPr>
          <a:xfrm>
            <a:off x="1509840" y="4857840"/>
            <a:ext cx="6124320" cy="1876320"/>
          </a:xfrm>
          <a:prstGeom prst="rect">
            <a:avLst/>
          </a:prstGeom>
          <a:ln w="0">
            <a:noFill/>
          </a:ln>
        </p:spPr>
      </p:pic>
      <p:sp>
        <p:nvSpPr>
          <p:cNvPr id="57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8F946-FE3A-409C-BD74-E469A93ED2F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 txBox="1"/>
          <p:nvPr/>
        </p:nvSpPr>
        <p:spPr>
          <a:xfrm>
            <a:off x="457200" y="1600200"/>
            <a:ext cx="8229600" cy="27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700" spc="-1" strike="noStrike">
                <a:solidFill>
                  <a:srgbClr val="000000"/>
                </a:solidFill>
                <a:latin typeface="Calibri"/>
              </a:rPr>
              <a:t>PersistenceManager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vides auxiliary methods for persistenc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Load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av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write IStorable to or to restore it from dis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Persist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and 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Restore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to start persisting or restoring of single IStorabl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y default type names are used as XML tag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ersist offers parameter (name) to specify some other name as XML ta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5" descr=""/>
          <p:cNvPicPr/>
          <p:nvPr/>
        </p:nvPicPr>
        <p:blipFill>
          <a:blip r:embed="rId1"/>
          <a:stretch/>
        </p:blipFill>
        <p:spPr>
          <a:xfrm>
            <a:off x="1281240" y="4714920"/>
            <a:ext cx="6581520" cy="1828800"/>
          </a:xfrm>
          <a:prstGeom prst="rect">
            <a:avLst/>
          </a:prstGeom>
          <a:ln w="0">
            <a:noFill/>
          </a:ln>
        </p:spPr>
      </p:pic>
      <p:sp>
        <p:nvSpPr>
          <p:cNvPr id="61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9AF16-5754-4359-AE70-B5209A98999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 txBox="1"/>
          <p:nvPr/>
        </p:nvSpPr>
        <p:spPr>
          <a:xfrm>
            <a:off x="457200" y="1600200"/>
            <a:ext cx="8229600" cy="311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static class </a:t>
            </a:r>
            <a:r>
              <a:rPr b="1" lang="en-US" sz="2200" spc="-1" strike="noStrike">
                <a:solidFill>
                  <a:srgbClr val="000000"/>
                </a:solidFill>
                <a:latin typeface="Calibri"/>
              </a:rPr>
              <a:t>Auxiliary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auxiliary method for clon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700" spc="-1" strike="noStrike">
                <a:solidFill>
                  <a:srgbClr val="000000"/>
                </a:solidFill>
                <a:latin typeface="Calibri"/>
              </a:rPr>
              <a:t>Clone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 to start cloning of a single IStorable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hecks if cloning is necessary or if object has already been clone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provides several other methods for showing error messag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methods of PersistenceManager and Auxiliary have to be used to enable correct persisting / cloning of cyclical object graph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4" name="Picture 6" descr=""/>
          <p:cNvPicPr/>
          <p:nvPr/>
        </p:nvPicPr>
        <p:blipFill>
          <a:blip r:embed="rId1"/>
          <a:stretch/>
        </p:blipFill>
        <p:spPr>
          <a:xfrm>
            <a:off x="1738440" y="4429080"/>
            <a:ext cx="5667120" cy="1981080"/>
          </a:xfrm>
          <a:prstGeom prst="rect">
            <a:avLst/>
          </a:prstGeom>
          <a:ln w="0">
            <a:noFill/>
          </a:ln>
        </p:spPr>
      </p:pic>
      <p:sp>
        <p:nvSpPr>
          <p:cNvPr id="65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C4F48-8039-4B8F-A03C-6D0B94A1815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ersistenc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347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persistence code in class TSPTour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12120" indent="-31212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Calibri"/>
              </a:rPr>
              <a:t>example XML snippet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Rechteck 5"/>
          <p:cNvSpPr/>
          <p:nvPr/>
        </p:nvSpPr>
        <p:spPr>
          <a:xfrm>
            <a:off x="285840" y="2500200"/>
            <a:ext cx="8572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XmlNode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Get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string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am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Document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document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persist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 =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GetXmlNode(name, document, persist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Coordinates", Coordinates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node.AppendChild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ersist("Tour", Tour, document, persistedObjects)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retur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public override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void </a:t>
            </a:r>
            <a:r>
              <a:rPr b="1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Populat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XmlNod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node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Dictionary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Guid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, 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IStorabl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&gt; restoredObjects) {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1f497d"/>
                </a:solidFill>
                <a:latin typeface="Courier New"/>
                <a:ea typeface="Courier New"/>
              </a:rPr>
              <a:t>base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Populate(node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Coordinates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DoubleMatrixData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Coordinates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myTour = (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mutation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</a:t>
            </a:r>
            <a:r>
              <a:rPr b="0" lang="de-AT" sz="900" spc="-1" strike="noStrike">
                <a:solidFill>
                  <a:srgbClr val="4bacc6"/>
                </a:solidFill>
                <a:latin typeface="Courier New"/>
                <a:ea typeface="Courier New"/>
              </a:rPr>
              <a:t>PersistenceManager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.Restore(node.SelectSingleNode(</a:t>
            </a:r>
            <a:r>
              <a:rPr b="0" lang="de-AT" sz="900" spc="-1" strike="noStrike">
                <a:solidFill>
                  <a:srgbClr val="c0504d"/>
                </a:solidFill>
                <a:latin typeface="Courier New"/>
                <a:ea typeface="Courier New"/>
              </a:rPr>
              <a:t>"Tour"</a:t>
            </a: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), restoredObjects);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9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Rechteck 7"/>
          <p:cNvSpPr/>
          <p:nvPr/>
        </p:nvSpPr>
        <p:spPr>
          <a:xfrm>
            <a:off x="142920" y="5000760"/>
            <a:ext cx="885816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jector Type="HeuristicLab.Operators.VariableInjector, HeuristicLab.Operators" GUID="65e6153d-18a6-4a9a-9b04-77732e8612b6"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                                                                                                 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Name="VariableInjector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SubOperator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Infos /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d971503d-2ed0-43b2-bc6b-1bce4676dc51" Name="PopulationSize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0f36459e-1910-4852-91a6-ec37a9767df7"&gt;10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riable Type="HeuristicLab.Core.Variable, HeuristicLab.Core" GUID="cb899fcb-76c3-4f86-9699-91cb6ee62420" Name="EvaluatedSolutions"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Value Type="HeuristicLab.Data.IntData, HeuristicLab.Data" GUID="4bd5b9ae-4ee2-4063-8e17-37972eae50b7"&gt;0&lt;/Valu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s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8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/VariableInjector&gt;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3" descr=""/>
          <p:cNvPicPr/>
          <p:nvPr/>
        </p:nvPicPr>
        <p:blipFill>
          <a:blip r:embed="rId1"/>
          <a:stretch/>
        </p:blipFill>
        <p:spPr>
          <a:xfrm>
            <a:off x="6072120" y="1000080"/>
            <a:ext cx="2924280" cy="1495440"/>
          </a:xfrm>
          <a:prstGeom prst="rect">
            <a:avLst/>
          </a:prstGeom>
          <a:ln w="0">
            <a:noFill/>
          </a:ln>
        </p:spPr>
      </p:pic>
      <p:sp>
        <p:nvSpPr>
          <p:cNvPr id="71" name="Foliennummernplatzhalter 6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615477-69BC-4E08-90AF-55361B66A08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te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Ite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s IStorable and IViewabl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base class for (almost) every HeuristicLab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ata, variables, operators, engines, …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even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FireChanged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to fire Changed event manually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has to be called if contained complex objects are changed and don't provide an event-based notification (arrays, e.g.)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abstract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Item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terface </a:t>
            </a: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Viewab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defines method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reateView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 for creating a view for an objec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usually a view is a Windows Forms contro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implemented by base class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iewBas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l objects implementing IItem can be shown on the user interface (GUI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iews of complex objects can be assembled using views of their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strict use of MVC patter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7000920" y="1143000"/>
            <a:ext cx="1781280" cy="16477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3" descr=""/>
          <p:cNvPicPr/>
          <p:nvPr/>
        </p:nvPicPr>
        <p:blipFill>
          <a:blip r:embed="rId2"/>
          <a:stretch/>
        </p:blipFill>
        <p:spPr>
          <a:xfrm>
            <a:off x="7000920" y="3571920"/>
            <a:ext cx="1781280" cy="1076400"/>
          </a:xfrm>
          <a:prstGeom prst="rect">
            <a:avLst/>
          </a:prstGeom>
          <a:ln w="0">
            <a:noFill/>
          </a:ln>
        </p:spPr>
      </p:pic>
      <p:sp>
        <p:nvSpPr>
          <p:cNvPr id="76" name="Foliennummernplatzhalter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AEAA4-DF04-49C9-902F-F6E20E146BD8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8T19:57:49Z</dcterms:modified>
  <cp:revision>62</cp:revision>
  <dc:subject/>
  <dc:title>HeuristicLab 3.0</dc:title>
</cp:coreProperties>
</file>