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80E08-FF08-4B36-B185-5D34F8AF6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308B0-C5C3-4932-9EA3-E256B8DB4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7867A-1EA2-4D50-A722-F5DCE2F87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74B22-A889-41C8-BDF2-194ED4B03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8F563-AC14-44B6-94DC-E1EE5A1C7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7D9C8-3101-4987-A239-3C5530737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F6484-EF29-4527-BBF0-8FD49A4AE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20A87-ADF0-4A0D-8273-0C2413352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7A941-9275-439C-9594-DCC78651E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F5899-872A-45ED-93B0-0DA8D0C36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A2F0F-D755-4405-B160-307785C25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D06BF-0A20-49F4-AE85-55E79EDF6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D6075-0C6D-43A2-95B0-838B01AB420A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C5E42-BA45-4140-B185-10CA635628D4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HeuristicLab 3.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898989"/>
                </a:solidFill>
                <a:latin typeface="Calibri"/>
              </a:rPr>
              <a:t>Modeling E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Se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000000"/>
                </a:solidFill>
                <a:latin typeface="Calibri"/>
              </a:rPr>
              <a:t>separate sub-scopes into two group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insert a new level in the scope tre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copy/move selected sub-scop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use sub-scopes processors to work on selected scop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000000"/>
                </a:solidFill>
                <a:latin typeface="Calibri"/>
              </a:rPr>
              <a:t>basic selection operator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LeftSelector</a:t>
            </a: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RightSelector</a:t>
            </a: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RandomSelect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900" spc="-1" strike="noStrike">
                <a:solidFill>
                  <a:srgbClr val="000000"/>
                </a:solidFill>
                <a:latin typeface="Calibri"/>
              </a:rPr>
              <a:t>copy/move n sub-scopes from left or right or randomly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000000"/>
                </a:solidFill>
                <a:latin typeface="Calibri"/>
              </a:rPr>
              <a:t>quality-based selection operator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selection is based on a double value (quality) in each sub-scop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ProportionalSelector</a:t>
            </a: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LinearRankSelector</a:t>
            </a: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TournamentSelect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5262D-A85F-473D-9C21-1885F39E8E66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Se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687B2-220D-4354-989D-DE80E82D2CE6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9" name="Gruppieren 35"/>
          <p:cNvGrpSpPr/>
          <p:nvPr/>
        </p:nvGrpSpPr>
        <p:grpSpPr>
          <a:xfrm>
            <a:off x="1677960" y="2428920"/>
            <a:ext cx="5788080" cy="3071880"/>
            <a:chOff x="1677960" y="2428920"/>
            <a:chExt cx="5788080" cy="3071880"/>
          </a:xfrm>
        </p:grpSpPr>
        <p:sp>
          <p:nvSpPr>
            <p:cNvPr id="180" name="Rechteck 5"/>
            <p:cNvSpPr/>
            <p:nvPr/>
          </p:nvSpPr>
          <p:spPr>
            <a:xfrm>
              <a:off x="5322240" y="4000680"/>
              <a:ext cx="121464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" name="Rechteck 6"/>
            <p:cNvSpPr/>
            <p:nvPr/>
          </p:nvSpPr>
          <p:spPr>
            <a:xfrm>
              <a:off x="3893040" y="4000680"/>
              <a:ext cx="121464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82" name="Gruppieren 33"/>
            <p:cNvGrpSpPr/>
            <p:nvPr/>
          </p:nvGrpSpPr>
          <p:grpSpPr>
            <a:xfrm>
              <a:off x="1677960" y="3214800"/>
              <a:ext cx="1071720" cy="928800"/>
              <a:chOff x="1677960" y="3214800"/>
              <a:chExt cx="1071720" cy="928800"/>
            </a:xfrm>
          </p:grpSpPr>
          <p:sp>
            <p:nvSpPr>
              <p:cNvPr id="183" name="Ellipse 4"/>
              <p:cNvSpPr/>
              <p:nvPr/>
            </p:nvSpPr>
            <p:spPr>
              <a:xfrm>
                <a:off x="1677960" y="37864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4" name="Ellipse 5"/>
              <p:cNvSpPr/>
              <p:nvPr/>
            </p:nvSpPr>
            <p:spPr>
              <a:xfrm>
                <a:off x="2392560" y="37864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5" name="Rechteck 31"/>
              <p:cNvSpPr/>
              <p:nvPr/>
            </p:nvSpPr>
            <p:spPr>
              <a:xfrm>
                <a:off x="2035080" y="378648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6" name="Ellipse 32"/>
              <p:cNvSpPr/>
              <p:nvPr/>
            </p:nvSpPr>
            <p:spPr>
              <a:xfrm>
                <a:off x="2035080" y="32148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7" name="Gerade Verbindung 33"/>
              <p:cNvSpPr/>
              <p:nvPr/>
            </p:nvSpPr>
            <p:spPr>
              <a:xfrm flipH="1">
                <a:off x="1856520" y="357192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8" name="Gerade Verbindung 34"/>
              <p:cNvSpPr/>
              <p:nvPr/>
            </p:nvSpPr>
            <p:spPr>
              <a:xfrm>
                <a:off x="2213640" y="357192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89" name="Gruppieren 34"/>
            <p:cNvGrpSpPr/>
            <p:nvPr/>
          </p:nvGrpSpPr>
          <p:grpSpPr>
            <a:xfrm>
              <a:off x="3964680" y="2928960"/>
              <a:ext cx="2500920" cy="1500120"/>
              <a:chOff x="3964680" y="2928960"/>
              <a:chExt cx="2500920" cy="1500120"/>
            </a:xfrm>
          </p:grpSpPr>
          <p:sp>
            <p:nvSpPr>
              <p:cNvPr id="190" name="Ellipse 14"/>
              <p:cNvSpPr/>
              <p:nvPr/>
            </p:nvSpPr>
            <p:spPr>
              <a:xfrm>
                <a:off x="3964680" y="4071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1" name="Ellipse 15"/>
              <p:cNvSpPr/>
              <p:nvPr/>
            </p:nvSpPr>
            <p:spPr>
              <a:xfrm>
                <a:off x="4679280" y="4071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2" name="Rechteck 16"/>
              <p:cNvSpPr/>
              <p:nvPr/>
            </p:nvSpPr>
            <p:spPr>
              <a:xfrm>
                <a:off x="4321800" y="40719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3" name="Ellipse 17"/>
              <p:cNvSpPr/>
              <p:nvPr/>
            </p:nvSpPr>
            <p:spPr>
              <a:xfrm>
                <a:off x="4321800" y="35002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4" name="Gerade Verbindung 18"/>
              <p:cNvSpPr/>
              <p:nvPr/>
            </p:nvSpPr>
            <p:spPr>
              <a:xfrm flipH="1">
                <a:off x="4143240" y="38577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5" name="Gerade Verbindung 19"/>
              <p:cNvSpPr/>
              <p:nvPr/>
            </p:nvSpPr>
            <p:spPr>
              <a:xfrm>
                <a:off x="4500360" y="38577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6" name="Ellipse 20"/>
              <p:cNvSpPr/>
              <p:nvPr/>
            </p:nvSpPr>
            <p:spPr>
              <a:xfrm>
                <a:off x="5393880" y="4071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7" name="Ellipse 21"/>
              <p:cNvSpPr/>
              <p:nvPr/>
            </p:nvSpPr>
            <p:spPr>
              <a:xfrm>
                <a:off x="6108480" y="4071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8" name="Rechteck 22"/>
              <p:cNvSpPr/>
              <p:nvPr/>
            </p:nvSpPr>
            <p:spPr>
              <a:xfrm>
                <a:off x="5751000" y="40719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9" name="Ellipse 23"/>
              <p:cNvSpPr/>
              <p:nvPr/>
            </p:nvSpPr>
            <p:spPr>
              <a:xfrm>
                <a:off x="5751000" y="35002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0" name="Gerade Verbindung 24"/>
              <p:cNvSpPr/>
              <p:nvPr/>
            </p:nvSpPr>
            <p:spPr>
              <a:xfrm flipH="1">
                <a:off x="5572440" y="38577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1" name="Gerade Verbindung 25"/>
              <p:cNvSpPr/>
              <p:nvPr/>
            </p:nvSpPr>
            <p:spPr>
              <a:xfrm>
                <a:off x="5929920" y="38577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2" name="Ellipse 26"/>
              <p:cNvSpPr/>
              <p:nvPr/>
            </p:nvSpPr>
            <p:spPr>
              <a:xfrm>
                <a:off x="5036400" y="2928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3" name="Gerade Verbindung 27"/>
              <p:cNvSpPr/>
              <p:nvPr/>
            </p:nvSpPr>
            <p:spPr>
              <a:xfrm flipH="1">
                <a:off x="4500000" y="3286080"/>
                <a:ext cx="71460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4" name="Gerade Verbindung 28"/>
              <p:cNvSpPr/>
              <p:nvPr/>
            </p:nvSpPr>
            <p:spPr>
              <a:xfrm flipH="1" flipV="1">
                <a:off x="5214600" y="3285720"/>
                <a:ext cx="71460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05" name="Pfeil nach rechts 9"/>
            <p:cNvSpPr/>
            <p:nvPr/>
          </p:nvSpPr>
          <p:spPr>
            <a:xfrm>
              <a:off x="3107160" y="3500280"/>
              <a:ext cx="571680" cy="357120"/>
            </a:xfrm>
            <a:prstGeom prst="rightArrow">
              <a:avLst>
                <a:gd name="adj1" fmla="val 50000"/>
                <a:gd name="adj2" fmla="val 50025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6" name="Nach unten gekrümmter Pfeil 10"/>
            <p:cNvSpPr/>
            <p:nvPr/>
          </p:nvSpPr>
          <p:spPr>
            <a:xfrm>
              <a:off x="2178000" y="2428920"/>
              <a:ext cx="3144240" cy="428400"/>
            </a:xfrm>
            <a:custGeom>
              <a:avLst/>
              <a:gdLst>
                <a:gd name="textAreaLeft" fmla="*/ 745920 w 3144240"/>
                <a:gd name="textAreaRight" fmla="*/ 2345040 w 314424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10248" hR="21600" stAng="10800000" swAng="5400000"/>
                  <a:lnTo>
                    <a:pt x="10985" y="0"/>
                  </a:lnTo>
                  <a:arcTo wR="10248" hR="21600" stAng="-5400000" swAng="3686593"/>
                  <a:lnTo>
                    <a:pt x="21275" y="16200"/>
                  </a:lnTo>
                  <a:lnTo>
                    <a:pt x="20864" y="21600"/>
                  </a:lnTo>
                  <a:lnTo>
                    <a:pt x="19802" y="16200"/>
                  </a:lnTo>
                  <a:lnTo>
                    <a:pt x="20170" y="16200"/>
                  </a:lnTo>
                  <a:arcTo wR="10248" hR="21600" stAng="-1713407" swAng="-3627912"/>
                  <a:lnTo>
                    <a:pt x="10616" y="14"/>
                  </a:lnTo>
                  <a:arcTo wR="10248" hR="21600" stAng="-5458681" swAng="-5341319"/>
                  <a:close/>
                </a:path>
                <a:path fill="darkenLess" w="21600" h="21600">
                  <a:moveTo>
                    <a:pt x="0" y="21600"/>
                  </a:moveTo>
                  <a:arcTo wR="10248" hR="21600" stAng="10800000" swAng="5400000"/>
                  <a:lnTo>
                    <a:pt x="10248" y="0"/>
                  </a:lnTo>
                  <a:arcTo wR="10248" hR="21600" stAng="-5400000" swAng="58681"/>
                  <a:lnTo>
                    <a:pt x="10616" y="14"/>
                  </a:lnTo>
                  <a:arcTo wR="10248" hR="21600" stAng="-5458681" swAng="-5341319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" name="Nach oben gekrümmter Pfeil 11"/>
            <p:cNvSpPr/>
            <p:nvPr/>
          </p:nvSpPr>
          <p:spPr>
            <a:xfrm>
              <a:off x="2178000" y="4572000"/>
              <a:ext cx="3858840" cy="428400"/>
            </a:xfrm>
            <a:custGeom>
              <a:avLst/>
              <a:gdLst>
                <a:gd name="textAreaLeft" fmla="*/ 924480 w 3858840"/>
                <a:gd name="textAreaRight" fmla="*/ 2880720 w 385884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10350" hR="21600" stAng="10800000" swAng="-5400000"/>
                  <a:lnTo>
                    <a:pt x="10950" y="21600"/>
                  </a:lnTo>
                  <a:arcTo wR="10350" hR="21600" stAng="5400000" swAng="-3700920"/>
                  <a:lnTo>
                    <a:pt x="21271" y="5400"/>
                  </a:lnTo>
                  <a:lnTo>
                    <a:pt x="21000" y="0"/>
                  </a:lnTo>
                  <a:lnTo>
                    <a:pt x="20071" y="5400"/>
                  </a:lnTo>
                  <a:lnTo>
                    <a:pt x="20371" y="5400"/>
                  </a:lnTo>
                  <a:arcTo wR="10350" hR="21600" stAng="1699080" swAng="3653156"/>
                  <a:lnTo>
                    <a:pt x="10650" y="21591"/>
                  </a:lnTo>
                  <a:arcTo wR="10350" hR="21600" stAng="5447763" swAng="5352237"/>
                  <a:close/>
                </a:path>
                <a:path fill="darkenLess" w="21600" h="21600">
                  <a:moveTo>
                    <a:pt x="0" y="0"/>
                  </a:moveTo>
                  <a:arcTo wR="10350" hR="21600" stAng="10800000" swAng="-5400000"/>
                  <a:lnTo>
                    <a:pt x="10950" y="21600"/>
                  </a:lnTo>
                  <a:arcTo wR="10350" hR="21600" stAng="5400000" swAng="47763"/>
                  <a:lnTo>
                    <a:pt x="10650" y="21591"/>
                  </a:lnTo>
                  <a:arcTo wR="10350" hR="21600" stAng="5447763" swAng="5352237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" name="Legende mit Linie 1 12"/>
            <p:cNvSpPr/>
            <p:nvPr/>
          </p:nvSpPr>
          <p:spPr>
            <a:xfrm>
              <a:off x="4965120" y="5143680"/>
              <a:ext cx="1000440" cy="357120"/>
            </a:xfrm>
            <a:prstGeom prst="borderCallout1">
              <a:avLst>
                <a:gd name="adj1" fmla="val 18750"/>
                <a:gd name="adj2" fmla="val -8333"/>
                <a:gd name="adj3" fmla="val -197652"/>
                <a:gd name="adj4" fmla="val -46245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Remaining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" name="Legende mit Linie 1 13"/>
            <p:cNvSpPr/>
            <p:nvPr/>
          </p:nvSpPr>
          <p:spPr>
            <a:xfrm>
              <a:off x="6465600" y="5143680"/>
              <a:ext cx="1000440" cy="357120"/>
            </a:xfrm>
            <a:prstGeom prst="borderCallout1">
              <a:avLst>
                <a:gd name="adj1" fmla="val 18750"/>
                <a:gd name="adj2" fmla="val -8333"/>
                <a:gd name="adj3" fmla="val -202574"/>
                <a:gd name="adj4" fmla="val -5239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Selected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Crossover &amp; Mu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60020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depend on solution encod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effect variables contained in scop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551960" indent="-2214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crossov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merge groups of n sub-scopes to one new sub-scop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2000" spc="-1" strike="noStrike">
                <a:solidFill>
                  <a:srgbClr val="000000"/>
                </a:solidFill>
                <a:latin typeface="Calibri"/>
              </a:rPr>
              <a:t>SinglePointCrossover</a:t>
            </a: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000" spc="-1" strike="noStrike">
                <a:solidFill>
                  <a:srgbClr val="000000"/>
                </a:solidFill>
                <a:latin typeface="Calibri"/>
              </a:rPr>
              <a:t>OrderCrossov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mut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manipulate a scop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2000" spc="-1" strike="noStrike">
                <a:solidFill>
                  <a:srgbClr val="000000"/>
                </a:solidFill>
                <a:latin typeface="Calibri"/>
              </a:rPr>
              <a:t>FlipManipulator</a:t>
            </a: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000" spc="-1" strike="noStrike">
                <a:solidFill>
                  <a:srgbClr val="000000"/>
                </a:solidFill>
                <a:latin typeface="Calibri"/>
              </a:rPr>
              <a:t>InversionManipulat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5D7B2-A495-495B-B438-95430357D633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3" name="Gruppieren 4"/>
          <p:cNvGrpSpPr/>
          <p:nvPr/>
        </p:nvGrpSpPr>
        <p:grpSpPr>
          <a:xfrm>
            <a:off x="2571840" y="3571920"/>
            <a:ext cx="4000320" cy="1571400"/>
            <a:chOff x="2571840" y="3571920"/>
            <a:chExt cx="4000320" cy="1571400"/>
          </a:xfrm>
        </p:grpSpPr>
        <p:grpSp>
          <p:nvGrpSpPr>
            <p:cNvPr id="214" name="Gruppieren 62"/>
            <p:cNvGrpSpPr/>
            <p:nvPr/>
          </p:nvGrpSpPr>
          <p:grpSpPr>
            <a:xfrm>
              <a:off x="5500800" y="3571920"/>
              <a:ext cx="1071360" cy="1000080"/>
              <a:chOff x="5500800" y="3571920"/>
              <a:chExt cx="1071360" cy="1000080"/>
            </a:xfrm>
          </p:grpSpPr>
          <p:sp>
            <p:nvSpPr>
              <p:cNvPr id="215" name="Rechteck 21"/>
              <p:cNvSpPr/>
              <p:nvPr/>
            </p:nvSpPr>
            <p:spPr>
              <a:xfrm>
                <a:off x="607212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6" name="Rechteck 22"/>
              <p:cNvSpPr/>
              <p:nvPr/>
            </p:nvSpPr>
            <p:spPr>
              <a:xfrm>
                <a:off x="550080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7" name="Ellipse 4"/>
              <p:cNvSpPr/>
              <p:nvPr/>
            </p:nvSpPr>
            <p:spPr>
              <a:xfrm>
                <a:off x="557208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8" name="Ellipse 5"/>
              <p:cNvSpPr/>
              <p:nvPr/>
            </p:nvSpPr>
            <p:spPr>
              <a:xfrm>
                <a:off x="614376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9" name="Ellipse 25"/>
              <p:cNvSpPr/>
              <p:nvPr/>
            </p:nvSpPr>
            <p:spPr>
              <a:xfrm>
                <a:off x="5857920" y="3571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0" name="Gerade Verbindung 26"/>
              <p:cNvSpPr/>
              <p:nvPr/>
            </p:nvSpPr>
            <p:spPr>
              <a:xfrm flipH="1">
                <a:off x="5750280" y="392904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1" name="Gerade Verbindung 27"/>
              <p:cNvSpPr/>
              <p:nvPr/>
            </p:nvSpPr>
            <p:spPr>
              <a:xfrm>
                <a:off x="6035760" y="392904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22" name="Pfeil nach rechts 6"/>
            <p:cNvSpPr/>
            <p:nvPr/>
          </p:nvSpPr>
          <p:spPr>
            <a:xfrm>
              <a:off x="4714920" y="3857400"/>
              <a:ext cx="571320" cy="357120"/>
            </a:xfrm>
            <a:prstGeom prst="rightArrow">
              <a:avLst>
                <a:gd name="adj1" fmla="val 50000"/>
                <a:gd name="adj2" fmla="val 49993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3" name="Nach oben gekrümmter Pfeil 7"/>
            <p:cNvSpPr/>
            <p:nvPr/>
          </p:nvSpPr>
          <p:spPr>
            <a:xfrm>
              <a:off x="3000240" y="4714920"/>
              <a:ext cx="2857320" cy="428400"/>
            </a:xfrm>
            <a:custGeom>
              <a:avLst/>
              <a:gdLst>
                <a:gd name="textAreaLeft" fmla="*/ 673920 w 2857320"/>
                <a:gd name="textAreaRight" fmla="*/ 2129760 w 285732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10193" hR="21600" stAng="10800000" swAng="-5400000"/>
                  <a:lnTo>
                    <a:pt x="11003" y="21600"/>
                  </a:lnTo>
                  <a:arcTo wR="10193" hR="21600" stAng="5400000" swAng="-3678814"/>
                  <a:lnTo>
                    <a:pt x="21276" y="5400"/>
                  </a:lnTo>
                  <a:lnTo>
                    <a:pt x="20790" y="0"/>
                  </a:lnTo>
                  <a:lnTo>
                    <a:pt x="19656" y="5400"/>
                  </a:lnTo>
                  <a:lnTo>
                    <a:pt x="20061" y="5400"/>
                  </a:lnTo>
                  <a:arcTo wR="10193" hR="21600" stAng="1721186" swAng="3614312"/>
                  <a:lnTo>
                    <a:pt x="10598" y="21583"/>
                  </a:lnTo>
                  <a:arcTo wR="10193" hR="21600" stAng="5464501" swAng="5335499"/>
                  <a:close/>
                </a:path>
                <a:path fill="darkenLess" w="21600" h="21600">
                  <a:moveTo>
                    <a:pt x="0" y="0"/>
                  </a:moveTo>
                  <a:arcTo wR="10193" hR="21600" stAng="10800000" swAng="-5400000"/>
                  <a:lnTo>
                    <a:pt x="11003" y="21600"/>
                  </a:lnTo>
                  <a:arcTo wR="10193" hR="21600" stAng="5400000" swAng="64501"/>
                  <a:lnTo>
                    <a:pt x="10598" y="21583"/>
                  </a:lnTo>
                  <a:arcTo wR="10193" hR="21600" stAng="5464501" swAng="5335499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24" name="Gruppieren 63"/>
            <p:cNvGrpSpPr/>
            <p:nvPr/>
          </p:nvGrpSpPr>
          <p:grpSpPr>
            <a:xfrm>
              <a:off x="2571840" y="3571920"/>
              <a:ext cx="1928880" cy="1000080"/>
              <a:chOff x="2571840" y="3571920"/>
              <a:chExt cx="1928880" cy="1000080"/>
            </a:xfrm>
          </p:grpSpPr>
          <p:sp>
            <p:nvSpPr>
              <p:cNvPr id="225" name="Rechteck 10"/>
              <p:cNvSpPr/>
              <p:nvPr/>
            </p:nvSpPr>
            <p:spPr>
              <a:xfrm>
                <a:off x="3571920" y="4071960"/>
                <a:ext cx="92880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6" name="Rechteck 5"/>
              <p:cNvSpPr/>
              <p:nvPr/>
            </p:nvSpPr>
            <p:spPr>
              <a:xfrm>
                <a:off x="2571840" y="4071960"/>
                <a:ext cx="92880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7" name="Ellipse 12"/>
              <p:cNvSpPr/>
              <p:nvPr/>
            </p:nvSpPr>
            <p:spPr>
              <a:xfrm>
                <a:off x="264312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8" name="Ellipse 13"/>
              <p:cNvSpPr/>
              <p:nvPr/>
            </p:nvSpPr>
            <p:spPr>
              <a:xfrm>
                <a:off x="307188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9" name="Ellipse 14"/>
              <p:cNvSpPr/>
              <p:nvPr/>
            </p:nvSpPr>
            <p:spPr>
              <a:xfrm>
                <a:off x="3357720" y="3571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0" name="Ellipse 15"/>
              <p:cNvSpPr/>
              <p:nvPr/>
            </p:nvSpPr>
            <p:spPr>
              <a:xfrm>
                <a:off x="364356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1" name="Ellipse 16"/>
              <p:cNvSpPr/>
              <p:nvPr/>
            </p:nvSpPr>
            <p:spPr>
              <a:xfrm>
                <a:off x="407232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2" name="Gerade Verbindung 17"/>
              <p:cNvSpPr/>
              <p:nvPr/>
            </p:nvSpPr>
            <p:spPr>
              <a:xfrm flipH="1">
                <a:off x="2821680" y="392904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3" name="Gerade Verbindung 18"/>
              <p:cNvSpPr/>
              <p:nvPr/>
            </p:nvSpPr>
            <p:spPr>
              <a:xfrm flipH="1">
                <a:off x="3250080" y="392904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4" name="Gerade Verbindung 19"/>
              <p:cNvSpPr/>
              <p:nvPr/>
            </p:nvSpPr>
            <p:spPr>
              <a:xfrm>
                <a:off x="3535560" y="392904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5" name="Gerade Verbindung 20"/>
              <p:cNvSpPr/>
              <p:nvPr/>
            </p:nvSpPr>
            <p:spPr>
              <a:xfrm>
                <a:off x="3536280" y="392904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36" name="Nach oben gekrümmter Pfeil 9"/>
            <p:cNvSpPr/>
            <p:nvPr/>
          </p:nvSpPr>
          <p:spPr>
            <a:xfrm>
              <a:off x="4000320" y="4714920"/>
              <a:ext cx="2428920" cy="428400"/>
            </a:xfrm>
            <a:custGeom>
              <a:avLst/>
              <a:gdLst>
                <a:gd name="textAreaLeft" fmla="*/ 567000 w 2428920"/>
                <a:gd name="textAreaRight" fmla="*/ 1808280 w 242892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10086" hR="21600" stAng="10800000" swAng="-5400000"/>
                  <a:lnTo>
                    <a:pt x="11038" y="21600"/>
                  </a:lnTo>
                  <a:arcTo wR="10086" hR="21600" stAng="5400000" swAng="-3663493"/>
                  <a:lnTo>
                    <a:pt x="21280" y="5400"/>
                  </a:lnTo>
                  <a:lnTo>
                    <a:pt x="20647" y="0"/>
                  </a:lnTo>
                  <a:lnTo>
                    <a:pt x="19374" y="5400"/>
                  </a:lnTo>
                  <a:lnTo>
                    <a:pt x="19851" y="5400"/>
                  </a:lnTo>
                  <a:arcTo wR="10086" hR="21600" stAng="1736507" swAng="3587663"/>
                  <a:lnTo>
                    <a:pt x="10562" y="21576"/>
                  </a:lnTo>
                  <a:arcTo wR="10086" hR="21600" stAng="5475830" swAng="5324170"/>
                  <a:close/>
                </a:path>
                <a:path fill="darkenLess" w="21600" h="21600">
                  <a:moveTo>
                    <a:pt x="0" y="0"/>
                  </a:moveTo>
                  <a:arcTo wR="10086" hR="21600" stAng="10800000" swAng="-5400000"/>
                  <a:lnTo>
                    <a:pt x="11038" y="21600"/>
                  </a:lnTo>
                  <a:arcTo wR="10086" hR="21600" stAng="5400000" swAng="75830"/>
                  <a:lnTo>
                    <a:pt x="10562" y="21576"/>
                  </a:lnTo>
                  <a:arcTo wR="10086" hR="21600" stAng="5475830" swAng="5324170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TSP SGA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Foliennummernplatzhalter 3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D639C-1A8B-42D3-8B20-80872B976144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Flussdiagramm: Prozess 4"/>
          <p:cNvSpPr/>
          <p:nvPr/>
        </p:nvSpPr>
        <p:spPr>
          <a:xfrm>
            <a:off x="500040" y="1714680"/>
            <a:ext cx="1714680" cy="35712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Main Lo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40" name="Gewinkelte Verbindung 17"/>
          <p:cNvCxnSpPr>
            <a:stCxn id="239" idx="3"/>
          </p:cNvCxnSpPr>
          <p:nvPr/>
        </p:nvCxnSpPr>
        <p:spPr>
          <a:xfrm>
            <a:off x="2214360" y="1891800"/>
            <a:ext cx="21492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1" name="Gewinkelte Verbindung 18"/>
          <p:cNvCxnSpPr>
            <a:stCxn id="239" idx="3"/>
            <a:endCxn id="242" idx="1"/>
          </p:cNvCxnSpPr>
          <p:nvPr/>
        </p:nvCxnSpPr>
        <p:spPr>
          <a:xfrm>
            <a:off x="2214360" y="1891800"/>
            <a:ext cx="214920" cy="4294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43" name="Flussdiagramm: Prozess 44"/>
          <p:cNvSpPr/>
          <p:nvPr/>
        </p:nvSpPr>
        <p:spPr>
          <a:xfrm>
            <a:off x="242892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oportionalSel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Flussdiagramm: Prozess 49"/>
          <p:cNvSpPr/>
          <p:nvPr/>
        </p:nvSpPr>
        <p:spPr>
          <a:xfrm>
            <a:off x="2428920" y="2143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SubSco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Flussdiagramm: Prozess 56"/>
          <p:cNvSpPr/>
          <p:nvPr/>
        </p:nvSpPr>
        <p:spPr>
          <a:xfrm>
            <a:off x="4357800" y="2143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mptyOper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Flussdiagramm: Prozess 57"/>
          <p:cNvSpPr/>
          <p:nvPr/>
        </p:nvSpPr>
        <p:spPr>
          <a:xfrm>
            <a:off x="435780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Flussdiagramm: Prozess 58"/>
          <p:cNvSpPr/>
          <p:nvPr/>
        </p:nvSpPr>
        <p:spPr>
          <a:xfrm>
            <a:off x="628668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OrderCrossov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Flussdiagramm: Prozess 59"/>
          <p:cNvSpPr/>
          <p:nvPr/>
        </p:nvSpPr>
        <p:spPr>
          <a:xfrm>
            <a:off x="6286680" y="3000240"/>
            <a:ext cx="1714320" cy="3574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UniformSequent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ubScopes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Flussdiagramm: Prozess 60"/>
          <p:cNvSpPr/>
          <p:nvPr/>
        </p:nvSpPr>
        <p:spPr>
          <a:xfrm>
            <a:off x="6286680" y="342900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or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Flussdiagramm: Prozess 61"/>
          <p:cNvSpPr/>
          <p:nvPr/>
        </p:nvSpPr>
        <p:spPr>
          <a:xfrm>
            <a:off x="500040" y="4429080"/>
            <a:ext cx="171468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Flussdiagramm: Prozess 62"/>
          <p:cNvSpPr/>
          <p:nvPr/>
        </p:nvSpPr>
        <p:spPr>
          <a:xfrm>
            <a:off x="2428920" y="4429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tochasticBran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Flussdiagramm: Prozess 63"/>
          <p:cNvSpPr/>
          <p:nvPr/>
        </p:nvSpPr>
        <p:spPr>
          <a:xfrm>
            <a:off x="2428920" y="4857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DistanceMatrixPathTS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valu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Flussdiagramm: Prozess 64"/>
          <p:cNvSpPr/>
          <p:nvPr/>
        </p:nvSpPr>
        <p:spPr>
          <a:xfrm>
            <a:off x="2428920" y="5286240"/>
            <a:ext cx="1714320" cy="3574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Coun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Flussdiagramm: Prozess 65"/>
          <p:cNvSpPr/>
          <p:nvPr/>
        </p:nvSpPr>
        <p:spPr>
          <a:xfrm>
            <a:off x="4357800" y="4429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InversionManipul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54" name="Gewinkelte Verbindung 69"/>
          <p:cNvCxnSpPr>
            <a:stCxn id="242" idx="3"/>
            <a:endCxn id="244" idx="1"/>
          </p:cNvCxnSpPr>
          <p:nvPr/>
        </p:nvCxnSpPr>
        <p:spPr>
          <a:xfrm>
            <a:off x="4143240" y="232092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5" name="Gewinkelte Verbindung 72"/>
          <p:cNvCxnSpPr>
            <a:stCxn id="242" idx="3"/>
            <a:endCxn id="245" idx="1"/>
          </p:cNvCxnSpPr>
          <p:nvPr/>
        </p:nvCxnSpPr>
        <p:spPr>
          <a:xfrm>
            <a:off x="4143240" y="2320560"/>
            <a:ext cx="215280" cy="42948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6" name="Gewinkelte Verbindung 75"/>
          <p:cNvCxnSpPr>
            <a:stCxn id="245" idx="3"/>
            <a:endCxn id="246" idx="1"/>
          </p:cNvCxnSpPr>
          <p:nvPr/>
        </p:nvCxnSpPr>
        <p:spPr>
          <a:xfrm>
            <a:off x="6072120" y="274968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7" name="Gewinkelte Verbindung 78"/>
          <p:cNvCxnSpPr>
            <a:stCxn id="245" idx="3"/>
            <a:endCxn id="247" idx="1"/>
          </p:cNvCxnSpPr>
          <p:nvPr/>
        </p:nvCxnSpPr>
        <p:spPr>
          <a:xfrm>
            <a:off x="6072120" y="2749680"/>
            <a:ext cx="215280" cy="4291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8" name="Gewinkelte Verbindung 81"/>
          <p:cNvCxnSpPr>
            <a:stCxn id="245" idx="3"/>
            <a:endCxn id="248" idx="1"/>
          </p:cNvCxnSpPr>
          <p:nvPr/>
        </p:nvCxnSpPr>
        <p:spPr>
          <a:xfrm>
            <a:off x="6072120" y="2749320"/>
            <a:ext cx="215280" cy="8593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9" name="Gewinkelte Verbindung 94"/>
          <p:cNvCxnSpPr>
            <a:stCxn id="247" idx="3"/>
            <a:endCxn id="249" idx="1"/>
          </p:cNvCxnSpPr>
          <p:nvPr/>
        </p:nvCxnSpPr>
        <p:spPr>
          <a:xfrm flipH="1">
            <a:off x="499680" y="3177720"/>
            <a:ext cx="7501680" cy="1430640"/>
          </a:xfrm>
          <a:prstGeom prst="bentConnector5">
            <a:avLst>
              <a:gd name="adj1" fmla="val -3042"/>
              <a:gd name="adj2" fmla="val 49987"/>
              <a:gd name="adj3" fmla="val 103042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0" name="Gewinkelte Verbindung 101"/>
          <p:cNvCxnSpPr>
            <a:stCxn id="249" idx="3"/>
            <a:endCxn id="250" idx="1"/>
          </p:cNvCxnSpPr>
          <p:nvPr/>
        </p:nvCxnSpPr>
        <p:spPr>
          <a:xfrm>
            <a:off x="2214360" y="4608000"/>
            <a:ext cx="21492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1" name="Gewinkelte Verbindung 106"/>
          <p:cNvCxnSpPr>
            <a:stCxn id="249" idx="3"/>
            <a:endCxn id="251" idx="1"/>
          </p:cNvCxnSpPr>
          <p:nvPr/>
        </p:nvCxnSpPr>
        <p:spPr>
          <a:xfrm>
            <a:off x="2214360" y="4608000"/>
            <a:ext cx="214920" cy="4294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2" name="Gewinkelte Verbindung 109"/>
          <p:cNvCxnSpPr>
            <a:stCxn id="249" idx="3"/>
            <a:endCxn id="252" idx="1"/>
          </p:cNvCxnSpPr>
          <p:nvPr/>
        </p:nvCxnSpPr>
        <p:spPr>
          <a:xfrm>
            <a:off x="2214360" y="4608360"/>
            <a:ext cx="214920" cy="8582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3" name="Gewinkelte Verbindung 112"/>
          <p:cNvCxnSpPr>
            <a:stCxn id="250" idx="3"/>
            <a:endCxn id="253" idx="1"/>
          </p:cNvCxnSpPr>
          <p:nvPr/>
        </p:nvCxnSpPr>
        <p:spPr>
          <a:xfrm>
            <a:off x="4143240" y="4608000"/>
            <a:ext cx="215280" cy="25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64" name="Flussdiagramm: Prozess 181"/>
          <p:cNvSpPr/>
          <p:nvPr/>
        </p:nvSpPr>
        <p:spPr>
          <a:xfrm>
            <a:off x="2428920" y="2571840"/>
            <a:ext cx="1714320" cy="35712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Replace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Flussdiagramm: Prozess 182"/>
          <p:cNvSpPr/>
          <p:nvPr/>
        </p:nvSpPr>
        <p:spPr>
          <a:xfrm>
            <a:off x="2428920" y="3000240"/>
            <a:ext cx="1714320" cy="35748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Termination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66" name="Gewinkelte Verbindung 190"/>
          <p:cNvCxnSpPr>
            <a:stCxn id="239" idx="3"/>
            <a:endCxn id="264" idx="1"/>
          </p:cNvCxnSpPr>
          <p:nvPr/>
        </p:nvCxnSpPr>
        <p:spPr>
          <a:xfrm>
            <a:off x="2214360" y="1892160"/>
            <a:ext cx="214920" cy="8582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7" name="Gewinkelte Verbindung 193"/>
          <p:cNvCxnSpPr>
            <a:stCxn id="239" idx="3"/>
            <a:endCxn id="265" idx="1"/>
          </p:cNvCxnSpPr>
          <p:nvPr/>
        </p:nvCxnSpPr>
        <p:spPr>
          <a:xfrm>
            <a:off x="2214360" y="1892160"/>
            <a:ext cx="214920" cy="12866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8" name="Gewinkelte Verbindung 196"/>
          <p:cNvCxnSpPr>
            <a:stCxn id="265" idx="3"/>
            <a:endCxn id="239" idx="1"/>
          </p:cNvCxnSpPr>
          <p:nvPr/>
        </p:nvCxnSpPr>
        <p:spPr>
          <a:xfrm flipH="1" flipV="1">
            <a:off x="499680" y="1891800"/>
            <a:ext cx="3643920" cy="1286640"/>
          </a:xfrm>
          <a:prstGeom prst="bentConnector5">
            <a:avLst>
              <a:gd name="adj1" fmla="val -6264"/>
              <a:gd name="adj2" fmla="val -27260"/>
              <a:gd name="adj3" fmla="val 106264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69" name="Gruppieren 129"/>
          <p:cNvGrpSpPr/>
          <p:nvPr/>
        </p:nvGrpSpPr>
        <p:grpSpPr>
          <a:xfrm>
            <a:off x="6286680" y="4000680"/>
            <a:ext cx="2714400" cy="2428560"/>
            <a:chOff x="6286680" y="4000680"/>
            <a:chExt cx="2714400" cy="2428560"/>
          </a:xfrm>
        </p:grpSpPr>
        <p:sp>
          <p:nvSpPr>
            <p:cNvPr id="270" name="Rechteck 85"/>
            <p:cNvSpPr/>
            <p:nvPr/>
          </p:nvSpPr>
          <p:spPr>
            <a:xfrm>
              <a:off x="6286680" y="4000680"/>
              <a:ext cx="2714400" cy="2428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71" name="Gruppieren 49"/>
            <p:cNvGrpSpPr/>
            <p:nvPr/>
          </p:nvGrpSpPr>
          <p:grpSpPr>
            <a:xfrm>
              <a:off x="7000920" y="4071960"/>
              <a:ext cx="1071360" cy="1000080"/>
              <a:chOff x="7000920" y="4071960"/>
              <a:chExt cx="1071360" cy="1000080"/>
            </a:xfrm>
          </p:grpSpPr>
          <p:sp>
            <p:nvSpPr>
              <p:cNvPr id="272" name="Rechteck 88"/>
              <p:cNvSpPr/>
              <p:nvPr/>
            </p:nvSpPr>
            <p:spPr>
              <a:xfrm>
                <a:off x="728640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3" name="Ellipse 89"/>
              <p:cNvSpPr/>
              <p:nvPr/>
            </p:nvSpPr>
            <p:spPr>
              <a:xfrm>
                <a:off x="700092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4" name="Ellipse 90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5" name="Ellipse 91"/>
              <p:cNvSpPr/>
              <p:nvPr/>
            </p:nvSpPr>
            <p:spPr>
              <a:xfrm>
                <a:off x="771516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6" name="Rechteck 92"/>
              <p:cNvSpPr/>
              <p:nvPr/>
            </p:nvSpPr>
            <p:spPr>
              <a:xfrm>
                <a:off x="7358040" y="471492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7" name="Gerade Verbindung 93"/>
              <p:cNvSpPr/>
              <p:nvPr/>
            </p:nvSpPr>
            <p:spPr>
              <a:xfrm flipH="1">
                <a:off x="7179480" y="45003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8" name="Gerade Verbindung 95"/>
              <p:cNvSpPr/>
              <p:nvPr/>
            </p:nvSpPr>
            <p:spPr>
              <a:xfrm>
                <a:off x="7536600" y="45003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79" name="Legende mit Linie 1 87"/>
            <p:cNvSpPr/>
            <p:nvPr/>
          </p:nvSpPr>
          <p:spPr>
            <a:xfrm>
              <a:off x="7858080" y="550080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135861"/>
                <a:gd name="adj4" fmla="val -32583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Parents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281" name="Rechteck 29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82" name="Gruppieren 50"/>
            <p:cNvGrpSpPr/>
            <p:nvPr/>
          </p:nvGrpSpPr>
          <p:grpSpPr>
            <a:xfrm>
              <a:off x="6286320" y="4071960"/>
              <a:ext cx="2500560" cy="1571760"/>
              <a:chOff x="6286320" y="4071960"/>
              <a:chExt cx="2500560" cy="1571760"/>
            </a:xfrm>
          </p:grpSpPr>
          <p:sp>
            <p:nvSpPr>
              <p:cNvPr id="283" name="Rechteck 300"/>
              <p:cNvSpPr/>
              <p:nvPr/>
            </p:nvSpPr>
            <p:spPr>
              <a:xfrm>
                <a:off x="728640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4" name="Ellipse 301"/>
              <p:cNvSpPr/>
              <p:nvPr/>
            </p:nvSpPr>
            <p:spPr>
              <a:xfrm>
                <a:off x="77151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5" name="Ellipse 302"/>
              <p:cNvSpPr/>
              <p:nvPr/>
            </p:nvSpPr>
            <p:spPr>
              <a:xfrm>
                <a:off x="807264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6" name="Ellipse 303"/>
              <p:cNvSpPr/>
              <p:nvPr/>
            </p:nvSpPr>
            <p:spPr>
              <a:xfrm>
                <a:off x="84297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7" name="Rechteck 304"/>
              <p:cNvSpPr/>
              <p:nvPr/>
            </p:nvSpPr>
            <p:spPr>
              <a:xfrm>
                <a:off x="8072640" y="52866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8" name="Gerade Verbindung 30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9" name="Gerade Verbindung 30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0" name="Ellipse 307"/>
              <p:cNvSpPr/>
              <p:nvPr/>
            </p:nvSpPr>
            <p:spPr>
              <a:xfrm>
                <a:off x="628632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1" name="Ellipse 308"/>
              <p:cNvSpPr/>
              <p:nvPr/>
            </p:nvSpPr>
            <p:spPr>
              <a:xfrm>
                <a:off x="664344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2" name="Ellipse 309"/>
              <p:cNvSpPr/>
              <p:nvPr/>
            </p:nvSpPr>
            <p:spPr>
              <a:xfrm>
                <a:off x="70005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3" name="Rechteck 310"/>
              <p:cNvSpPr/>
              <p:nvPr/>
            </p:nvSpPr>
            <p:spPr>
              <a:xfrm>
                <a:off x="6643440" y="52866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4" name="Gerade Verbindung 31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5" name="Gerade Verbindung 31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6" name="Ellipse 31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7" name="Gerade Verbindung 31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8" name="Gerade Verbindung 31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99" name="Legende mit Linie 1 29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Selected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0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01" name="Rechteck 31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02" name="Gruppieren 50"/>
            <p:cNvGrpSpPr/>
            <p:nvPr/>
          </p:nvGrpSpPr>
          <p:grpSpPr>
            <a:xfrm>
              <a:off x="6286320" y="4143240"/>
              <a:ext cx="2500560" cy="1500120"/>
              <a:chOff x="6286320" y="4143240"/>
              <a:chExt cx="2500560" cy="1500120"/>
            </a:xfrm>
          </p:grpSpPr>
          <p:sp>
            <p:nvSpPr>
              <p:cNvPr id="303" name="Rechteck 320"/>
              <p:cNvSpPr/>
              <p:nvPr/>
            </p:nvSpPr>
            <p:spPr>
              <a:xfrm>
                <a:off x="6571800" y="464328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4" name="Ellipse 321"/>
              <p:cNvSpPr/>
              <p:nvPr/>
            </p:nvSpPr>
            <p:spPr>
              <a:xfrm>
                <a:off x="77151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5" name="Ellipse 32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6" name="Ellipse 32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7" name="Rechteck 32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8" name="Gerade Verbindung 32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9" name="Gerade Verbindung 32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0" name="Ellipse 32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1" name="Ellipse 32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2" name="Ellipse 32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3" name="Rechteck 33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4" name="Gerade Verbindung 33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5" name="Gerade Verbindung 33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6" name="Ellipse 33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7" name="Gerade Verbindung 33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8" name="Gerade Verbindung 33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19" name="Legende mit Linie 1 31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Selected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2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21" name="Rechteck 33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22" name="Gruppieren 50"/>
            <p:cNvGrpSpPr/>
            <p:nvPr/>
          </p:nvGrpSpPr>
          <p:grpSpPr>
            <a:xfrm>
              <a:off x="6286320" y="4143240"/>
              <a:ext cx="2500560" cy="1500120"/>
              <a:chOff x="6286320" y="4143240"/>
              <a:chExt cx="2500560" cy="1500120"/>
            </a:xfrm>
          </p:grpSpPr>
          <p:sp>
            <p:nvSpPr>
              <p:cNvPr id="323" name="Rechteck 340"/>
              <p:cNvSpPr/>
              <p:nvPr/>
            </p:nvSpPr>
            <p:spPr>
              <a:xfrm>
                <a:off x="8001000" y="464328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4" name="Ellipse 341"/>
              <p:cNvSpPr/>
              <p:nvPr/>
            </p:nvSpPr>
            <p:spPr>
              <a:xfrm>
                <a:off x="77151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5" name="Ellipse 34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6" name="Ellipse 34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7" name="Rechteck 34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8" name="Gerade Verbindung 34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9" name="Gerade Verbindung 34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0" name="Ellipse 34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1" name="Ellipse 34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2" name="Ellipse 34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3" name="Rechteck 35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4" name="Gerade Verbindung 35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5" name="Gerade Verbindung 35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6" name="Ellipse 35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7" name="Gerade Verbindung 35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8" name="Gerade Verbindung 35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39" name="Legende mit Linie 1 33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Selected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4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41" name="Rechteck 35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42" name="Gruppieren 50"/>
            <p:cNvGrpSpPr/>
            <p:nvPr/>
          </p:nvGrpSpPr>
          <p:grpSpPr>
            <a:xfrm>
              <a:off x="6286320" y="4143240"/>
              <a:ext cx="2500560" cy="1500120"/>
              <a:chOff x="6286320" y="4143240"/>
              <a:chExt cx="2500560" cy="1500120"/>
            </a:xfrm>
          </p:grpSpPr>
          <p:sp>
            <p:nvSpPr>
              <p:cNvPr id="343" name="Rechteck 360"/>
              <p:cNvSpPr/>
              <p:nvPr/>
            </p:nvSpPr>
            <p:spPr>
              <a:xfrm>
                <a:off x="8001000" y="464328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4" name="Ellipse 361"/>
              <p:cNvSpPr/>
              <p:nvPr/>
            </p:nvSpPr>
            <p:spPr>
              <a:xfrm>
                <a:off x="77151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5" name="Ellipse 36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6" name="Ellipse 36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7" name="Rechteck 36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8" name="Gerade Verbindung 36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9" name="Gerade Verbindung 36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0" name="Ellipse 36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1" name="Ellipse 36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2" name="Ellipse 36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3" name="Rechteck 37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4" name="Gerade Verbindung 37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5" name="Gerade Verbindung 37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6" name="Ellipse 37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7" name="Gerade Verbindung 37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8" name="Gerade Verbindung 37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59" name="Legende mit Linie 1 35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Childre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60" name="Gruppieren 16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61" name="Rechteck 37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62" name="Gruppieren 54"/>
            <p:cNvGrpSpPr/>
            <p:nvPr/>
          </p:nvGrpSpPr>
          <p:grpSpPr>
            <a:xfrm>
              <a:off x="6286320" y="4143240"/>
              <a:ext cx="2572200" cy="1571760"/>
              <a:chOff x="6286320" y="4143240"/>
              <a:chExt cx="2572200" cy="1571760"/>
            </a:xfrm>
          </p:grpSpPr>
          <p:sp>
            <p:nvSpPr>
              <p:cNvPr id="363" name="Rechteck 380"/>
              <p:cNvSpPr/>
              <p:nvPr/>
            </p:nvSpPr>
            <p:spPr>
              <a:xfrm>
                <a:off x="7643880" y="5214960"/>
                <a:ext cx="12146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4" name="Ellipse 381"/>
              <p:cNvSpPr/>
              <p:nvPr/>
            </p:nvSpPr>
            <p:spPr>
              <a:xfrm>
                <a:off x="77155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5" name="Ellipse 38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6" name="Ellipse 38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7" name="Rechteck 38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8" name="Gerade Verbindung 385"/>
              <p:cNvSpPr/>
              <p:nvPr/>
            </p:nvSpPr>
            <p:spPr>
              <a:xfrm flipH="1">
                <a:off x="78940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9" name="Gerade Verbindung 38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0" name="Ellipse 38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1" name="Ellipse 38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2" name="Ellipse 38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3" name="Rechteck 39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4" name="Gerade Verbindung 39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5" name="Gerade Verbindung 39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6" name="Ellipse 39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7" name="Gerade Verbindung 394"/>
              <p:cNvSpPr/>
              <p:nvPr/>
            </p:nvSpPr>
            <p:spPr>
              <a:xfrm>
                <a:off x="7535880" y="4500360"/>
                <a:ext cx="71460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8" name="Gerade Verbindung 39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79" name="Legende mit Linie 1 37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Childre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8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81" name="Rechteck 39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82" name="Gruppieren 50"/>
            <p:cNvGrpSpPr/>
            <p:nvPr/>
          </p:nvGrpSpPr>
          <p:grpSpPr>
            <a:xfrm>
              <a:off x="6286320" y="4143240"/>
              <a:ext cx="2500560" cy="1500120"/>
              <a:chOff x="6286320" y="4143240"/>
              <a:chExt cx="2500560" cy="1500120"/>
            </a:xfrm>
          </p:grpSpPr>
          <p:sp>
            <p:nvSpPr>
              <p:cNvPr id="383" name="Rechteck 400"/>
              <p:cNvSpPr/>
              <p:nvPr/>
            </p:nvSpPr>
            <p:spPr>
              <a:xfrm>
                <a:off x="8001000" y="464328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4" name="Ellipse 401"/>
              <p:cNvSpPr/>
              <p:nvPr/>
            </p:nvSpPr>
            <p:spPr>
              <a:xfrm>
                <a:off x="77151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5" name="Ellipse 40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6" name="Ellipse 40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7" name="Rechteck 40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8" name="Gerade Verbindung 40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9" name="Gerade Verbindung 40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0" name="Ellipse 40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1" name="Ellipse 40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2" name="Ellipse 40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3" name="Rechteck 41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4" name="Gerade Verbindung 41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5" name="Gerade Verbindung 41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6" name="Ellipse 41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7" name="Gerade Verbindung 41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8" name="Gerade Verbindung 41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99" name="Legende mit Linie 1 39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Childre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0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401" name="Rechteck 41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02" name="Gruppieren 50"/>
            <p:cNvGrpSpPr/>
            <p:nvPr/>
          </p:nvGrpSpPr>
          <p:grpSpPr>
            <a:xfrm>
              <a:off x="6286320" y="4071960"/>
              <a:ext cx="2500560" cy="1571760"/>
              <a:chOff x="6286320" y="4071960"/>
              <a:chExt cx="2500560" cy="1571760"/>
            </a:xfrm>
          </p:grpSpPr>
          <p:sp>
            <p:nvSpPr>
              <p:cNvPr id="403" name="Rechteck 420"/>
              <p:cNvSpPr/>
              <p:nvPr/>
            </p:nvSpPr>
            <p:spPr>
              <a:xfrm>
                <a:off x="728640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4" name="Ellipse 421"/>
              <p:cNvSpPr/>
              <p:nvPr/>
            </p:nvSpPr>
            <p:spPr>
              <a:xfrm>
                <a:off x="77151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5" name="Ellipse 422"/>
              <p:cNvSpPr/>
              <p:nvPr/>
            </p:nvSpPr>
            <p:spPr>
              <a:xfrm>
                <a:off x="807264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6" name="Ellipse 423"/>
              <p:cNvSpPr/>
              <p:nvPr/>
            </p:nvSpPr>
            <p:spPr>
              <a:xfrm>
                <a:off x="84297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7" name="Rechteck 424"/>
              <p:cNvSpPr/>
              <p:nvPr/>
            </p:nvSpPr>
            <p:spPr>
              <a:xfrm>
                <a:off x="8072640" y="52866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8" name="Gerade Verbindung 42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9" name="Gerade Verbindung 42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0" name="Ellipse 427"/>
              <p:cNvSpPr/>
              <p:nvPr/>
            </p:nvSpPr>
            <p:spPr>
              <a:xfrm>
                <a:off x="628632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1" name="Ellipse 428"/>
              <p:cNvSpPr/>
              <p:nvPr/>
            </p:nvSpPr>
            <p:spPr>
              <a:xfrm>
                <a:off x="664344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2" name="Ellipse 429"/>
              <p:cNvSpPr/>
              <p:nvPr/>
            </p:nvSpPr>
            <p:spPr>
              <a:xfrm>
                <a:off x="70005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3" name="Rechteck 430"/>
              <p:cNvSpPr/>
              <p:nvPr/>
            </p:nvSpPr>
            <p:spPr>
              <a:xfrm>
                <a:off x="6643440" y="52866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4" name="Gerade Verbindung 43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5" name="Gerade Verbindung 43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6" name="Ellipse 43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7" name="Gerade Verbindung 43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8" name="Gerade Verbindung 43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19" name="Legende mit Linie 1 41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Childre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indefinite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500"/>
                            </p:stCondLst>
                            <p:childTnLst>
                              <p:par>
                                <p:cTn id="1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500"/>
                            </p:stCondLst>
                            <p:childTnLst>
                              <p:par>
                                <p:cTn id="18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indefinite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indefinite"/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9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7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500"/>
                            </p:stCondLst>
                            <p:childTnLst>
                              <p:par>
                                <p:cTn id="20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indefinite"/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9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500"/>
                            </p:stCondLst>
                            <p:childTnLst>
                              <p:par>
                                <p:cTn id="221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indefinite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500"/>
                            </p:stCondLst>
                            <p:childTnLst>
                              <p:par>
                                <p:cTn id="224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500"/>
                            </p:stCondLst>
                            <p:childTnLst>
                              <p:par>
                                <p:cTn id="235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indefinite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indefinite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"/>
                            </p:stCondLst>
                            <p:childTnLst>
                              <p:par>
                                <p:cTn id="248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9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000"/>
                            </p:stCondLst>
                            <p:childTnLst>
                              <p:par>
                                <p:cTn id="2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7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500"/>
                            </p:stCondLst>
                            <p:childTnLst>
                              <p:par>
                                <p:cTn id="25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indefinite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500"/>
                            </p:stCondLst>
                            <p:childTnLst>
                              <p:par>
                                <p:cTn id="26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"/>
                            </p:stCondLst>
                            <p:childTnLst>
                              <p:par>
                                <p:cTn id="26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indefinite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500"/>
                            </p:stCondLst>
                            <p:childTnLst>
                              <p:par>
                                <p:cTn id="27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3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7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500"/>
                            </p:stCondLst>
                            <p:childTnLst>
                              <p:par>
                                <p:cTn id="27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indefinite"/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500"/>
                            </p:stCondLst>
                            <p:childTnLst>
                              <p:par>
                                <p:cTn id="28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500"/>
                            </p:stCondLst>
                            <p:childTnLst>
                              <p:par>
                                <p:cTn id="28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indefinite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500"/>
                            </p:stCondLst>
                            <p:childTnLst>
                              <p:par>
                                <p:cTn id="29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7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indefinite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500"/>
                            </p:stCondLst>
                            <p:childTnLst>
                              <p:par>
                                <p:cTn id="30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3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000"/>
                            </p:stCondLst>
                            <p:childTnLst>
                              <p:par>
                                <p:cTn id="3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500"/>
                            </p:stCondLst>
                            <p:childTnLst>
                              <p:par>
                                <p:cTn id="31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indefinite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500"/>
                            </p:stCondLst>
                            <p:childTnLst>
                              <p:par>
                                <p:cTn id="31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7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000"/>
                            </p:stCondLst>
                            <p:childTnLst>
                              <p:par>
                                <p:cTn id="3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5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500"/>
                            </p:stCondLst>
                            <p:childTnLst>
                              <p:par>
                                <p:cTn id="32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indefinite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500"/>
                            </p:stCondLst>
                            <p:childTnLst>
                              <p:par>
                                <p:cTn id="330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5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0"/>
                            </p:stCondLst>
                            <p:childTnLst>
                              <p:par>
                                <p:cTn id="33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indefinite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Red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457200" y="1600200"/>
            <a:ext cx="8229600" cy="24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reverse operation to selec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join sub-scopes aga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remove level in the scope tre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move sub-scopes on level up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basic reduction operato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LeftReducer</a:t>
            </a: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RightReducer</a:t>
            </a: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MergingReduc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000000"/>
                </a:solidFill>
                <a:latin typeface="Calibri"/>
              </a:rPr>
              <a:t>take sub-scopes from left, right or all group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27BAB-DD55-4091-809D-6222F2F3F4E4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23" name="Gruppieren 4"/>
          <p:cNvGrpSpPr/>
          <p:nvPr/>
        </p:nvGrpSpPr>
        <p:grpSpPr>
          <a:xfrm>
            <a:off x="2143080" y="4071960"/>
            <a:ext cx="4857840" cy="2571840"/>
            <a:chOff x="2143080" y="4071960"/>
            <a:chExt cx="4857840" cy="2571840"/>
          </a:xfrm>
        </p:grpSpPr>
        <p:sp>
          <p:nvSpPr>
            <p:cNvPr id="424" name="Rechteck 5"/>
            <p:cNvSpPr/>
            <p:nvPr/>
          </p:nvSpPr>
          <p:spPr>
            <a:xfrm>
              <a:off x="5786640" y="5357880"/>
              <a:ext cx="121428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25" name="Gruppieren 33"/>
            <p:cNvGrpSpPr/>
            <p:nvPr/>
          </p:nvGrpSpPr>
          <p:grpSpPr>
            <a:xfrm>
              <a:off x="5857920" y="4857840"/>
              <a:ext cx="1071360" cy="928800"/>
              <a:chOff x="5857920" y="4857840"/>
              <a:chExt cx="1071360" cy="928800"/>
            </a:xfrm>
          </p:grpSpPr>
          <p:sp>
            <p:nvSpPr>
              <p:cNvPr id="426" name="Ellipse 4"/>
              <p:cNvSpPr/>
              <p:nvPr/>
            </p:nvSpPr>
            <p:spPr>
              <a:xfrm>
                <a:off x="5857920" y="54295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7" name="Ellipse 5"/>
              <p:cNvSpPr/>
              <p:nvPr/>
            </p:nvSpPr>
            <p:spPr>
              <a:xfrm>
                <a:off x="6572160" y="54295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8" name="Rechteck 28"/>
              <p:cNvSpPr/>
              <p:nvPr/>
            </p:nvSpPr>
            <p:spPr>
              <a:xfrm>
                <a:off x="6215040" y="542952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9" name="Ellipse 29"/>
              <p:cNvSpPr/>
              <p:nvPr/>
            </p:nvSpPr>
            <p:spPr>
              <a:xfrm>
                <a:off x="6215040" y="48578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0" name="Gerade Verbindung 30"/>
              <p:cNvSpPr/>
              <p:nvPr/>
            </p:nvSpPr>
            <p:spPr>
              <a:xfrm flipH="1">
                <a:off x="6036480" y="52149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1" name="Gerade Verbindung 31"/>
              <p:cNvSpPr/>
              <p:nvPr/>
            </p:nvSpPr>
            <p:spPr>
              <a:xfrm>
                <a:off x="6393600" y="52149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32" name="Pfeil nach rechts 7"/>
            <p:cNvSpPr/>
            <p:nvPr/>
          </p:nvSpPr>
          <p:spPr>
            <a:xfrm>
              <a:off x="4857840" y="5143680"/>
              <a:ext cx="571320" cy="357120"/>
            </a:xfrm>
            <a:prstGeom prst="rightArrow">
              <a:avLst>
                <a:gd name="adj1" fmla="val 50000"/>
                <a:gd name="adj2" fmla="val 49993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3" name="Nach unten gekrümmter Pfeil 8"/>
            <p:cNvSpPr/>
            <p:nvPr/>
          </p:nvSpPr>
          <p:spPr>
            <a:xfrm>
              <a:off x="3321720" y="4071960"/>
              <a:ext cx="3143520" cy="428400"/>
            </a:xfrm>
            <a:custGeom>
              <a:avLst/>
              <a:gdLst>
                <a:gd name="textAreaLeft" fmla="*/ 745560 w 3143520"/>
                <a:gd name="textAreaRight" fmla="*/ 2344320 w 314352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10248" hR="21600" stAng="10800000" swAng="5400000"/>
                  <a:lnTo>
                    <a:pt x="10985" y="0"/>
                  </a:lnTo>
                  <a:arcTo wR="10248" hR="21600" stAng="-5400000" swAng="3686593"/>
                  <a:lnTo>
                    <a:pt x="21275" y="16200"/>
                  </a:lnTo>
                  <a:lnTo>
                    <a:pt x="20864" y="21600"/>
                  </a:lnTo>
                  <a:lnTo>
                    <a:pt x="19802" y="16200"/>
                  </a:lnTo>
                  <a:lnTo>
                    <a:pt x="20170" y="16200"/>
                  </a:lnTo>
                  <a:arcTo wR="10248" hR="21600" stAng="-1713407" swAng="-3627912"/>
                  <a:lnTo>
                    <a:pt x="10616" y="14"/>
                  </a:lnTo>
                  <a:arcTo wR="10248" hR="21600" stAng="-5458681" swAng="-5341319"/>
                  <a:close/>
                </a:path>
                <a:path fill="darkenLess" w="21600" h="21600">
                  <a:moveTo>
                    <a:pt x="0" y="21600"/>
                  </a:moveTo>
                  <a:arcTo wR="10248" hR="21600" stAng="10800000" swAng="5400000"/>
                  <a:lnTo>
                    <a:pt x="10248" y="0"/>
                  </a:lnTo>
                  <a:arcTo wR="10248" hR="21600" stAng="-5400000" swAng="58681"/>
                  <a:lnTo>
                    <a:pt x="10616" y="14"/>
                  </a:lnTo>
                  <a:arcTo wR="10248" hR="21600" stAng="-5458681" swAng="-5341319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4" name="Nach oben gekrümmter Pfeil 9"/>
            <p:cNvSpPr/>
            <p:nvPr/>
          </p:nvSpPr>
          <p:spPr>
            <a:xfrm>
              <a:off x="3321720" y="6215400"/>
              <a:ext cx="3179160" cy="428400"/>
            </a:xfrm>
            <a:custGeom>
              <a:avLst/>
              <a:gdLst>
                <a:gd name="textAreaLeft" fmla="*/ 754560 w 3179160"/>
                <a:gd name="textAreaRight" fmla="*/ 2370960 w 317916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10254" hR="21600" stAng="10800000" swAng="-5400000"/>
                  <a:lnTo>
                    <a:pt x="10982" y="21600"/>
                  </a:lnTo>
                  <a:arcTo wR="10254" hR="21600" stAng="5400000" swAng="-3687508"/>
                  <a:lnTo>
                    <a:pt x="21274" y="5400"/>
                  </a:lnTo>
                  <a:lnTo>
                    <a:pt x="20872" y="0"/>
                  </a:lnTo>
                  <a:lnTo>
                    <a:pt x="19818" y="5400"/>
                  </a:lnTo>
                  <a:lnTo>
                    <a:pt x="20182" y="5400"/>
                  </a:lnTo>
                  <a:arcTo wR="10254" hR="21600" stAng="1712492" swAng="3629545"/>
                  <a:lnTo>
                    <a:pt x="10618" y="21586"/>
                  </a:lnTo>
                  <a:arcTo wR="10254" hR="21600" stAng="5457963" swAng="5342037"/>
                  <a:close/>
                </a:path>
                <a:path fill="darkenLess" w="21600" h="21600">
                  <a:moveTo>
                    <a:pt x="0" y="0"/>
                  </a:moveTo>
                  <a:arcTo wR="10254" hR="21600" stAng="10800000" swAng="-5400000"/>
                  <a:lnTo>
                    <a:pt x="10982" y="21600"/>
                  </a:lnTo>
                  <a:arcTo wR="10254" hR="21600" stAng="5400000" swAng="57963"/>
                  <a:lnTo>
                    <a:pt x="10618" y="21586"/>
                  </a:lnTo>
                  <a:arcTo wR="10254" hR="21600" stAng="5457963" swAng="5342037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35" name="Gruppieren 34"/>
            <p:cNvGrpSpPr/>
            <p:nvPr/>
          </p:nvGrpSpPr>
          <p:grpSpPr>
            <a:xfrm>
              <a:off x="2143080" y="4572000"/>
              <a:ext cx="2500200" cy="1500120"/>
              <a:chOff x="2143080" y="4572000"/>
              <a:chExt cx="2500200" cy="1500120"/>
            </a:xfrm>
          </p:grpSpPr>
          <p:sp>
            <p:nvSpPr>
              <p:cNvPr id="436" name="Ellipse 11"/>
              <p:cNvSpPr/>
              <p:nvPr/>
            </p:nvSpPr>
            <p:spPr>
              <a:xfrm>
                <a:off x="2143080" y="5715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7" name="Ellipse 12"/>
              <p:cNvSpPr/>
              <p:nvPr/>
            </p:nvSpPr>
            <p:spPr>
              <a:xfrm>
                <a:off x="2857320" y="5715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8" name="Rechteck 13"/>
              <p:cNvSpPr/>
              <p:nvPr/>
            </p:nvSpPr>
            <p:spPr>
              <a:xfrm>
                <a:off x="2500200" y="57150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9" name="Ellipse 14"/>
              <p:cNvSpPr/>
              <p:nvPr/>
            </p:nvSpPr>
            <p:spPr>
              <a:xfrm>
                <a:off x="2500200" y="51433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0" name="Gerade Verbindung 15"/>
              <p:cNvSpPr/>
              <p:nvPr/>
            </p:nvSpPr>
            <p:spPr>
              <a:xfrm flipH="1">
                <a:off x="2321640" y="55008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1" name="Gerade Verbindung 16"/>
              <p:cNvSpPr/>
              <p:nvPr/>
            </p:nvSpPr>
            <p:spPr>
              <a:xfrm>
                <a:off x="2678760" y="55008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2" name="Ellipse 17"/>
              <p:cNvSpPr/>
              <p:nvPr/>
            </p:nvSpPr>
            <p:spPr>
              <a:xfrm>
                <a:off x="3571920" y="5715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3" name="Ellipse 18"/>
              <p:cNvSpPr/>
              <p:nvPr/>
            </p:nvSpPr>
            <p:spPr>
              <a:xfrm>
                <a:off x="4286160" y="5715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4" name="Rechteck 19"/>
              <p:cNvSpPr/>
              <p:nvPr/>
            </p:nvSpPr>
            <p:spPr>
              <a:xfrm>
                <a:off x="3929040" y="57150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5" name="Ellipse 20"/>
              <p:cNvSpPr/>
              <p:nvPr/>
            </p:nvSpPr>
            <p:spPr>
              <a:xfrm>
                <a:off x="3929040" y="51433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6" name="Gerade Verbindung 21"/>
              <p:cNvSpPr/>
              <p:nvPr/>
            </p:nvSpPr>
            <p:spPr>
              <a:xfrm flipH="1">
                <a:off x="3750480" y="55008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7" name="Gerade Verbindung 22"/>
              <p:cNvSpPr/>
              <p:nvPr/>
            </p:nvSpPr>
            <p:spPr>
              <a:xfrm>
                <a:off x="4107600" y="55008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8" name="Ellipse 23"/>
              <p:cNvSpPr/>
              <p:nvPr/>
            </p:nvSpPr>
            <p:spPr>
              <a:xfrm>
                <a:off x="3214440" y="4572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9" name="Gerade Verbindung 24"/>
              <p:cNvSpPr/>
              <p:nvPr/>
            </p:nvSpPr>
            <p:spPr>
              <a:xfrm flipH="1">
                <a:off x="2678760" y="49291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0" name="Gerade Verbindung 25"/>
              <p:cNvSpPr/>
              <p:nvPr/>
            </p:nvSpPr>
            <p:spPr>
              <a:xfrm flipH="1" flipV="1">
                <a:off x="3393000" y="49287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Replace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Calibri"/>
              </a:rPr>
              <a:t>merge parents and childr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Calibri"/>
              </a:rPr>
              <a:t>use selection/reduction opera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Calibri"/>
              </a:rPr>
              <a:t>select parents that should stay and discard all others (elitism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Calibri"/>
              </a:rPr>
              <a:t>select children that should replace and discard all oth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Calibri"/>
              </a:rPr>
              <a:t>merge both grou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1E4A7-F88D-44A2-96BA-3C0E9AE899EA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TSP SGA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Flussdiagramm: Prozess 4"/>
          <p:cNvSpPr/>
          <p:nvPr/>
        </p:nvSpPr>
        <p:spPr>
          <a:xfrm>
            <a:off x="500040" y="1714680"/>
            <a:ext cx="1714680" cy="35712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Replace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56" name="Gewinkelte Verbindung 17"/>
          <p:cNvCxnSpPr>
            <a:stCxn id="455" idx="3"/>
          </p:cNvCxnSpPr>
          <p:nvPr/>
        </p:nvCxnSpPr>
        <p:spPr>
          <a:xfrm>
            <a:off x="2214360" y="1891800"/>
            <a:ext cx="21492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57" name="Gewinkelte Verbindung 18"/>
          <p:cNvCxnSpPr>
            <a:stCxn id="455" idx="3"/>
            <a:endCxn id="458" idx="1"/>
          </p:cNvCxnSpPr>
          <p:nvPr/>
        </p:nvCxnSpPr>
        <p:spPr>
          <a:xfrm>
            <a:off x="2214360" y="1891800"/>
            <a:ext cx="214920" cy="17168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459" name="Flussdiagramm: Prozess 44"/>
          <p:cNvSpPr/>
          <p:nvPr/>
        </p:nvSpPr>
        <p:spPr>
          <a:xfrm>
            <a:off x="242892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SubSco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Flussdiagramm: Prozess 84"/>
          <p:cNvSpPr/>
          <p:nvPr/>
        </p:nvSpPr>
        <p:spPr>
          <a:xfrm>
            <a:off x="435780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Flussdiagramm: Prozess 85"/>
          <p:cNvSpPr/>
          <p:nvPr/>
        </p:nvSpPr>
        <p:spPr>
          <a:xfrm>
            <a:off x="628668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LeftSel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Flussdiagramm: Prozess 86"/>
          <p:cNvSpPr/>
          <p:nvPr/>
        </p:nvSpPr>
        <p:spPr>
          <a:xfrm>
            <a:off x="6286680" y="2143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RightReduc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Flussdiagramm: Prozess 87"/>
          <p:cNvSpPr/>
          <p:nvPr/>
        </p:nvSpPr>
        <p:spPr>
          <a:xfrm>
            <a:off x="435780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Flussdiagramm: Prozess 88"/>
          <p:cNvSpPr/>
          <p:nvPr/>
        </p:nvSpPr>
        <p:spPr>
          <a:xfrm>
            <a:off x="628668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RightSel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Flussdiagramm: Prozess 89"/>
          <p:cNvSpPr/>
          <p:nvPr/>
        </p:nvSpPr>
        <p:spPr>
          <a:xfrm>
            <a:off x="6286680" y="3000240"/>
            <a:ext cx="1714320" cy="3574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LeftReduc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Flussdiagramm: Prozess 90"/>
          <p:cNvSpPr/>
          <p:nvPr/>
        </p:nvSpPr>
        <p:spPr>
          <a:xfrm>
            <a:off x="2428920" y="342900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MergingReduc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Flussdiagramm: Prozess 91"/>
          <p:cNvSpPr/>
          <p:nvPr/>
        </p:nvSpPr>
        <p:spPr>
          <a:xfrm>
            <a:off x="2428920" y="38577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or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7" name="Gewinkelte Verbindung 93"/>
          <p:cNvCxnSpPr>
            <a:stCxn id="455" idx="3"/>
            <a:endCxn id="466" idx="1"/>
          </p:cNvCxnSpPr>
          <p:nvPr/>
        </p:nvCxnSpPr>
        <p:spPr>
          <a:xfrm>
            <a:off x="2214360" y="1892160"/>
            <a:ext cx="214920" cy="214560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68" name="Gewinkelte Verbindung 97"/>
          <p:cNvCxnSpPr>
            <a:stCxn id="459" idx="3"/>
            <a:endCxn id="460" idx="1"/>
          </p:cNvCxnSpPr>
          <p:nvPr/>
        </p:nvCxnSpPr>
        <p:spPr>
          <a:xfrm>
            <a:off x="4143240" y="1891800"/>
            <a:ext cx="215280" cy="25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69" name="Gewinkelte Verbindung 100"/>
          <p:cNvCxnSpPr>
            <a:stCxn id="459" idx="3"/>
            <a:endCxn id="463" idx="1"/>
          </p:cNvCxnSpPr>
          <p:nvPr/>
        </p:nvCxnSpPr>
        <p:spPr>
          <a:xfrm>
            <a:off x="4143240" y="1892160"/>
            <a:ext cx="215280" cy="85824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0" name="Gewinkelte Verbindung 104"/>
          <p:cNvCxnSpPr>
            <a:stCxn id="460" idx="3"/>
            <a:endCxn id="461" idx="1"/>
          </p:cNvCxnSpPr>
          <p:nvPr/>
        </p:nvCxnSpPr>
        <p:spPr>
          <a:xfrm>
            <a:off x="6072120" y="1891800"/>
            <a:ext cx="215280" cy="25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1" name="Gewinkelte Verbindung 108"/>
          <p:cNvCxnSpPr>
            <a:stCxn id="460" idx="3"/>
            <a:endCxn id="462" idx="1"/>
          </p:cNvCxnSpPr>
          <p:nvPr/>
        </p:nvCxnSpPr>
        <p:spPr>
          <a:xfrm>
            <a:off x="6072120" y="1891800"/>
            <a:ext cx="215280" cy="42948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2" name="Gewinkelte Verbindung 113"/>
          <p:cNvCxnSpPr>
            <a:stCxn id="463" idx="3"/>
            <a:endCxn id="464" idx="1"/>
          </p:cNvCxnSpPr>
          <p:nvPr/>
        </p:nvCxnSpPr>
        <p:spPr>
          <a:xfrm>
            <a:off x="6072120" y="274968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3" name="Gewinkelte Verbindung 116"/>
          <p:cNvCxnSpPr>
            <a:stCxn id="463" idx="3"/>
            <a:endCxn id="465" idx="1"/>
          </p:cNvCxnSpPr>
          <p:nvPr/>
        </p:nvCxnSpPr>
        <p:spPr>
          <a:xfrm>
            <a:off x="6072120" y="2749680"/>
            <a:ext cx="215280" cy="4291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474" name="Gruppieren 132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475" name="Rechteck 133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76" name="Gruppieren 166"/>
            <p:cNvGrpSpPr/>
            <p:nvPr/>
          </p:nvGrpSpPr>
          <p:grpSpPr>
            <a:xfrm>
              <a:off x="5357520" y="3786120"/>
              <a:ext cx="3286080" cy="2214720"/>
              <a:chOff x="5357520" y="3786120"/>
              <a:chExt cx="3286080" cy="2214720"/>
            </a:xfrm>
          </p:grpSpPr>
          <p:sp>
            <p:nvSpPr>
              <p:cNvPr id="477" name="Rechteck 135"/>
              <p:cNvSpPr/>
              <p:nvPr/>
            </p:nvSpPr>
            <p:spPr>
              <a:xfrm>
                <a:off x="6357600" y="378612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8" name="Ellipse 136"/>
              <p:cNvSpPr/>
              <p:nvPr/>
            </p:nvSpPr>
            <p:spPr>
              <a:xfrm>
                <a:off x="678636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9" name="Ellipse 137"/>
              <p:cNvSpPr/>
              <p:nvPr/>
            </p:nvSpPr>
            <p:spPr>
              <a:xfrm>
                <a:off x="714348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0" name="Ellipse 138"/>
              <p:cNvSpPr/>
              <p:nvPr/>
            </p:nvSpPr>
            <p:spPr>
              <a:xfrm>
                <a:off x="750060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1" name="Rechteck 139"/>
              <p:cNvSpPr/>
              <p:nvPr/>
            </p:nvSpPr>
            <p:spPr>
              <a:xfrm>
                <a:off x="7143480" y="50007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2" name="Gerade Verbindung 141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3" name="Gerade Verbindung 143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4" name="Ellipse 144"/>
              <p:cNvSpPr/>
              <p:nvPr/>
            </p:nvSpPr>
            <p:spPr>
              <a:xfrm>
                <a:off x="535752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5" name="Ellipse 145"/>
              <p:cNvSpPr/>
              <p:nvPr/>
            </p:nvSpPr>
            <p:spPr>
              <a:xfrm>
                <a:off x="571464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6" name="Ellipse 146"/>
              <p:cNvSpPr/>
              <p:nvPr/>
            </p:nvSpPr>
            <p:spPr>
              <a:xfrm>
                <a:off x="607176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7" name="Rechteck 147"/>
              <p:cNvSpPr/>
              <p:nvPr/>
            </p:nvSpPr>
            <p:spPr>
              <a:xfrm>
                <a:off x="5714640" y="50007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8" name="Gerade Verbindung 148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9" name="Gerade Verbindung 149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0" name="Ellipse 150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1" name="Gerade Verbindung 151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2" name="Gerade Verbindung 152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3" name="Legende mit Linie 1 153"/>
              <p:cNvSpPr/>
              <p:nvPr/>
            </p:nvSpPr>
            <p:spPr>
              <a:xfrm>
                <a:off x="7643520" y="564372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Childre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4" name="Legende mit Linie 1 154"/>
              <p:cNvSpPr/>
              <p:nvPr/>
            </p:nvSpPr>
            <p:spPr>
              <a:xfrm>
                <a:off x="6214680" y="564372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Parent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95" name="Gruppieren 155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496" name="Rechteck 156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97" name="Gruppieren 166"/>
            <p:cNvGrpSpPr/>
            <p:nvPr/>
          </p:nvGrpSpPr>
          <p:grpSpPr>
            <a:xfrm>
              <a:off x="5357520" y="3857400"/>
              <a:ext cx="3286080" cy="2143080"/>
              <a:chOff x="5357520" y="3857400"/>
              <a:chExt cx="3286080" cy="2143080"/>
            </a:xfrm>
          </p:grpSpPr>
          <p:sp>
            <p:nvSpPr>
              <p:cNvPr id="498" name="Rechteck 158"/>
              <p:cNvSpPr/>
              <p:nvPr/>
            </p:nvSpPr>
            <p:spPr>
              <a:xfrm>
                <a:off x="56430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9" name="Ellipse 159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0" name="Ellipse 161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1" name="Ellipse 163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2" name="Rechteck 164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3" name="Gerade Verbindung 165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4" name="Gerade Verbindung 166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5" name="Ellipse 167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6" name="Ellipse 168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7" name="Ellipse 169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8" name="Rechteck 170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9" name="Gerade Verbindung 171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0" name="Gerade Verbindung 172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1" name="Ellipse 17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2" name="Gerade Verbindung 174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3" name="Gerade Verbindung 17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4" name="Legende mit Linie 1 176"/>
              <p:cNvSpPr/>
              <p:nvPr/>
            </p:nvSpPr>
            <p:spPr>
              <a:xfrm>
                <a:off x="7643520" y="564336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Childre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5" name="Legende mit Linie 1 177"/>
              <p:cNvSpPr/>
              <p:nvPr/>
            </p:nvSpPr>
            <p:spPr>
              <a:xfrm>
                <a:off x="6214680" y="564336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Parent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16" name="Gruppieren 412"/>
          <p:cNvGrpSpPr/>
          <p:nvPr/>
        </p:nvGrpSpPr>
        <p:grpSpPr>
          <a:xfrm>
            <a:off x="5286240" y="3714840"/>
            <a:ext cx="3500640" cy="2357280"/>
            <a:chOff x="5286240" y="3714840"/>
            <a:chExt cx="3500640" cy="2357280"/>
          </a:xfrm>
        </p:grpSpPr>
        <p:sp>
          <p:nvSpPr>
            <p:cNvPr id="517" name="Rechteck 413"/>
            <p:cNvSpPr/>
            <p:nvPr/>
          </p:nvSpPr>
          <p:spPr>
            <a:xfrm>
              <a:off x="5286240" y="3714840"/>
              <a:ext cx="350064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18" name="Gruppieren 167"/>
            <p:cNvGrpSpPr/>
            <p:nvPr/>
          </p:nvGrpSpPr>
          <p:grpSpPr>
            <a:xfrm>
              <a:off x="5428800" y="3857400"/>
              <a:ext cx="2428920" cy="1857240"/>
              <a:chOff x="5428800" y="3857400"/>
              <a:chExt cx="2428920" cy="1857240"/>
            </a:xfrm>
          </p:grpSpPr>
          <p:sp>
            <p:nvSpPr>
              <p:cNvPr id="519" name="Rechteck 415"/>
              <p:cNvSpPr/>
              <p:nvPr/>
            </p:nvSpPr>
            <p:spPr>
              <a:xfrm>
                <a:off x="56430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0" name="Ellipse 416"/>
              <p:cNvSpPr/>
              <p:nvPr/>
            </p:nvSpPr>
            <p:spPr>
              <a:xfrm>
                <a:off x="67860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1" name="Ellipse 417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2" name="Ellipse 418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3" name="Rechteck 419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4" name="Gerade Verbindung 420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5" name="Gerade Verbindung 421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6" name="Ellipse 422"/>
              <p:cNvSpPr/>
              <p:nvPr/>
            </p:nvSpPr>
            <p:spPr>
              <a:xfrm>
                <a:off x="57142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7" name="Ellipse 42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8" name="Gerade Verbindung 424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9" name="Gerade Verbindung 42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530" name="Gruppieren 115"/>
              <p:cNvGrpSpPr/>
              <p:nvPr/>
            </p:nvGrpSpPr>
            <p:grpSpPr>
              <a:xfrm>
                <a:off x="5428800" y="5000400"/>
                <a:ext cx="357120" cy="714240"/>
                <a:chOff x="5428800" y="5000400"/>
                <a:chExt cx="357120" cy="714240"/>
              </a:xfrm>
            </p:grpSpPr>
            <p:sp>
              <p:nvSpPr>
                <p:cNvPr id="531" name="Ellipse 434"/>
                <p:cNvSpPr/>
                <p:nvPr/>
              </p:nvSpPr>
              <p:spPr>
                <a:xfrm>
                  <a:off x="542880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R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2" name="Rechteck 435"/>
                <p:cNvSpPr/>
                <p:nvPr/>
              </p:nvSpPr>
              <p:spPr>
                <a:xfrm>
                  <a:off x="542880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3" name="Gerade Verbindung 436"/>
                <p:cNvSpPr/>
                <p:nvPr/>
              </p:nvSpPr>
              <p:spPr>
                <a:xfrm>
                  <a:off x="560736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4" name="Gerade Verbindung 437"/>
                <p:cNvSpPr/>
                <p:nvPr/>
              </p:nvSpPr>
              <p:spPr>
                <a:xfrm flipH="1">
                  <a:off x="542880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535" name="Gruppieren 120"/>
              <p:cNvGrpSpPr/>
              <p:nvPr/>
            </p:nvGrpSpPr>
            <p:grpSpPr>
              <a:xfrm>
                <a:off x="6000120" y="5000400"/>
                <a:ext cx="357120" cy="714240"/>
                <a:chOff x="6000120" y="5000400"/>
                <a:chExt cx="357120" cy="714240"/>
              </a:xfrm>
            </p:grpSpPr>
            <p:sp>
              <p:nvSpPr>
                <p:cNvPr id="536" name="Ellipse 430"/>
                <p:cNvSpPr/>
                <p:nvPr/>
              </p:nvSpPr>
              <p:spPr>
                <a:xfrm>
                  <a:off x="600012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S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7" name="Rechteck 431"/>
                <p:cNvSpPr/>
                <p:nvPr/>
              </p:nvSpPr>
              <p:spPr>
                <a:xfrm>
                  <a:off x="600012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8" name="Gerade Verbindung 432"/>
                <p:cNvSpPr/>
                <p:nvPr/>
              </p:nvSpPr>
              <p:spPr>
                <a:xfrm>
                  <a:off x="617868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9" name="Gerade Verbindung 433"/>
                <p:cNvSpPr/>
                <p:nvPr/>
              </p:nvSpPr>
              <p:spPr>
                <a:xfrm flipH="1">
                  <a:off x="600012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540" name="Gerade Verbindung 428"/>
              <p:cNvSpPr/>
              <p:nvPr/>
            </p:nvSpPr>
            <p:spPr>
              <a:xfrm>
                <a:off x="589248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1" name="Gerade Verbindung 429"/>
              <p:cNvSpPr/>
              <p:nvPr/>
            </p:nvSpPr>
            <p:spPr>
              <a:xfrm flipH="1">
                <a:off x="560700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42" name="Gruppieren 438"/>
          <p:cNvGrpSpPr/>
          <p:nvPr/>
        </p:nvGrpSpPr>
        <p:grpSpPr>
          <a:xfrm>
            <a:off x="5286240" y="3714840"/>
            <a:ext cx="3500640" cy="2357280"/>
            <a:chOff x="5286240" y="3714840"/>
            <a:chExt cx="3500640" cy="2357280"/>
          </a:xfrm>
        </p:grpSpPr>
        <p:sp>
          <p:nvSpPr>
            <p:cNvPr id="543" name="Rechteck 439"/>
            <p:cNvSpPr/>
            <p:nvPr/>
          </p:nvSpPr>
          <p:spPr>
            <a:xfrm>
              <a:off x="5286240" y="3714840"/>
              <a:ext cx="350064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44" name="Gruppieren 167"/>
            <p:cNvGrpSpPr/>
            <p:nvPr/>
          </p:nvGrpSpPr>
          <p:grpSpPr>
            <a:xfrm>
              <a:off x="5356800" y="3857400"/>
              <a:ext cx="2501280" cy="1857240"/>
              <a:chOff x="5356800" y="3857400"/>
              <a:chExt cx="2501280" cy="1857240"/>
            </a:xfrm>
          </p:grpSpPr>
          <p:sp>
            <p:nvSpPr>
              <p:cNvPr id="545" name="Rechteck 441"/>
              <p:cNvSpPr/>
              <p:nvPr/>
            </p:nvSpPr>
            <p:spPr>
              <a:xfrm>
                <a:off x="56430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6" name="Ellipse 442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7" name="Ellipse 443"/>
              <p:cNvSpPr/>
              <p:nvPr/>
            </p:nvSpPr>
            <p:spPr>
              <a:xfrm>
                <a:off x="71438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8" name="Ellipse 444"/>
              <p:cNvSpPr/>
              <p:nvPr/>
            </p:nvSpPr>
            <p:spPr>
              <a:xfrm>
                <a:off x="75009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9" name="Rechteck 445"/>
              <p:cNvSpPr/>
              <p:nvPr/>
            </p:nvSpPr>
            <p:spPr>
              <a:xfrm>
                <a:off x="71438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0" name="Gerade Verbindung 446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1" name="Gerade Verbindung 447"/>
              <p:cNvSpPr/>
              <p:nvPr/>
            </p:nvSpPr>
            <p:spPr>
              <a:xfrm>
                <a:off x="73224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2" name="Ellipse 448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3" name="Ellipse 449"/>
              <p:cNvSpPr/>
              <p:nvPr/>
            </p:nvSpPr>
            <p:spPr>
              <a:xfrm>
                <a:off x="642924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4" name="Gerade Verbindung 450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5" name="Gerade Verbindung 451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556" name="Gruppieren 115"/>
              <p:cNvGrpSpPr/>
              <p:nvPr/>
            </p:nvGrpSpPr>
            <p:grpSpPr>
              <a:xfrm>
                <a:off x="5428800" y="5000400"/>
                <a:ext cx="357120" cy="714240"/>
                <a:chOff x="5428800" y="5000400"/>
                <a:chExt cx="357120" cy="714240"/>
              </a:xfrm>
            </p:grpSpPr>
            <p:sp>
              <p:nvSpPr>
                <p:cNvPr id="557" name="Ellipse 463"/>
                <p:cNvSpPr/>
                <p:nvPr/>
              </p:nvSpPr>
              <p:spPr>
                <a:xfrm>
                  <a:off x="542880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R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58" name="Rechteck 464"/>
                <p:cNvSpPr/>
                <p:nvPr/>
              </p:nvSpPr>
              <p:spPr>
                <a:xfrm>
                  <a:off x="542880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59" name="Gerade Verbindung 465"/>
                <p:cNvSpPr/>
                <p:nvPr/>
              </p:nvSpPr>
              <p:spPr>
                <a:xfrm>
                  <a:off x="560736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0" name="Gerade Verbindung 466"/>
                <p:cNvSpPr/>
                <p:nvPr/>
              </p:nvSpPr>
              <p:spPr>
                <a:xfrm flipH="1">
                  <a:off x="542880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561" name="Gruppieren 120"/>
              <p:cNvGrpSpPr/>
              <p:nvPr/>
            </p:nvGrpSpPr>
            <p:grpSpPr>
              <a:xfrm>
                <a:off x="6000480" y="5000400"/>
                <a:ext cx="357120" cy="714240"/>
                <a:chOff x="6000480" y="5000400"/>
                <a:chExt cx="357120" cy="714240"/>
              </a:xfrm>
            </p:grpSpPr>
            <p:sp>
              <p:nvSpPr>
                <p:cNvPr id="562" name="Ellipse 459"/>
                <p:cNvSpPr/>
                <p:nvPr/>
              </p:nvSpPr>
              <p:spPr>
                <a:xfrm>
                  <a:off x="600048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S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3" name="Rechteck 460"/>
                <p:cNvSpPr/>
                <p:nvPr/>
              </p:nvSpPr>
              <p:spPr>
                <a:xfrm>
                  <a:off x="600048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4" name="Gerade Verbindung 461"/>
                <p:cNvSpPr/>
                <p:nvPr/>
              </p:nvSpPr>
              <p:spPr>
                <a:xfrm>
                  <a:off x="617904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5" name="Gerade Verbindung 462"/>
                <p:cNvSpPr/>
                <p:nvPr/>
              </p:nvSpPr>
              <p:spPr>
                <a:xfrm flipH="1">
                  <a:off x="600048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566" name="Gerade Verbindung 454"/>
              <p:cNvSpPr/>
              <p:nvPr/>
            </p:nvSpPr>
            <p:spPr>
              <a:xfrm>
                <a:off x="589248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7" name="Gerade Verbindung 455"/>
              <p:cNvSpPr/>
              <p:nvPr/>
            </p:nvSpPr>
            <p:spPr>
              <a:xfrm flipH="1">
                <a:off x="560700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568" name="Gruppieren 132"/>
              <p:cNvGrpSpPr/>
              <p:nvPr/>
            </p:nvGrpSpPr>
            <p:grpSpPr>
              <a:xfrm>
                <a:off x="5356800" y="4928400"/>
                <a:ext cx="500040" cy="500400"/>
                <a:chOff x="5356800" y="4928400"/>
                <a:chExt cx="500040" cy="500400"/>
              </a:xfrm>
            </p:grpSpPr>
            <p:sp>
              <p:nvSpPr>
                <p:cNvPr id="569" name="Gerade Verbindung 457"/>
                <p:cNvSpPr/>
                <p:nvPr/>
              </p:nvSpPr>
              <p:spPr>
                <a:xfrm flipV="1">
                  <a:off x="5356800" y="4928400"/>
                  <a:ext cx="500040" cy="5000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70" name="Gerade Verbindung 458"/>
                <p:cNvSpPr/>
                <p:nvPr/>
              </p:nvSpPr>
              <p:spPr>
                <a:xfrm>
                  <a:off x="5356800" y="4928760"/>
                  <a:ext cx="500040" cy="5000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571" name="Gruppieren 467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572" name="Rechteck 468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73" name="Gruppieren 24"/>
            <p:cNvGrpSpPr/>
            <p:nvPr/>
          </p:nvGrpSpPr>
          <p:grpSpPr>
            <a:xfrm>
              <a:off x="5357520" y="3857400"/>
              <a:ext cx="2500200" cy="2143080"/>
              <a:chOff x="5357520" y="3857400"/>
              <a:chExt cx="2500200" cy="2143080"/>
            </a:xfrm>
          </p:grpSpPr>
          <p:sp>
            <p:nvSpPr>
              <p:cNvPr id="574" name="Rechteck 470"/>
              <p:cNvSpPr/>
              <p:nvPr/>
            </p:nvSpPr>
            <p:spPr>
              <a:xfrm>
                <a:off x="56430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5" name="Ellipse 471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6" name="Ellipse 472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7" name="Ellipse 473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8" name="Rechteck 474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9" name="Gerade Verbindung 475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0" name="Gerade Verbindung 476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1" name="Ellipse 477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2" name="Ellipse 478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3" name="Ellipse 479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4" name="Rechteck 480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5" name="Gerade Verbindung 481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6" name="Gerade Verbindung 482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7" name="Ellipse 48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8" name="Gerade Verbindung 484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9" name="Gerade Verbindung 48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0" name="Legende mit Linie 1 486"/>
              <p:cNvSpPr/>
              <p:nvPr/>
            </p:nvSpPr>
            <p:spPr>
              <a:xfrm>
                <a:off x="6214680" y="564336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Remaining Parent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91" name="Gruppieren 487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592" name="Rechteck 488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93" name="Gruppieren 24"/>
            <p:cNvGrpSpPr/>
            <p:nvPr/>
          </p:nvGrpSpPr>
          <p:grpSpPr>
            <a:xfrm>
              <a:off x="5357520" y="3857400"/>
              <a:ext cx="2500200" cy="1500120"/>
              <a:chOff x="5357520" y="3857400"/>
              <a:chExt cx="2500200" cy="1500120"/>
            </a:xfrm>
          </p:grpSpPr>
          <p:sp>
            <p:nvSpPr>
              <p:cNvPr id="594" name="Rechteck 490"/>
              <p:cNvSpPr/>
              <p:nvPr/>
            </p:nvSpPr>
            <p:spPr>
              <a:xfrm>
                <a:off x="707184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5" name="Ellipse 491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6" name="Ellipse 492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7" name="Ellipse 493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8" name="Rechteck 494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9" name="Gerade Verbindung 495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0" name="Gerade Verbindung 496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1" name="Ellipse 497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2" name="Ellipse 498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3" name="Ellipse 499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4" name="Rechteck 500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5" name="Gerade Verbindung 501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6" name="Gerade Verbindung 502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7" name="Ellipse 50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8" name="Gerade Verbindung 504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9" name="Gerade Verbindung 50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10" name="Gruppieren 506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611" name="Rechteck 507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12" name="Gruppieren 168"/>
            <p:cNvGrpSpPr/>
            <p:nvPr/>
          </p:nvGrpSpPr>
          <p:grpSpPr>
            <a:xfrm>
              <a:off x="5357520" y="3857400"/>
              <a:ext cx="2428920" cy="1857240"/>
              <a:chOff x="5357520" y="3857400"/>
              <a:chExt cx="2428920" cy="1857240"/>
            </a:xfrm>
          </p:grpSpPr>
          <p:sp>
            <p:nvSpPr>
              <p:cNvPr id="613" name="Rechteck 509"/>
              <p:cNvSpPr/>
              <p:nvPr/>
            </p:nvSpPr>
            <p:spPr>
              <a:xfrm>
                <a:off x="70722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4" name="Ellipse 510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5" name="Ellipse 511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6" name="Ellipse 512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7" name="Rechteck 513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8" name="Gerade Verbindung 514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9" name="Gerade Verbindung 515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0" name="Ellipse 516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1" name="Ellipse 517"/>
              <p:cNvSpPr/>
              <p:nvPr/>
            </p:nvSpPr>
            <p:spPr>
              <a:xfrm>
                <a:off x="642924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2" name="Gerade Verbindung 518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3" name="Gerade Verbindung 519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24" name="Gruppieren 144"/>
              <p:cNvGrpSpPr/>
              <p:nvPr/>
            </p:nvGrpSpPr>
            <p:grpSpPr>
              <a:xfrm>
                <a:off x="6857640" y="5000400"/>
                <a:ext cx="357120" cy="714240"/>
                <a:chOff x="6857640" y="5000400"/>
                <a:chExt cx="357120" cy="714240"/>
              </a:xfrm>
            </p:grpSpPr>
            <p:sp>
              <p:nvSpPr>
                <p:cNvPr id="625" name="Ellipse 528"/>
                <p:cNvSpPr/>
                <p:nvPr/>
              </p:nvSpPr>
              <p:spPr>
                <a:xfrm>
                  <a:off x="685764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R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6" name="Rechteck 529"/>
                <p:cNvSpPr/>
                <p:nvPr/>
              </p:nvSpPr>
              <p:spPr>
                <a:xfrm>
                  <a:off x="685764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7" name="Gerade Verbindung 530"/>
                <p:cNvSpPr/>
                <p:nvPr/>
              </p:nvSpPr>
              <p:spPr>
                <a:xfrm>
                  <a:off x="703620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8" name="Gerade Verbindung 531"/>
                <p:cNvSpPr/>
                <p:nvPr/>
              </p:nvSpPr>
              <p:spPr>
                <a:xfrm flipH="1">
                  <a:off x="685764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29" name="Gruppieren 149"/>
              <p:cNvGrpSpPr/>
              <p:nvPr/>
            </p:nvGrpSpPr>
            <p:grpSpPr>
              <a:xfrm>
                <a:off x="7429320" y="5000400"/>
                <a:ext cx="357120" cy="714240"/>
                <a:chOff x="7429320" y="5000400"/>
                <a:chExt cx="357120" cy="714240"/>
              </a:xfrm>
            </p:grpSpPr>
            <p:sp>
              <p:nvSpPr>
                <p:cNvPr id="630" name="Ellipse 524"/>
                <p:cNvSpPr/>
                <p:nvPr/>
              </p:nvSpPr>
              <p:spPr>
                <a:xfrm>
                  <a:off x="742932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S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1" name="Rechteck 525"/>
                <p:cNvSpPr/>
                <p:nvPr/>
              </p:nvSpPr>
              <p:spPr>
                <a:xfrm>
                  <a:off x="742932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2" name="Gerade Verbindung 526"/>
                <p:cNvSpPr/>
                <p:nvPr/>
              </p:nvSpPr>
              <p:spPr>
                <a:xfrm>
                  <a:off x="760788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3" name="Gerade Verbindung 527"/>
                <p:cNvSpPr/>
                <p:nvPr/>
              </p:nvSpPr>
              <p:spPr>
                <a:xfrm flipH="1">
                  <a:off x="742932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34" name="Gerade Verbindung 522"/>
              <p:cNvSpPr/>
              <p:nvPr/>
            </p:nvSpPr>
            <p:spPr>
              <a:xfrm>
                <a:off x="732132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5" name="Gerade Verbindung 523"/>
              <p:cNvSpPr/>
              <p:nvPr/>
            </p:nvSpPr>
            <p:spPr>
              <a:xfrm flipH="1">
                <a:off x="703620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36" name="Gruppieren 532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637" name="Rechteck 533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38" name="Gruppieren 168"/>
            <p:cNvGrpSpPr/>
            <p:nvPr/>
          </p:nvGrpSpPr>
          <p:grpSpPr>
            <a:xfrm>
              <a:off x="5357520" y="3857400"/>
              <a:ext cx="2499480" cy="1857240"/>
              <a:chOff x="5357520" y="3857400"/>
              <a:chExt cx="2499480" cy="1857240"/>
            </a:xfrm>
          </p:grpSpPr>
          <p:sp>
            <p:nvSpPr>
              <p:cNvPr id="639" name="Rechteck 535"/>
              <p:cNvSpPr/>
              <p:nvPr/>
            </p:nvSpPr>
            <p:spPr>
              <a:xfrm>
                <a:off x="707184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0" name="Ellipse 536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1" name="Ellipse 537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2" name="Ellipse 538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3" name="Rechteck 539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4" name="Gerade Verbindung 540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5" name="Gerade Verbindung 541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6" name="Ellipse 542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7" name="Ellipse 54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8" name="Gerade Verbindung 544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9" name="Gerade Verbindung 54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50" name="Gruppieren 144"/>
              <p:cNvGrpSpPr/>
              <p:nvPr/>
            </p:nvGrpSpPr>
            <p:grpSpPr>
              <a:xfrm>
                <a:off x="6857640" y="5000400"/>
                <a:ext cx="357120" cy="714240"/>
                <a:chOff x="6857640" y="5000400"/>
                <a:chExt cx="357120" cy="714240"/>
              </a:xfrm>
            </p:grpSpPr>
            <p:sp>
              <p:nvSpPr>
                <p:cNvPr id="651" name="Ellipse 557"/>
                <p:cNvSpPr/>
                <p:nvPr/>
              </p:nvSpPr>
              <p:spPr>
                <a:xfrm>
                  <a:off x="685764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R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2" name="Rechteck 558"/>
                <p:cNvSpPr/>
                <p:nvPr/>
              </p:nvSpPr>
              <p:spPr>
                <a:xfrm>
                  <a:off x="685764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3" name="Gerade Verbindung 559"/>
                <p:cNvSpPr/>
                <p:nvPr/>
              </p:nvSpPr>
              <p:spPr>
                <a:xfrm>
                  <a:off x="703620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4" name="Gerade Verbindung 560"/>
                <p:cNvSpPr/>
                <p:nvPr/>
              </p:nvSpPr>
              <p:spPr>
                <a:xfrm flipH="1">
                  <a:off x="685764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55" name="Gruppieren 149"/>
              <p:cNvGrpSpPr/>
              <p:nvPr/>
            </p:nvGrpSpPr>
            <p:grpSpPr>
              <a:xfrm>
                <a:off x="7429320" y="5000400"/>
                <a:ext cx="357120" cy="714240"/>
                <a:chOff x="7429320" y="5000400"/>
                <a:chExt cx="357120" cy="714240"/>
              </a:xfrm>
            </p:grpSpPr>
            <p:sp>
              <p:nvSpPr>
                <p:cNvPr id="656" name="Ellipse 553"/>
                <p:cNvSpPr/>
                <p:nvPr/>
              </p:nvSpPr>
              <p:spPr>
                <a:xfrm>
                  <a:off x="742932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S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7" name="Rechteck 554"/>
                <p:cNvSpPr/>
                <p:nvPr/>
              </p:nvSpPr>
              <p:spPr>
                <a:xfrm>
                  <a:off x="742932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8" name="Gerade Verbindung 555"/>
                <p:cNvSpPr/>
                <p:nvPr/>
              </p:nvSpPr>
              <p:spPr>
                <a:xfrm>
                  <a:off x="760788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9" name="Gerade Verbindung 556"/>
                <p:cNvSpPr/>
                <p:nvPr/>
              </p:nvSpPr>
              <p:spPr>
                <a:xfrm flipH="1">
                  <a:off x="742932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60" name="Gerade Verbindung 548"/>
              <p:cNvSpPr/>
              <p:nvPr/>
            </p:nvSpPr>
            <p:spPr>
              <a:xfrm>
                <a:off x="732132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1" name="Gerade Verbindung 549"/>
              <p:cNvSpPr/>
              <p:nvPr/>
            </p:nvSpPr>
            <p:spPr>
              <a:xfrm flipH="1">
                <a:off x="703584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62" name="Gruppieren 156"/>
              <p:cNvGrpSpPr/>
              <p:nvPr/>
            </p:nvGrpSpPr>
            <p:grpSpPr>
              <a:xfrm>
                <a:off x="7356960" y="4928400"/>
                <a:ext cx="500040" cy="500400"/>
                <a:chOff x="7356960" y="4928400"/>
                <a:chExt cx="500040" cy="500400"/>
              </a:xfrm>
            </p:grpSpPr>
            <p:sp>
              <p:nvSpPr>
                <p:cNvPr id="663" name="Gerade Verbindung 551"/>
                <p:cNvSpPr/>
                <p:nvPr/>
              </p:nvSpPr>
              <p:spPr>
                <a:xfrm flipV="1">
                  <a:off x="7356960" y="4928400"/>
                  <a:ext cx="500040" cy="5000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4" name="Gerade Verbindung 552"/>
                <p:cNvSpPr/>
                <p:nvPr/>
              </p:nvSpPr>
              <p:spPr>
                <a:xfrm>
                  <a:off x="7356960" y="4928760"/>
                  <a:ext cx="500040" cy="5000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665" name="Gruppieren 561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666" name="Rechteck 562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67" name="Gruppieren 24"/>
            <p:cNvGrpSpPr/>
            <p:nvPr/>
          </p:nvGrpSpPr>
          <p:grpSpPr>
            <a:xfrm>
              <a:off x="5357520" y="3857400"/>
              <a:ext cx="3286080" cy="2143080"/>
              <a:chOff x="5357520" y="3857400"/>
              <a:chExt cx="3286080" cy="2143080"/>
            </a:xfrm>
          </p:grpSpPr>
          <p:sp>
            <p:nvSpPr>
              <p:cNvPr id="668" name="Rechteck 564"/>
              <p:cNvSpPr/>
              <p:nvPr/>
            </p:nvSpPr>
            <p:spPr>
              <a:xfrm>
                <a:off x="707184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9" name="Ellipse 565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0" name="Ellipse 566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1" name="Ellipse 567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2" name="Rechteck 568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3" name="Gerade Verbindung 569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4" name="Gerade Verbindung 570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5" name="Ellipse 571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6" name="Ellipse 572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7" name="Ellipse 573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8" name="Rechteck 574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9" name="Gerade Verbindung 575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0" name="Gerade Verbindung 576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1" name="Ellipse 577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2" name="Gerade Verbindung 578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3" name="Gerade Verbindung 579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4" name="Legende mit Linie 1 580"/>
              <p:cNvSpPr/>
              <p:nvPr/>
            </p:nvSpPr>
            <p:spPr>
              <a:xfrm>
                <a:off x="7643520" y="564336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Remaining Childre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85" name="Gruppieren 581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686" name="Rechteck 582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87" name="Gruppieren 170"/>
            <p:cNvGrpSpPr/>
            <p:nvPr/>
          </p:nvGrpSpPr>
          <p:grpSpPr>
            <a:xfrm>
              <a:off x="5357520" y="3786120"/>
              <a:ext cx="2500200" cy="1571760"/>
              <a:chOff x="5357520" y="3786120"/>
              <a:chExt cx="2500200" cy="1571760"/>
            </a:xfrm>
          </p:grpSpPr>
          <p:sp>
            <p:nvSpPr>
              <p:cNvPr id="688" name="Rechteck 584"/>
              <p:cNvSpPr/>
              <p:nvPr/>
            </p:nvSpPr>
            <p:spPr>
              <a:xfrm>
                <a:off x="6357600" y="378612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9" name="Ellipse 585"/>
              <p:cNvSpPr/>
              <p:nvPr/>
            </p:nvSpPr>
            <p:spPr>
              <a:xfrm>
                <a:off x="678636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0" name="Ellipse 586"/>
              <p:cNvSpPr/>
              <p:nvPr/>
            </p:nvSpPr>
            <p:spPr>
              <a:xfrm>
                <a:off x="714348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1" name="Ellipse 587"/>
              <p:cNvSpPr/>
              <p:nvPr/>
            </p:nvSpPr>
            <p:spPr>
              <a:xfrm>
                <a:off x="750060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2" name="Rechteck 588"/>
              <p:cNvSpPr/>
              <p:nvPr/>
            </p:nvSpPr>
            <p:spPr>
              <a:xfrm>
                <a:off x="7143480" y="50007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3" name="Gerade Verbindung 589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4" name="Gerade Verbindung 590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5" name="Ellipse 591"/>
              <p:cNvSpPr/>
              <p:nvPr/>
            </p:nvSpPr>
            <p:spPr>
              <a:xfrm>
                <a:off x="535752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6" name="Ellipse 592"/>
              <p:cNvSpPr/>
              <p:nvPr/>
            </p:nvSpPr>
            <p:spPr>
              <a:xfrm>
                <a:off x="571464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7" name="Ellipse 593"/>
              <p:cNvSpPr/>
              <p:nvPr/>
            </p:nvSpPr>
            <p:spPr>
              <a:xfrm>
                <a:off x="607176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8" name="Rechteck 594"/>
              <p:cNvSpPr/>
              <p:nvPr/>
            </p:nvSpPr>
            <p:spPr>
              <a:xfrm>
                <a:off x="5714640" y="50007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9" name="Gerade Verbindung 595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0" name="Gerade Verbindung 596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1" name="Ellipse 597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2" name="Gerade Verbindung 598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3" name="Gerade Verbindung 599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704" name="Gruppieren 600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705" name="Rechteck 601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06" name="Gruppieren 188"/>
            <p:cNvGrpSpPr/>
            <p:nvPr/>
          </p:nvGrpSpPr>
          <p:grpSpPr>
            <a:xfrm>
              <a:off x="6072120" y="3786120"/>
              <a:ext cx="1857240" cy="1643040"/>
              <a:chOff x="6072120" y="3786120"/>
              <a:chExt cx="1857240" cy="1643040"/>
            </a:xfrm>
          </p:grpSpPr>
          <p:sp>
            <p:nvSpPr>
              <p:cNvPr id="707" name="Rechteck 603"/>
              <p:cNvSpPr/>
              <p:nvPr/>
            </p:nvSpPr>
            <p:spPr>
              <a:xfrm>
                <a:off x="6357600" y="378612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8" name="Ellipse 604"/>
              <p:cNvSpPr/>
              <p:nvPr/>
            </p:nvSpPr>
            <p:spPr>
              <a:xfrm>
                <a:off x="607212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9" name="Ellipse 605"/>
              <p:cNvSpPr/>
              <p:nvPr/>
            </p:nvSpPr>
            <p:spPr>
              <a:xfrm>
                <a:off x="642924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0" name="Ellipse 606"/>
              <p:cNvSpPr/>
              <p:nvPr/>
            </p:nvSpPr>
            <p:spPr>
              <a:xfrm>
                <a:off x="678636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1" name="Rechteck 607"/>
              <p:cNvSpPr/>
              <p:nvPr/>
            </p:nvSpPr>
            <p:spPr>
              <a:xfrm>
                <a:off x="6429240" y="442908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2" name="Gerade Verbindung 608"/>
              <p:cNvSpPr/>
              <p:nvPr/>
            </p:nvSpPr>
            <p:spPr>
              <a:xfrm flipH="1">
                <a:off x="6250680" y="421452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3" name="Gerade Verbindung 609"/>
              <p:cNvSpPr/>
              <p:nvPr/>
            </p:nvSpPr>
            <p:spPr>
              <a:xfrm>
                <a:off x="6607800" y="421452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4" name="Legende mit Linie 1 610"/>
              <p:cNvSpPr/>
              <p:nvPr/>
            </p:nvSpPr>
            <p:spPr>
              <a:xfrm>
                <a:off x="6929280" y="507204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Next Generatio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715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8522D-4DDC-4D66-BD80-73F9AA305E39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4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8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1000"/>
                            </p:stCondLst>
                            <p:childTnLst>
                              <p:par>
                                <p:cTn id="35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indefinite"/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1000"/>
                            </p:stCondLst>
                            <p:childTnLst>
                              <p:par>
                                <p:cTn id="35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4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8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500"/>
                            </p:stCondLst>
                            <p:childTnLst>
                              <p:par>
                                <p:cTn id="36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indefinite"/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500"/>
                            </p:stCondLst>
                            <p:childTnLst>
                              <p:par>
                                <p:cTn id="36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4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2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indefinite"/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500"/>
                            </p:stCondLst>
                            <p:childTnLst>
                              <p:par>
                                <p:cTn id="377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8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1000"/>
                            </p:stCondLst>
                            <p:childTnLst>
                              <p:par>
                                <p:cTn id="3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6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500"/>
                            </p:stCondLst>
                            <p:childTnLst>
                              <p:par>
                                <p:cTn id="388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indefinite"/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500"/>
                            </p:stCondLst>
                            <p:childTnLst>
                              <p:par>
                                <p:cTn id="39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2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1000"/>
                            </p:stCondLst>
                            <p:childTnLst>
                              <p:par>
                                <p:cTn id="3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5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500"/>
                            </p:stCondLst>
                            <p:childTnLst>
                              <p:par>
                                <p:cTn id="40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indefinite"/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500"/>
                            </p:stCondLst>
                            <p:childTnLst>
                              <p:par>
                                <p:cTn id="410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1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9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500"/>
                            </p:stCondLst>
                            <p:childTnLst>
                              <p:par>
                                <p:cTn id="421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indefinite"/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500"/>
                            </p:stCondLst>
                            <p:childTnLst>
                              <p:par>
                                <p:cTn id="424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5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1000"/>
                            </p:stCondLst>
                            <p:childTnLst>
                              <p:par>
                                <p:cTn id="4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3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500"/>
                            </p:stCondLst>
                            <p:childTnLst>
                              <p:par>
                                <p:cTn id="435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indefinite"/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500"/>
                            </p:stCondLst>
                            <p:childTnLst>
                              <p:par>
                                <p:cTn id="438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9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2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500"/>
                            </p:stCondLst>
                            <p:childTnLst>
                              <p:par>
                                <p:cTn id="454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indefinite"/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500"/>
                            </p:stCondLst>
                            <p:childTnLst>
                              <p:par>
                                <p:cTn id="457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8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1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500"/>
                            </p:stCondLst>
                            <p:childTnLst>
                              <p:par>
                                <p:cTn id="47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indefinite"/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500"/>
                            </p:stCondLst>
                            <p:childTnLst>
                              <p:par>
                                <p:cTn id="47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7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1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500"/>
                            </p:stCondLst>
                            <p:childTnLst>
                              <p:par>
                                <p:cTn id="48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indefinite"/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ulariz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 graphs grow quite quickly and become hard to hand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dularization of operator graphs is necessa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e special operator that wraps a whole operator grap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lgorithms contain problem-specific par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for example: TSPInjector, RandomPermutationGenerator, DistanceMatrixPathTSPEvaluator, …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w to build a generic SGA template that can be parameterized with all necessary problem-specific operators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mbinedOperat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an operator grap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may inject its sub-operators into its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xecutes the whole operator graph on its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OperatorExtract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laceholder opera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xtracts and executes an operator with a predefined name from the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variable lookup goes up in the scope tree until a matching operator is found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7D7AB-B759-496C-AC95-9D12EDF766F7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TSP SGA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20" name="Gruppieren 89"/>
          <p:cNvGrpSpPr/>
          <p:nvPr/>
        </p:nvGrpSpPr>
        <p:grpSpPr>
          <a:xfrm>
            <a:off x="714240" y="2643120"/>
            <a:ext cx="7715520" cy="3786120"/>
            <a:chOff x="714240" y="2643120"/>
            <a:chExt cx="7715520" cy="3786120"/>
          </a:xfrm>
        </p:grpSpPr>
        <p:sp>
          <p:nvSpPr>
            <p:cNvPr id="721" name="Flussdiagramm: Prozess 87"/>
            <p:cNvSpPr/>
            <p:nvPr/>
          </p:nvSpPr>
          <p:spPr>
            <a:xfrm>
              <a:off x="714240" y="2643120"/>
              <a:ext cx="7715520" cy="3786120"/>
            </a:xfrm>
            <a:prstGeom prst="flowChartProcess">
              <a:avLst/>
            </a:prstGeom>
            <a:solidFill>
              <a:srgbClr val="95b3d7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200" spc="-1" strike="noStrike">
                  <a:solidFill>
                    <a:srgbClr val="ffffff"/>
                  </a:solidFill>
                  <a:latin typeface="Calibri"/>
                </a:rPr>
                <a:t>CombinedOpera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22" name="Gruppieren 82"/>
            <p:cNvGrpSpPr/>
            <p:nvPr/>
          </p:nvGrpSpPr>
          <p:grpSpPr>
            <a:xfrm>
              <a:off x="804600" y="2930400"/>
              <a:ext cx="7501320" cy="3357720"/>
              <a:chOff x="804600" y="2930400"/>
              <a:chExt cx="7501320" cy="3357720"/>
            </a:xfrm>
          </p:grpSpPr>
          <p:sp>
            <p:nvSpPr>
              <p:cNvPr id="723" name="Flussdiagramm: Prozess 5"/>
              <p:cNvSpPr/>
              <p:nvPr/>
            </p:nvSpPr>
            <p:spPr>
              <a:xfrm>
                <a:off x="804600" y="293040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equentialProcess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cxnSp>
            <p:nvCxnSpPr>
              <p:cNvPr id="724" name="Gewinkelte Verbindung 6"/>
              <p:cNvCxnSpPr>
                <a:stCxn id="723" idx="3"/>
              </p:cNvCxnSpPr>
              <p:nvPr/>
            </p:nvCxnSpPr>
            <p:spPr>
              <a:xfrm>
                <a:off x="2518560" y="3108960"/>
                <a:ext cx="214920" cy="216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25" name="Gewinkelte Verbindung 7"/>
              <p:cNvCxnSpPr>
                <a:stCxn id="723" idx="3"/>
              </p:cNvCxnSpPr>
              <p:nvPr/>
            </p:nvCxnSpPr>
            <p:spPr>
              <a:xfrm>
                <a:off x="2518560" y="3108960"/>
                <a:ext cx="214920" cy="42912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sp>
            <p:nvSpPr>
              <p:cNvPr id="726" name="Flussdiagramm: Prozess 16"/>
              <p:cNvSpPr/>
              <p:nvPr/>
            </p:nvSpPr>
            <p:spPr>
              <a:xfrm>
                <a:off x="2733480" y="293040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RandomInject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7" name="Flussdiagramm: Prozess 17"/>
              <p:cNvSpPr/>
              <p:nvPr/>
            </p:nvSpPr>
            <p:spPr>
              <a:xfrm>
                <a:off x="2733480" y="3358800"/>
                <a:ext cx="1714320" cy="357120"/>
              </a:xfrm>
              <a:prstGeom prst="flowChartProcess">
                <a:avLst/>
              </a:prstGeom>
              <a:solidFill>
                <a:srgbClr val="d99694"/>
              </a:solidFill>
              <a:ln w="2556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de-AT" sz="1200" spc="-1" strike="noStrike">
                    <a:solidFill>
                      <a:srgbClr val="ffffff"/>
                    </a:solidFill>
                    <a:latin typeface="Calibri"/>
                  </a:rPr>
                  <a:t>ProblemInitialize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8" name="Flussdiagramm: Prozess 19"/>
              <p:cNvSpPr/>
              <p:nvPr/>
            </p:nvSpPr>
            <p:spPr>
              <a:xfrm>
                <a:off x="2733480" y="378756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VariableInject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9" name="Flussdiagramm: Prozess 20"/>
              <p:cNvSpPr/>
              <p:nvPr/>
            </p:nvSpPr>
            <p:spPr>
              <a:xfrm>
                <a:off x="2733480" y="421632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ubScopesCreate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0" name="Flussdiagramm: Prozess 21"/>
              <p:cNvSpPr/>
              <p:nvPr/>
            </p:nvSpPr>
            <p:spPr>
              <a:xfrm>
                <a:off x="2733480" y="464508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UniformSequential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ubScopesProcess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1" name="Flussdiagramm: Prozess 22"/>
              <p:cNvSpPr/>
              <p:nvPr/>
            </p:nvSpPr>
            <p:spPr>
              <a:xfrm>
                <a:off x="4662360" y="464508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equentialProcess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2" name="Flussdiagramm: Prozess 23"/>
              <p:cNvSpPr/>
              <p:nvPr/>
            </p:nvSpPr>
            <p:spPr>
              <a:xfrm>
                <a:off x="6591600" y="4645080"/>
                <a:ext cx="1714320" cy="357120"/>
              </a:xfrm>
              <a:prstGeom prst="flowChartProcess">
                <a:avLst/>
              </a:prstGeom>
              <a:solidFill>
                <a:srgbClr val="d99694"/>
              </a:solidFill>
              <a:ln w="2556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de-AT" sz="1200" spc="-1" strike="noStrike">
                    <a:solidFill>
                      <a:srgbClr val="ffffff"/>
                    </a:solidFill>
                    <a:latin typeface="Calibri"/>
                  </a:rPr>
                  <a:t>SolutionGenerat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3" name="Flussdiagramm: Prozess 24"/>
              <p:cNvSpPr/>
              <p:nvPr/>
            </p:nvSpPr>
            <p:spPr>
              <a:xfrm>
                <a:off x="6591600" y="5073840"/>
                <a:ext cx="1714320" cy="357120"/>
              </a:xfrm>
              <a:prstGeom prst="flowChartProcess">
                <a:avLst/>
              </a:prstGeom>
              <a:solidFill>
                <a:srgbClr val="d99694"/>
              </a:solidFill>
              <a:ln w="2556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de-AT" sz="1200" spc="-1" strike="noStrike">
                    <a:solidFill>
                      <a:srgbClr val="ffffff"/>
                    </a:solidFill>
                    <a:latin typeface="Calibri"/>
                  </a:rPr>
                  <a:t>Evaluat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4" name="Flussdiagramm: Prozess 25"/>
              <p:cNvSpPr/>
              <p:nvPr/>
            </p:nvSpPr>
            <p:spPr>
              <a:xfrm>
                <a:off x="6591600" y="550224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Counte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5" name="Flussdiagramm: Prozess 26"/>
              <p:cNvSpPr/>
              <p:nvPr/>
            </p:nvSpPr>
            <p:spPr>
              <a:xfrm>
                <a:off x="2733480" y="593100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orte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cxnSp>
            <p:nvCxnSpPr>
              <p:cNvPr id="736" name="Gewinkelte Verbindung 44"/>
              <p:cNvCxnSpPr>
                <a:stCxn id="723" idx="3"/>
                <a:endCxn id="728" idx="1"/>
              </p:cNvCxnSpPr>
              <p:nvPr/>
            </p:nvCxnSpPr>
            <p:spPr>
              <a:xfrm>
                <a:off x="2518560" y="3108600"/>
                <a:ext cx="214920" cy="85788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37" name="Gewinkelte Verbindung 46"/>
              <p:cNvCxnSpPr>
                <a:stCxn id="723" idx="3"/>
                <a:endCxn id="729" idx="1"/>
              </p:cNvCxnSpPr>
              <p:nvPr/>
            </p:nvCxnSpPr>
            <p:spPr>
              <a:xfrm>
                <a:off x="2518560" y="3108960"/>
                <a:ext cx="214920" cy="128664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38" name="Gewinkelte Verbindung 48"/>
              <p:cNvCxnSpPr>
                <a:stCxn id="723" idx="3"/>
                <a:endCxn id="730" idx="1"/>
              </p:cNvCxnSpPr>
              <p:nvPr/>
            </p:nvCxnSpPr>
            <p:spPr>
              <a:xfrm>
                <a:off x="2518560" y="3108600"/>
                <a:ext cx="214920" cy="171540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39" name="Gewinkelte Verbindung 50"/>
              <p:cNvCxnSpPr>
                <a:stCxn id="723" idx="3"/>
                <a:endCxn id="735" idx="1"/>
              </p:cNvCxnSpPr>
              <p:nvPr/>
            </p:nvCxnSpPr>
            <p:spPr>
              <a:xfrm>
                <a:off x="2518560" y="3108600"/>
                <a:ext cx="214920" cy="300132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40" name="Gewinkelte Verbindung 56"/>
              <p:cNvCxnSpPr>
                <a:stCxn id="730" idx="3"/>
                <a:endCxn id="731" idx="1"/>
              </p:cNvCxnSpPr>
              <p:nvPr/>
            </p:nvCxnSpPr>
            <p:spPr>
              <a:xfrm>
                <a:off x="4447800" y="4823640"/>
                <a:ext cx="214920" cy="216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41" name="Gewinkelte Verbindung 59"/>
              <p:cNvCxnSpPr>
                <a:stCxn id="731" idx="3"/>
                <a:endCxn id="732" idx="1"/>
              </p:cNvCxnSpPr>
              <p:nvPr/>
            </p:nvCxnSpPr>
            <p:spPr>
              <a:xfrm>
                <a:off x="6376680" y="4823640"/>
                <a:ext cx="214920" cy="216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42" name="Gewinkelte Verbindung 62"/>
              <p:cNvCxnSpPr>
                <a:stCxn id="731" idx="3"/>
                <a:endCxn id="733" idx="1"/>
              </p:cNvCxnSpPr>
              <p:nvPr/>
            </p:nvCxnSpPr>
            <p:spPr>
              <a:xfrm>
                <a:off x="6376680" y="4823640"/>
                <a:ext cx="214920" cy="42912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43" name="Gewinkelte Verbindung 65"/>
              <p:cNvCxnSpPr>
                <a:stCxn id="731" idx="3"/>
                <a:endCxn id="734" idx="1"/>
              </p:cNvCxnSpPr>
              <p:nvPr/>
            </p:nvCxnSpPr>
            <p:spPr>
              <a:xfrm>
                <a:off x="6376680" y="4823280"/>
                <a:ext cx="214920" cy="85788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</p:grpSp>
      </p:grpSp>
      <p:grpSp>
        <p:nvGrpSpPr>
          <p:cNvPr id="744" name="Gruppieren 88"/>
          <p:cNvGrpSpPr/>
          <p:nvPr/>
        </p:nvGrpSpPr>
        <p:grpSpPr>
          <a:xfrm>
            <a:off x="714240" y="1214280"/>
            <a:ext cx="3643560" cy="1214640"/>
            <a:chOff x="714240" y="1214280"/>
            <a:chExt cx="3643560" cy="1214640"/>
          </a:xfrm>
        </p:grpSpPr>
        <p:sp>
          <p:nvSpPr>
            <p:cNvPr id="745" name="Flussdiagramm: Prozess 40"/>
            <p:cNvSpPr/>
            <p:nvPr/>
          </p:nvSpPr>
          <p:spPr>
            <a:xfrm>
              <a:off x="714240" y="1214280"/>
              <a:ext cx="1714680" cy="357120"/>
            </a:xfrm>
            <a:prstGeom prst="flowChartProcess">
              <a:avLst/>
            </a:prstGeom>
            <a:solidFill>
              <a:srgbClr val="95b3d7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200" spc="-1" strike="noStrike">
                  <a:solidFill>
                    <a:srgbClr val="ffffff"/>
                  </a:solidFill>
                  <a:latin typeface="Calibri"/>
                </a:rPr>
                <a:t>CombinedOpera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6" name="Flussdiagramm: Prozess 41"/>
            <p:cNvSpPr/>
            <p:nvPr/>
          </p:nvSpPr>
          <p:spPr>
            <a:xfrm>
              <a:off x="2643120" y="1214280"/>
              <a:ext cx="171468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TSPInjec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7" name="Flussdiagramm: Prozess 42"/>
            <p:cNvSpPr/>
            <p:nvPr/>
          </p:nvSpPr>
          <p:spPr>
            <a:xfrm>
              <a:off x="2643120" y="1643040"/>
              <a:ext cx="171468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Random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Genera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8" name="Flussdiagramm: Prozess 43"/>
            <p:cNvSpPr/>
            <p:nvPr/>
          </p:nvSpPr>
          <p:spPr>
            <a:xfrm>
              <a:off x="2643120" y="2071800"/>
              <a:ext cx="171468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DistanceMatrixPathTSP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Evalua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49" name="Gewinkelte Verbindung 68"/>
            <p:cNvCxnSpPr>
              <a:stCxn id="745" idx="3"/>
              <a:endCxn id="748" idx="1"/>
            </p:cNvCxnSpPr>
            <p:nvPr/>
          </p:nvCxnSpPr>
          <p:spPr>
            <a:xfrm>
              <a:off x="2428560" y="1392840"/>
              <a:ext cx="214920" cy="8582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50" name="Gewinkelte Verbindung 71"/>
            <p:cNvCxnSpPr>
              <a:stCxn id="745" idx="3"/>
              <a:endCxn id="747" idx="1"/>
            </p:cNvCxnSpPr>
            <p:nvPr/>
          </p:nvCxnSpPr>
          <p:spPr>
            <a:xfrm>
              <a:off x="2428560" y="1392480"/>
              <a:ext cx="214920" cy="42948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51" name="Gewinkelte Verbindung 74"/>
            <p:cNvCxnSpPr>
              <a:stCxn id="745" idx="3"/>
              <a:endCxn id="746" idx="1"/>
            </p:cNvCxnSpPr>
            <p:nvPr/>
          </p:nvCxnSpPr>
          <p:spPr>
            <a:xfrm>
              <a:off x="2428560" y="139284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</p:grpSp>
      <p:sp>
        <p:nvSpPr>
          <p:cNvPr id="75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369E5-AC53-41E6-8526-EC1B4BEEF8D5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Nach links gekrümmter Pfeil 91"/>
          <p:cNvSpPr/>
          <p:nvPr/>
        </p:nvSpPr>
        <p:spPr>
          <a:xfrm>
            <a:off x="4572000" y="1357200"/>
            <a:ext cx="500040" cy="2286000"/>
          </a:xfrm>
          <a:custGeom>
            <a:avLst/>
            <a:gdLst>
              <a:gd name="textAreaLeft" fmla="*/ 66960 w 500040"/>
              <a:gd name="textAreaRight" fmla="*/ 433080 w 500040"/>
              <a:gd name="textAreaTop" fmla="*/ 524520 h 2286000"/>
              <a:gd name="textAreaBottom" fmla="*/ 169884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914" stAng="-5400000" swAng="5400000"/>
                <a:lnTo>
                  <a:pt x="21600" y="11095"/>
                </a:lnTo>
                <a:arcTo wR="21600" hR="9914" stAng="0" swAng="3638411"/>
                <a:lnTo>
                  <a:pt x="5400" y="21285"/>
                </a:lnTo>
                <a:lnTo>
                  <a:pt x="0" y="20419"/>
                </a:lnTo>
                <a:lnTo>
                  <a:pt x="5400" y="18922"/>
                </a:lnTo>
                <a:lnTo>
                  <a:pt x="5400" y="19513"/>
                </a:lnTo>
                <a:arcTo wR="21600" hR="9914" stAng="3638411" swAng="-3544286"/>
                <a:lnTo>
                  <a:pt x="21562" y="10505"/>
                </a:lnTo>
                <a:arcTo wR="21600" hR="9914" stAng="-94125" swAng="-5305875"/>
                <a:close/>
              </a:path>
              <a:path fill="darkenLess" w="21600" h="21600">
                <a:moveTo>
                  <a:pt x="0" y="0"/>
                </a:moveTo>
                <a:arcTo wR="21600" hR="9914" stAng="-5400000" swAng="5400000"/>
                <a:lnTo>
                  <a:pt x="21600" y="11095"/>
                </a:lnTo>
                <a:arcTo wR="21600" hR="9914" stAng="0" swAng="-94125"/>
                <a:lnTo>
                  <a:pt x="21562" y="10505"/>
                </a:lnTo>
                <a:arcTo wR="21600" hR="9914" stAng="-94125" swAng="-5305875"/>
                <a:close/>
              </a:path>
            </a:pathLst>
          </a:custGeom>
          <a:solidFill>
            <a:srgbClr val="c3d69b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feil nach rechts 93"/>
          <p:cNvSpPr/>
          <p:nvPr/>
        </p:nvSpPr>
        <p:spPr>
          <a:xfrm rot="3022800">
            <a:off x="3820320" y="3667680"/>
            <a:ext cx="3889440" cy="249120"/>
          </a:xfrm>
          <a:prstGeom prst="rightArrow">
            <a:avLst>
              <a:gd name="adj1" fmla="val 50000"/>
              <a:gd name="adj2" fmla="val 49874"/>
            </a:avLst>
          </a:prstGeom>
          <a:solidFill>
            <a:srgbClr val="c3d69b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feil nach rechts 94"/>
          <p:cNvSpPr/>
          <p:nvPr/>
        </p:nvSpPr>
        <p:spPr>
          <a:xfrm rot="3022800">
            <a:off x="3820320" y="3167640"/>
            <a:ext cx="3889440" cy="249120"/>
          </a:xfrm>
          <a:prstGeom prst="rightArrow">
            <a:avLst>
              <a:gd name="adj1" fmla="val 50000"/>
              <a:gd name="adj2" fmla="val 49874"/>
            </a:avLst>
          </a:prstGeom>
          <a:solidFill>
            <a:srgbClr val="c3d69b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Pfeil nach unten 95"/>
          <p:cNvSpPr/>
          <p:nvPr/>
        </p:nvSpPr>
        <p:spPr>
          <a:xfrm>
            <a:off x="1428840" y="1785960"/>
            <a:ext cx="357120" cy="642960"/>
          </a:xfrm>
          <a:prstGeom prst="downArrow">
            <a:avLst>
              <a:gd name="adj1" fmla="val 50000"/>
              <a:gd name="adj2" fmla="val 5001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500"/>
                            </p:stCondLst>
                            <p:childTnLst>
                              <p:par>
                                <p:cTn id="4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500"/>
                            </p:stCondLst>
                            <p:childTnLst>
                              <p:par>
                                <p:cTn id="5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1000"/>
                            </p:stCondLst>
                            <p:childTnLst>
                              <p:par>
                                <p:cTn id="5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Demonst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ing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hat is an algorithm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3 main aspec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truc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quence of exec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ul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e have to mod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perators modifying da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raphs of operators representing the sequence of exec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hteck 3"/>
          <p:cNvSpPr/>
          <p:nvPr/>
        </p:nvSpPr>
        <p:spPr>
          <a:xfrm>
            <a:off x="392040" y="2071800"/>
            <a:ext cx="835992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"A finite set of unambiguous instructions performed in a prescribed sequence to achieve a goal, especially a mathematical rule or procedure used to compute a desired result. Algorithms are the basis for most computer programming."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© The American Heritage Dictionary of the English Languag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07776-CBA8-464C-A1E2-E69CDAD2FC35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eling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000000"/>
                </a:solidFill>
                <a:latin typeface="Calibri"/>
              </a:rPr>
              <a:t>scop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000000"/>
                </a:solidFill>
                <a:latin typeface="Calibri"/>
              </a:rPr>
              <a:t>form an n-ary tree structu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000000"/>
                </a:solidFill>
                <a:latin typeface="Calibri"/>
              </a:rPr>
              <a:t>contain variabl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000000"/>
                </a:solidFill>
                <a:latin typeface="Calibri"/>
              </a:rPr>
              <a:t>operato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rm a graph structur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epresent basic instructions of algorithm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anipulate scopes (modify variables and/or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ub-scope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ecide which operators are executed nex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49E1E-56E3-42CE-B6CD-E197080FD57A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eling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asic operato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EmptyOpera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oes nothing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equentialProcessor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ParallelProcess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executes its sub-operators on its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equentialSubScopesProcessor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ParallelSubScopesProcess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executes all its sub-operators on the corresponding sub-scope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UniformSequentialSubScopesProcessor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UniformParallelSubScopesProcess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executes its first sub-operator on all sub-scope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ConditionalBranc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pending on a boolean value executes its first or second sub-operator on its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tochasticBranc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with a predefined probability executes its first or second sub-operator on its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ariableInjec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njects its local variables into the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or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orts  its sub-scopes depending on a sorting criterion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AE778-1E06-4A9F-A358-7BEDE9FA6A64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eling Evolutionary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abstract E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basic operatio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initialization, evaluation, selection, crossover, mutation, replac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" name="Gruppieren 82"/>
          <p:cNvGrpSpPr/>
          <p:nvPr/>
        </p:nvGrpSpPr>
        <p:grpSpPr>
          <a:xfrm>
            <a:off x="2842920" y="1857240"/>
            <a:ext cx="4408560" cy="3357720"/>
            <a:chOff x="2842920" y="1857240"/>
            <a:chExt cx="4408560" cy="3357720"/>
          </a:xfrm>
        </p:grpSpPr>
        <p:sp>
          <p:nvSpPr>
            <p:cNvPr id="56" name="Flussdiagramm: Prozess 4"/>
            <p:cNvSpPr/>
            <p:nvPr/>
          </p:nvSpPr>
          <p:spPr>
            <a:xfrm>
              <a:off x="3429000" y="214272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Initializ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" name="Flussdiagramm: Verzweigung 5"/>
            <p:cNvSpPr/>
            <p:nvPr/>
          </p:nvSpPr>
          <p:spPr>
            <a:xfrm>
              <a:off x="3071880" y="3286080"/>
              <a:ext cx="1785960" cy="357120"/>
            </a:xfrm>
            <a:prstGeom prst="flowChartDecision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Terminate?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" name="Flussdiagramm: Prozess 6"/>
            <p:cNvSpPr/>
            <p:nvPr/>
          </p:nvSpPr>
          <p:spPr>
            <a:xfrm>
              <a:off x="3429000" y="385776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Selec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Flussdiagramm: Prozess 7"/>
            <p:cNvSpPr/>
            <p:nvPr/>
          </p:nvSpPr>
          <p:spPr>
            <a:xfrm>
              <a:off x="4714920" y="385776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Crossove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" name="Flussdiagramm: Prozess 8"/>
            <p:cNvSpPr/>
            <p:nvPr/>
          </p:nvSpPr>
          <p:spPr>
            <a:xfrm>
              <a:off x="6000840" y="414324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lussdiagramm: Prozess 9"/>
            <p:cNvSpPr/>
            <p:nvPr/>
          </p:nvSpPr>
          <p:spPr>
            <a:xfrm>
              <a:off x="3429000" y="271440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Evalu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lussdiagramm: Prozess 10"/>
            <p:cNvSpPr/>
            <p:nvPr/>
          </p:nvSpPr>
          <p:spPr>
            <a:xfrm>
              <a:off x="3429000" y="442908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Replacement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lussdiagramm: Prozess 11"/>
            <p:cNvSpPr/>
            <p:nvPr/>
          </p:nvSpPr>
          <p:spPr>
            <a:xfrm>
              <a:off x="4714920" y="442908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Evalu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lussdiagramm: Zusammenführen 12"/>
            <p:cNvSpPr/>
            <p:nvPr/>
          </p:nvSpPr>
          <p:spPr>
            <a:xfrm>
              <a:off x="3857400" y="1857240"/>
              <a:ext cx="214200" cy="142560"/>
            </a:xfrm>
            <a:prstGeom prst="flowChartMerg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lussdiagramm: Zusammenführen 13"/>
            <p:cNvSpPr/>
            <p:nvPr/>
          </p:nvSpPr>
          <p:spPr>
            <a:xfrm>
              <a:off x="3857400" y="5072400"/>
              <a:ext cx="214200" cy="142560"/>
            </a:xfrm>
            <a:prstGeom prst="flowChartMerg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66" name="Gewinkelte Verbindung 15"/>
            <p:cNvCxnSpPr>
              <a:stCxn id="64" idx="2"/>
              <a:endCxn id="56" idx="0"/>
            </p:cNvCxnSpPr>
            <p:nvPr/>
          </p:nvCxnSpPr>
          <p:spPr>
            <a:xfrm rot="5400000">
              <a:off x="3892680" y="2071440"/>
              <a:ext cx="143280" cy="2160"/>
            </a:xfrm>
            <a:prstGeom prst="bentConnector3">
              <a:avLst>
                <a:gd name="adj1" fmla="val 49874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67" name="Gewinkelte Verbindung 18"/>
            <p:cNvCxnSpPr>
              <a:stCxn id="56" idx="2"/>
              <a:endCxn id="61" idx="0"/>
            </p:cNvCxnSpPr>
            <p:nvPr/>
          </p:nvCxnSpPr>
          <p:spPr>
            <a:xfrm rot="5400000">
              <a:off x="3857040" y="260712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68" name="Gewinkelte Verbindung 21"/>
            <p:cNvCxnSpPr>
              <a:stCxn id="61" idx="2"/>
              <a:endCxn id="57" idx="0"/>
            </p:cNvCxnSpPr>
            <p:nvPr/>
          </p:nvCxnSpPr>
          <p:spPr>
            <a:xfrm rot="5400000">
              <a:off x="3857040" y="317880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69" name="Gewinkelte Verbindung 24"/>
            <p:cNvCxnSpPr>
              <a:stCxn id="57" idx="3"/>
              <a:endCxn id="65" idx="0"/>
            </p:cNvCxnSpPr>
            <p:nvPr/>
          </p:nvCxnSpPr>
          <p:spPr>
            <a:xfrm flipH="1">
              <a:off x="3964320" y="3464280"/>
              <a:ext cx="893520" cy="1608120"/>
            </a:xfrm>
            <a:prstGeom prst="bentConnector4">
              <a:avLst>
                <a:gd name="adj1" fmla="val -268037"/>
                <a:gd name="adj2" fmla="val 91513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0" name="Gewinkelte Verbindung 28"/>
            <p:cNvCxnSpPr>
              <a:stCxn id="57" idx="2"/>
              <a:endCxn id="58" idx="0"/>
            </p:cNvCxnSpPr>
            <p:nvPr/>
          </p:nvCxnSpPr>
          <p:spPr>
            <a:xfrm rot="5400000">
              <a:off x="3857040" y="375012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1" name="Gewinkelte Verbindung 31"/>
            <p:cNvCxnSpPr>
              <a:stCxn id="58" idx="3"/>
              <a:endCxn id="59" idx="1"/>
            </p:cNvCxnSpPr>
            <p:nvPr/>
          </p:nvCxnSpPr>
          <p:spPr>
            <a:xfrm>
              <a:off x="4500000" y="403632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2" name="Gewinkelte Verbindung 35"/>
            <p:cNvCxnSpPr>
              <a:stCxn id="59" idx="3"/>
              <a:endCxn id="60" idx="0"/>
            </p:cNvCxnSpPr>
            <p:nvPr/>
          </p:nvCxnSpPr>
          <p:spPr>
            <a:xfrm>
              <a:off x="5785920" y="4035960"/>
              <a:ext cx="750600" cy="107640"/>
            </a:xfrm>
            <a:prstGeom prst="bentConnector2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3" name="Gewinkelte Verbindung 35"/>
            <p:cNvCxnSpPr>
              <a:stCxn id="60" idx="2"/>
              <a:endCxn id="63" idx="3"/>
            </p:cNvCxnSpPr>
            <p:nvPr/>
          </p:nvCxnSpPr>
          <p:spPr>
            <a:xfrm rot="5400000">
              <a:off x="6107040" y="4178880"/>
              <a:ext cx="107640" cy="750600"/>
            </a:xfrm>
            <a:prstGeom prst="bentConnector2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4" name="Gewinkelte Verbindung 35"/>
            <p:cNvCxnSpPr>
              <a:stCxn id="63" idx="1"/>
              <a:endCxn id="62" idx="3"/>
            </p:cNvCxnSpPr>
            <p:nvPr/>
          </p:nvCxnSpPr>
          <p:spPr>
            <a:xfrm rot="10800000">
              <a:off x="4499640" y="460728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5" name="Gewinkelte Verbindung 35"/>
            <p:cNvCxnSpPr>
              <a:stCxn id="62" idx="1"/>
              <a:endCxn id="57" idx="1"/>
            </p:cNvCxnSpPr>
            <p:nvPr/>
          </p:nvCxnSpPr>
          <p:spPr>
            <a:xfrm rot="10800000">
              <a:off x="3071160" y="3463920"/>
              <a:ext cx="357840" cy="1143720"/>
            </a:xfrm>
            <a:prstGeom prst="bentConnector3">
              <a:avLst>
                <a:gd name="adj1" fmla="val 163947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</p:grpSp>
      <p:sp>
        <p:nvSpPr>
          <p:cNvPr id="76" name="Foliennummernplatzhalter 2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C4B78-9D70-4621-8684-423B1DB48968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eling Evolutionary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scopes form a hierarchical structur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very suitable for representing hierarchical structure of EA popul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a scope may represent a population, a solution, a part of a solution, 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operators work on different leve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to switch levels u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700" spc="-1" strike="noStrike">
                <a:solidFill>
                  <a:srgbClr val="000000"/>
                </a:solidFill>
                <a:latin typeface="Calibri"/>
              </a:rPr>
              <a:t>(Uniform)SequentialSubScopesProcessor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700" spc="-1" strike="noStrike">
                <a:solidFill>
                  <a:srgbClr val="000000"/>
                </a:solidFill>
                <a:latin typeface="Calibri"/>
              </a:rPr>
              <a:t>(Uniform)ParallelSubScopesProcessor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9" name="Gruppieren 53"/>
          <p:cNvGrpSpPr/>
          <p:nvPr/>
        </p:nvGrpSpPr>
        <p:grpSpPr>
          <a:xfrm>
            <a:off x="500040" y="4071960"/>
            <a:ext cx="8143920" cy="2214720"/>
            <a:chOff x="500040" y="4071960"/>
            <a:chExt cx="8143920" cy="2214720"/>
          </a:xfrm>
        </p:grpSpPr>
        <p:sp>
          <p:nvSpPr>
            <p:cNvPr id="80" name="Rechteck 88"/>
            <p:cNvSpPr/>
            <p:nvPr/>
          </p:nvSpPr>
          <p:spPr>
            <a:xfrm>
              <a:off x="500040" y="5214960"/>
              <a:ext cx="550080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Rechteck 89"/>
            <p:cNvSpPr/>
            <p:nvPr/>
          </p:nvSpPr>
          <p:spPr>
            <a:xfrm>
              <a:off x="500040" y="4643280"/>
              <a:ext cx="550080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Rechteck 90"/>
            <p:cNvSpPr/>
            <p:nvPr/>
          </p:nvSpPr>
          <p:spPr>
            <a:xfrm>
              <a:off x="500040" y="4071960"/>
              <a:ext cx="550080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Rechteck 87"/>
            <p:cNvSpPr/>
            <p:nvPr/>
          </p:nvSpPr>
          <p:spPr>
            <a:xfrm>
              <a:off x="500040" y="5786640"/>
              <a:ext cx="550080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Ellipse 3"/>
            <p:cNvSpPr/>
            <p:nvPr/>
          </p:nvSpPr>
          <p:spPr>
            <a:xfrm>
              <a:off x="5214960" y="528660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" name="Ellipse 4"/>
            <p:cNvSpPr/>
            <p:nvPr/>
          </p:nvSpPr>
          <p:spPr>
            <a:xfrm>
              <a:off x="485784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Ellipse 5"/>
            <p:cNvSpPr/>
            <p:nvPr/>
          </p:nvSpPr>
          <p:spPr>
            <a:xfrm>
              <a:off x="557208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Ellipse 7"/>
            <p:cNvSpPr/>
            <p:nvPr/>
          </p:nvSpPr>
          <p:spPr>
            <a:xfrm>
              <a:off x="3786120" y="528660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Ellipse 8"/>
            <p:cNvSpPr/>
            <p:nvPr/>
          </p:nvSpPr>
          <p:spPr>
            <a:xfrm>
              <a:off x="342900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Ellipse 9"/>
            <p:cNvSpPr/>
            <p:nvPr/>
          </p:nvSpPr>
          <p:spPr>
            <a:xfrm>
              <a:off x="414324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Ellipse 10"/>
            <p:cNvSpPr/>
            <p:nvPr/>
          </p:nvSpPr>
          <p:spPr>
            <a:xfrm>
              <a:off x="2357280" y="528660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Ellipse 11"/>
            <p:cNvSpPr/>
            <p:nvPr/>
          </p:nvSpPr>
          <p:spPr>
            <a:xfrm>
              <a:off x="200016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Ellipse 12"/>
            <p:cNvSpPr/>
            <p:nvPr/>
          </p:nvSpPr>
          <p:spPr>
            <a:xfrm>
              <a:off x="271440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Ellipse 13"/>
            <p:cNvSpPr/>
            <p:nvPr/>
          </p:nvSpPr>
          <p:spPr>
            <a:xfrm>
              <a:off x="928440" y="528660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Ellipse 14"/>
            <p:cNvSpPr/>
            <p:nvPr/>
          </p:nvSpPr>
          <p:spPr>
            <a:xfrm>
              <a:off x="57132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Ellipse 15"/>
            <p:cNvSpPr/>
            <p:nvPr/>
          </p:nvSpPr>
          <p:spPr>
            <a:xfrm>
              <a:off x="128556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Ellipse 16"/>
            <p:cNvSpPr/>
            <p:nvPr/>
          </p:nvSpPr>
          <p:spPr>
            <a:xfrm>
              <a:off x="4500720" y="471492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Ellipse 17"/>
            <p:cNvSpPr/>
            <p:nvPr/>
          </p:nvSpPr>
          <p:spPr>
            <a:xfrm>
              <a:off x="3071880" y="414324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Ellipse 18"/>
            <p:cNvSpPr/>
            <p:nvPr/>
          </p:nvSpPr>
          <p:spPr>
            <a:xfrm>
              <a:off x="1643040" y="471492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Rechteck 20"/>
            <p:cNvSpPr/>
            <p:nvPr/>
          </p:nvSpPr>
          <p:spPr>
            <a:xfrm>
              <a:off x="5214960" y="58582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Rechteck 21"/>
            <p:cNvSpPr/>
            <p:nvPr/>
          </p:nvSpPr>
          <p:spPr>
            <a:xfrm>
              <a:off x="3786120" y="58582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Rechteck 22"/>
            <p:cNvSpPr/>
            <p:nvPr/>
          </p:nvSpPr>
          <p:spPr>
            <a:xfrm>
              <a:off x="2357280" y="58582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Rechteck 23"/>
            <p:cNvSpPr/>
            <p:nvPr/>
          </p:nvSpPr>
          <p:spPr>
            <a:xfrm>
              <a:off x="928440" y="58582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Rechteck 24"/>
            <p:cNvSpPr/>
            <p:nvPr/>
          </p:nvSpPr>
          <p:spPr>
            <a:xfrm>
              <a:off x="1643040" y="528660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Rechteck 25"/>
            <p:cNvSpPr/>
            <p:nvPr/>
          </p:nvSpPr>
          <p:spPr>
            <a:xfrm>
              <a:off x="4500720" y="528660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Rechteck 26"/>
            <p:cNvSpPr/>
            <p:nvPr/>
          </p:nvSpPr>
          <p:spPr>
            <a:xfrm>
              <a:off x="3071880" y="471492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Gerade Verbindung 28"/>
            <p:cNvSpPr/>
            <p:nvPr/>
          </p:nvSpPr>
          <p:spPr>
            <a:xfrm flipH="1">
              <a:off x="1821600" y="4500360"/>
              <a:ext cx="142848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Gerade Verbindung 29"/>
            <p:cNvSpPr/>
            <p:nvPr/>
          </p:nvSpPr>
          <p:spPr>
            <a:xfrm flipH="1" flipV="1">
              <a:off x="3250440" y="4500000"/>
              <a:ext cx="142848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Gerade Verbindung 32"/>
            <p:cNvSpPr/>
            <p:nvPr/>
          </p:nvSpPr>
          <p:spPr>
            <a:xfrm flipH="1" flipV="1">
              <a:off x="4679280" y="5071680"/>
              <a:ext cx="71424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Gerade Verbindung 35"/>
            <p:cNvSpPr/>
            <p:nvPr/>
          </p:nvSpPr>
          <p:spPr>
            <a:xfrm flipH="1" flipV="1">
              <a:off x="539352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Gerade Verbindung 38"/>
            <p:cNvSpPr/>
            <p:nvPr/>
          </p:nvSpPr>
          <p:spPr>
            <a:xfrm flipH="1" flipV="1">
              <a:off x="396468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Gerade Verbindung 41"/>
            <p:cNvSpPr/>
            <p:nvPr/>
          </p:nvSpPr>
          <p:spPr>
            <a:xfrm flipH="1" flipV="1">
              <a:off x="253584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Gerade Verbindung 44"/>
            <p:cNvSpPr/>
            <p:nvPr/>
          </p:nvSpPr>
          <p:spPr>
            <a:xfrm flipH="1" flipV="1">
              <a:off x="110700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Gerade Verbindung 47"/>
            <p:cNvSpPr/>
            <p:nvPr/>
          </p:nvSpPr>
          <p:spPr>
            <a:xfrm flipV="1">
              <a:off x="74988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Gerade Verbindung 50"/>
            <p:cNvSpPr/>
            <p:nvPr/>
          </p:nvSpPr>
          <p:spPr>
            <a:xfrm flipH="1">
              <a:off x="2178720" y="564372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Gerade Verbindung 54"/>
            <p:cNvSpPr/>
            <p:nvPr/>
          </p:nvSpPr>
          <p:spPr>
            <a:xfrm flipH="1">
              <a:off x="3607560" y="564372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Gerade Verbindung 57"/>
            <p:cNvSpPr/>
            <p:nvPr/>
          </p:nvSpPr>
          <p:spPr>
            <a:xfrm flipH="1">
              <a:off x="5036400" y="564372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Gerade Verbindung 60"/>
            <p:cNvSpPr/>
            <p:nvPr/>
          </p:nvSpPr>
          <p:spPr>
            <a:xfrm flipH="1">
              <a:off x="3964680" y="5072040"/>
              <a:ext cx="71424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Gerade Verbindung 63"/>
            <p:cNvSpPr/>
            <p:nvPr/>
          </p:nvSpPr>
          <p:spPr>
            <a:xfrm flipH="1">
              <a:off x="1107000" y="5072040"/>
              <a:ext cx="714240" cy="2142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Gerade Verbindung 67"/>
            <p:cNvSpPr/>
            <p:nvPr/>
          </p:nvSpPr>
          <p:spPr>
            <a:xfrm flipH="1" flipV="1">
              <a:off x="1821600" y="5071680"/>
              <a:ext cx="714240" cy="2142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Rechteck 92"/>
            <p:cNvSpPr/>
            <p:nvPr/>
          </p:nvSpPr>
          <p:spPr>
            <a:xfrm>
              <a:off x="6143760" y="4071960"/>
              <a:ext cx="25002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Meta-Population Lev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Rechteck 93"/>
            <p:cNvSpPr/>
            <p:nvPr/>
          </p:nvSpPr>
          <p:spPr>
            <a:xfrm>
              <a:off x="6143760" y="4643280"/>
              <a:ext cx="25002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Population Lev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Rechteck 94"/>
            <p:cNvSpPr/>
            <p:nvPr/>
          </p:nvSpPr>
          <p:spPr>
            <a:xfrm>
              <a:off x="6143760" y="5214960"/>
              <a:ext cx="25002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Solution Lev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Rechteck 95"/>
            <p:cNvSpPr/>
            <p:nvPr/>
          </p:nvSpPr>
          <p:spPr>
            <a:xfrm>
              <a:off x="6143760" y="5786640"/>
              <a:ext cx="25002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Sub-Solution Lev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4" name="Foliennummernplatzhalter 4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223B5-90D4-4A29-BB35-22740C73FB65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Initializ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set global variabl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inject variables representing global parameters of an algorith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000000"/>
                </a:solidFill>
                <a:latin typeface="Calibri"/>
              </a:rPr>
              <a:t>population size, mutation rate, number of elites, number of generations, …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500" spc="-1" strike="noStrike">
                <a:solidFill>
                  <a:srgbClr val="000000"/>
                </a:solidFill>
                <a:latin typeface="Calibri"/>
              </a:rPr>
              <a:t>VariableInjec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inject PR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500" spc="-1" strike="noStrike">
                <a:solidFill>
                  <a:srgbClr val="000000"/>
                </a:solidFill>
                <a:latin typeface="Calibri"/>
              </a:rPr>
              <a:t>RandomInjec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use special operators to inject variables representing the problem instan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1500" spc="-1" strike="noStrike">
                <a:solidFill>
                  <a:srgbClr val="000000"/>
                </a:solidFill>
                <a:latin typeface="Calibri"/>
              </a:rPr>
              <a:t>TSPInjec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create sub-scop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one sub-scope for each population, individual, etc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SubScopesCreat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initialize populations, individuals, etc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use sub-scopes processors to iterate over all sub-sco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apply special operators to create randomly generated individual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1500" spc="-1" strike="noStrike">
                <a:solidFill>
                  <a:srgbClr val="000000"/>
                </a:solidFill>
                <a:latin typeface="Calibri"/>
              </a:rPr>
              <a:t>RandomPermutationGenera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46EAA-E086-4305-8F1C-B6CC7AFE7328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Evalu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000000"/>
                </a:solidFill>
                <a:latin typeface="Calibri"/>
              </a:rPr>
              <a:t>calculate and inject quality value for each individual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use sub-scopes processors to iterate over all scopes representing an individu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apply problem-specific evaluation operat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9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1900" spc="-1" strike="noStrike">
                <a:solidFill>
                  <a:srgbClr val="000000"/>
                </a:solidFill>
                <a:latin typeface="Calibri"/>
              </a:rPr>
              <a:t>RoundedEuclideanPathTSPEvaluator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500" spc="-1" strike="noStrike">
                <a:solidFill>
                  <a:srgbClr val="000000"/>
                </a:solidFill>
                <a:latin typeface="Calibri"/>
              </a:rPr>
              <a:t>SingleObjectiveEvaluatorBas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base class for all single-objective evaluation operato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evaluates the quality value of an individual depending on the variables in the scope by calling abstract method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Evaluat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adds a new double variable "Quality" to the scop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if a quality value already exists it is overwritte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A066B-E87C-4D28-8A80-5EBA9A82701B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TSP SGA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FB131-B0CD-4F32-ABDD-278001522854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Flussdiagramm: Prozess 4"/>
          <p:cNvSpPr/>
          <p:nvPr/>
        </p:nvSpPr>
        <p:spPr>
          <a:xfrm>
            <a:off x="500040" y="1714680"/>
            <a:ext cx="171468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4" name="Gewinkelte Verbindung 17"/>
          <p:cNvCxnSpPr>
            <a:stCxn id="133" idx="3"/>
          </p:cNvCxnSpPr>
          <p:nvPr/>
        </p:nvCxnSpPr>
        <p:spPr>
          <a:xfrm>
            <a:off x="2214360" y="1891800"/>
            <a:ext cx="21492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5" name="Gewinkelte Verbindung 18"/>
          <p:cNvCxnSpPr>
            <a:stCxn id="133" idx="3"/>
          </p:cNvCxnSpPr>
          <p:nvPr/>
        </p:nvCxnSpPr>
        <p:spPr>
          <a:xfrm>
            <a:off x="2214360" y="1891800"/>
            <a:ext cx="214920" cy="4294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6" name="Gewinkelte Verbindung 21"/>
          <p:cNvCxnSpPr>
            <a:stCxn id="133" idx="3"/>
          </p:cNvCxnSpPr>
          <p:nvPr/>
        </p:nvCxnSpPr>
        <p:spPr>
          <a:xfrm>
            <a:off x="2214360" y="1892160"/>
            <a:ext cx="214920" cy="8582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Gewinkelte Verbindung 24"/>
          <p:cNvCxnSpPr>
            <a:stCxn id="133" idx="3"/>
          </p:cNvCxnSpPr>
          <p:nvPr/>
        </p:nvCxnSpPr>
        <p:spPr>
          <a:xfrm>
            <a:off x="2214360" y="1892160"/>
            <a:ext cx="214920" cy="12866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8" name="Gewinkelte Verbindung 27"/>
          <p:cNvCxnSpPr>
            <a:stCxn id="133" idx="3"/>
          </p:cNvCxnSpPr>
          <p:nvPr/>
        </p:nvCxnSpPr>
        <p:spPr>
          <a:xfrm>
            <a:off x="2214360" y="1892160"/>
            <a:ext cx="214920" cy="214560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9" name="Gewinkelte Verbindung 30"/>
          <p:cNvCxnSpPr>
            <a:stCxn id="133" idx="3"/>
          </p:cNvCxnSpPr>
          <p:nvPr/>
        </p:nvCxnSpPr>
        <p:spPr>
          <a:xfrm>
            <a:off x="2214360" y="1892160"/>
            <a:ext cx="214920" cy="38599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0" name="Gewinkelte Verbindung 33"/>
          <p:cNvCxnSpPr/>
          <p:nvPr/>
        </p:nvCxnSpPr>
        <p:spPr>
          <a:xfrm>
            <a:off x="6072120" y="4465440"/>
            <a:ext cx="215280" cy="85788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1" name="Gewinkelte Verbindung 36"/>
          <p:cNvCxnSpPr/>
          <p:nvPr/>
        </p:nvCxnSpPr>
        <p:spPr>
          <a:xfrm>
            <a:off x="6072120" y="4465800"/>
            <a:ext cx="215280" cy="4291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Gewinkelte Verbindung 39"/>
          <p:cNvCxnSpPr/>
          <p:nvPr/>
        </p:nvCxnSpPr>
        <p:spPr>
          <a:xfrm>
            <a:off x="6072120" y="446580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Gewinkelte Verbindung 42"/>
          <p:cNvCxnSpPr/>
          <p:nvPr/>
        </p:nvCxnSpPr>
        <p:spPr>
          <a:xfrm>
            <a:off x="4143240" y="446580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44" name="Flussdiagramm: Prozess 44"/>
          <p:cNvSpPr/>
          <p:nvPr/>
        </p:nvSpPr>
        <p:spPr>
          <a:xfrm>
            <a:off x="242892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RandomInj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Flussdiagramm: Prozess 45"/>
          <p:cNvSpPr/>
          <p:nvPr/>
        </p:nvSpPr>
        <p:spPr>
          <a:xfrm>
            <a:off x="2428920" y="2143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TSPInj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Flussdiagramm: Prozess 46"/>
          <p:cNvSpPr/>
          <p:nvPr/>
        </p:nvSpPr>
        <p:spPr>
          <a:xfrm>
            <a:off x="242892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TSPRoundedEuclidean</a:t>
            </a:r>
            <a:br>
              <a:rPr sz="1200"/>
            </a:b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DistanceMatrixInj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Flussdiagramm: Prozess 47"/>
          <p:cNvSpPr/>
          <p:nvPr/>
        </p:nvSpPr>
        <p:spPr>
          <a:xfrm>
            <a:off x="2428920" y="3000240"/>
            <a:ext cx="1714320" cy="3574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VariableInj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Flussdiagramm: Prozess 48"/>
          <p:cNvSpPr/>
          <p:nvPr/>
        </p:nvSpPr>
        <p:spPr>
          <a:xfrm>
            <a:off x="2428920" y="38577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ubScopesCre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Flussdiagramm: Prozess 50"/>
          <p:cNvSpPr/>
          <p:nvPr/>
        </p:nvSpPr>
        <p:spPr>
          <a:xfrm>
            <a:off x="2428920" y="42861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UniformSequent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ubScopes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Flussdiagramm: Prozess 51"/>
          <p:cNvSpPr/>
          <p:nvPr/>
        </p:nvSpPr>
        <p:spPr>
          <a:xfrm>
            <a:off x="4357800" y="42861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Flussdiagramm: Prozess 52"/>
          <p:cNvSpPr/>
          <p:nvPr/>
        </p:nvSpPr>
        <p:spPr>
          <a:xfrm>
            <a:off x="6286680" y="42861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RandomPermu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Gener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Flussdiagramm: Prozess 53"/>
          <p:cNvSpPr/>
          <p:nvPr/>
        </p:nvSpPr>
        <p:spPr>
          <a:xfrm>
            <a:off x="6286680" y="471492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DistanceMatrixPathTS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valu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Flussdiagramm: Prozess 54"/>
          <p:cNvSpPr/>
          <p:nvPr/>
        </p:nvSpPr>
        <p:spPr>
          <a:xfrm>
            <a:off x="6286680" y="5143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Coun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Flussdiagramm: Prozess 55"/>
          <p:cNvSpPr/>
          <p:nvPr/>
        </p:nvSpPr>
        <p:spPr>
          <a:xfrm>
            <a:off x="2428920" y="5572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or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5" name="Gewinkelte Verbindung 67"/>
          <p:cNvCxnSpPr>
            <a:stCxn id="133" idx="3"/>
            <a:endCxn id="149" idx="1"/>
          </p:cNvCxnSpPr>
          <p:nvPr/>
        </p:nvCxnSpPr>
        <p:spPr>
          <a:xfrm>
            <a:off x="2214360" y="1891800"/>
            <a:ext cx="214920" cy="257436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56" name="Ellipse 82"/>
          <p:cNvSpPr/>
          <p:nvPr/>
        </p:nvSpPr>
        <p:spPr>
          <a:xfrm>
            <a:off x="6786720" y="1928880"/>
            <a:ext cx="357120" cy="35712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Ellipse 83"/>
          <p:cNvSpPr/>
          <p:nvPr/>
        </p:nvSpPr>
        <p:spPr>
          <a:xfrm>
            <a:off x="6500880" y="1857240"/>
            <a:ext cx="928800" cy="50004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Ellipse 84"/>
          <p:cNvSpPr/>
          <p:nvPr/>
        </p:nvSpPr>
        <p:spPr>
          <a:xfrm>
            <a:off x="6357960" y="1785960"/>
            <a:ext cx="1214280" cy="64296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TSP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Ellipse 85"/>
          <p:cNvSpPr/>
          <p:nvPr/>
        </p:nvSpPr>
        <p:spPr>
          <a:xfrm>
            <a:off x="5857920" y="1357200"/>
            <a:ext cx="2214360" cy="157176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TSP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opulation Siz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Mutation R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li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valuated Solu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0" name="Gruppieren 95"/>
          <p:cNvGrpSpPr/>
          <p:nvPr/>
        </p:nvGrpSpPr>
        <p:grpSpPr>
          <a:xfrm>
            <a:off x="5786280" y="2928960"/>
            <a:ext cx="2357640" cy="785880"/>
            <a:chOff x="5786280" y="2928960"/>
            <a:chExt cx="2357640" cy="785880"/>
          </a:xfrm>
        </p:grpSpPr>
        <p:sp>
          <p:nvSpPr>
            <p:cNvPr id="161" name="Rechteck 87"/>
            <p:cNvSpPr/>
            <p:nvPr/>
          </p:nvSpPr>
          <p:spPr>
            <a:xfrm>
              <a:off x="6786360" y="32860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" name="Ellipse 88"/>
            <p:cNvSpPr/>
            <p:nvPr/>
          </p:nvSpPr>
          <p:spPr>
            <a:xfrm>
              <a:off x="5786280" y="335772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" name="Ellipse 89"/>
            <p:cNvSpPr/>
            <p:nvPr/>
          </p:nvSpPr>
          <p:spPr>
            <a:xfrm>
              <a:off x="7786800" y="335772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" name="Gerade Verbindung 91"/>
            <p:cNvSpPr/>
            <p:nvPr/>
          </p:nvSpPr>
          <p:spPr>
            <a:xfrm flipH="1">
              <a:off x="5964840" y="2928960"/>
              <a:ext cx="1000080" cy="42876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" name="Gerade Verbindung 92"/>
            <p:cNvSpPr/>
            <p:nvPr/>
          </p:nvSpPr>
          <p:spPr>
            <a:xfrm>
              <a:off x="6964920" y="2928960"/>
              <a:ext cx="1000080" cy="42876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6" name="Gruppieren 98"/>
          <p:cNvGrpSpPr/>
          <p:nvPr/>
        </p:nvGrpSpPr>
        <p:grpSpPr>
          <a:xfrm>
            <a:off x="5286240" y="3286080"/>
            <a:ext cx="3357720" cy="500040"/>
            <a:chOff x="5286240" y="3286080"/>
            <a:chExt cx="3357720" cy="500040"/>
          </a:xfrm>
        </p:grpSpPr>
        <p:sp>
          <p:nvSpPr>
            <p:cNvPr id="167" name="Ellipse 96"/>
            <p:cNvSpPr/>
            <p:nvPr/>
          </p:nvSpPr>
          <p:spPr>
            <a:xfrm>
              <a:off x="5286240" y="3286080"/>
              <a:ext cx="1357200" cy="50004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" name="Ellipse 97"/>
            <p:cNvSpPr/>
            <p:nvPr/>
          </p:nvSpPr>
          <p:spPr>
            <a:xfrm>
              <a:off x="7286760" y="3286080"/>
              <a:ext cx="1357200" cy="50004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9" name="Gruppieren 101"/>
          <p:cNvGrpSpPr/>
          <p:nvPr/>
        </p:nvGrpSpPr>
        <p:grpSpPr>
          <a:xfrm>
            <a:off x="5143680" y="3143160"/>
            <a:ext cx="3643200" cy="785880"/>
            <a:chOff x="5143680" y="3143160"/>
            <a:chExt cx="3643200" cy="785880"/>
          </a:xfrm>
        </p:grpSpPr>
        <p:sp>
          <p:nvSpPr>
            <p:cNvPr id="170" name="Ellipse 99"/>
            <p:cNvSpPr/>
            <p:nvPr/>
          </p:nvSpPr>
          <p:spPr>
            <a:xfrm>
              <a:off x="5143680" y="3143160"/>
              <a:ext cx="1643040" cy="78588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Quality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" name="Ellipse 100"/>
            <p:cNvSpPr/>
            <p:nvPr/>
          </p:nvSpPr>
          <p:spPr>
            <a:xfrm>
              <a:off x="7143840" y="3143160"/>
              <a:ext cx="1643040" cy="78588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Quality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2" name="Flussdiagramm: Prozess 102"/>
          <p:cNvSpPr/>
          <p:nvPr/>
        </p:nvSpPr>
        <p:spPr>
          <a:xfrm>
            <a:off x="2428920" y="6000840"/>
            <a:ext cx="1714320" cy="35712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Main Lo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3" name="Gewinkelte Verbindung 103"/>
          <p:cNvCxnSpPr>
            <a:stCxn id="133" idx="3"/>
            <a:endCxn id="172" idx="1"/>
          </p:cNvCxnSpPr>
          <p:nvPr/>
        </p:nvCxnSpPr>
        <p:spPr>
          <a:xfrm>
            <a:off x="2214360" y="1891800"/>
            <a:ext cx="214920" cy="42886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indefinite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500"/>
                            </p:stCondLst>
                            <p:childTnLst>
                              <p:par>
                                <p:cTn id="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indefinite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indefinite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indefinite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indefinite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indefinite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indefinite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indefinite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indefinite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indefinite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indefinite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indefinite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indefinite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6T21:54:07Z</dcterms:created>
  <dc:creator>SW</dc:creator>
  <dc:description/>
  <dc:language>en-US</dc:language>
  <cp:lastModifiedBy>SW</cp:lastModifiedBy>
  <dcterms:modified xsi:type="dcterms:W3CDTF">2008-01-29T00:42:26Z</dcterms:modified>
  <cp:revision>134</cp:revision>
  <dc:subject/>
  <dc:title>HeuristicLab 3.0</dc:title>
</cp:coreProperties>
</file>